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79C8-270F-4F52-8900-44ACD9D299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923-024E-4771-AC75-C26559DE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B0E-5393-42F9-8810-D158649E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D80-F800-4774-904C-81877B21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0D4-C42E-40D9-AFD5-1A2D9674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3BC-2F81-4775-8651-EBC47331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808-0BF2-463B-B7AE-140A6B5F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056-6C80-4CE3-9E82-020596A1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B0D0-837C-478A-99BE-F255C9C9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88C-0D2A-4650-B8B3-9E1C26DA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C2B-E5F9-4AD2-B691-48468C64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5F9-EDFD-4241-9A52-527A7CDB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ED4-BD4F-448F-8309-B5D0EEB8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B30D-CF7C-4438-AB1A-1BA667206D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ick Writ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rpose of writing is to communicate your thoughts and feelings.  This is your vo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D WHAT YOU WR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d what you write, this will help you edit your pap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7" descr="MPj04117770000[1]"/>
          <p:cNvPicPr/>
          <p:nvPr/>
        </p:nvPicPr>
        <p:blipFill>
          <a:blip r:embed="rId1"/>
          <a:stretch/>
        </p:blipFill>
        <p:spPr>
          <a:xfrm>
            <a:off x="1108080" y="1981080"/>
            <a:ext cx="273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Your voice can b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heard through writing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7" descr="MCj03102360000[1]"/>
          <p:cNvPicPr/>
          <p:nvPr/>
        </p:nvPicPr>
        <p:blipFill>
          <a:blip r:embed="rId1"/>
          <a:stretch/>
        </p:blipFill>
        <p:spPr>
          <a:xfrm>
            <a:off x="1143000" y="213372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Pj04088930000[1]"/>
          <p:cNvPicPr/>
          <p:nvPr/>
        </p:nvPicPr>
        <p:blipFill>
          <a:blip r:embed="rId2"/>
          <a:stretch/>
        </p:blipFill>
        <p:spPr>
          <a:xfrm>
            <a:off x="5302080" y="1981080"/>
            <a:ext cx="27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e Your Thou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ou must Organize Your Writing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6" descr="MCj01317850000[1]"/>
          <p:cNvPicPr/>
          <p:nvPr/>
        </p:nvPicPr>
        <p:blipFill>
          <a:blip r:embed="rId1"/>
          <a:stretch/>
        </p:blipFill>
        <p:spPr>
          <a:xfrm>
            <a:off x="4648320" y="2529000"/>
            <a:ext cx="40384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to Organi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dy Paragraph(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6" descr="MPj03993130000[1]"/>
          <p:cNvPicPr/>
          <p:nvPr/>
        </p:nvPicPr>
        <p:blipFill>
          <a:blip r:embed="rId1"/>
          <a:stretch/>
        </p:blipFill>
        <p:spPr>
          <a:xfrm>
            <a:off x="4716360" y="27385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roduc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paragraph should introduce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sentence of the introductory paragraph should start with a general stat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Most high school students are proficient at text messaging, however their writing skills are 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entences following the general statement will be the basis for your body paragraph(s)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dy Paragraph(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ody paragraph(s) is where you elaborate on the subj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9" descr="MPj03900930000[1]"/>
          <p:cNvPicPr/>
          <p:nvPr/>
        </p:nvPicPr>
        <p:blipFill>
          <a:blip r:embed="rId1"/>
          <a:stretch/>
        </p:blipFill>
        <p:spPr>
          <a:xfrm>
            <a:off x="4838760" y="273384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 Paragrap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s “ties” together all that you have writte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MPj04009850000[1]"/>
          <p:cNvPicPr/>
          <p:nvPr/>
        </p:nvPicPr>
        <p:blipFill>
          <a:blip r:embed="rId1"/>
          <a:stretch/>
        </p:blipFill>
        <p:spPr>
          <a:xfrm>
            <a:off x="5415120" y="2471760"/>
            <a:ext cx="2504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lk u 4 mi fr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2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s!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xt messaging is communicating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ever, in English and the workforce this is unacceptabl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MPj04306370000[1]"/>
          <p:cNvPicPr/>
          <p:nvPr/>
        </p:nvPicPr>
        <p:blipFill>
          <a:blip r:embed="rId1"/>
          <a:stretch/>
        </p:blipFill>
        <p:spPr>
          <a:xfrm>
            <a:off x="4660920" y="2324160"/>
            <a:ext cx="402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49:07Z</dcterms:created>
  <dc:creator>pamela.glover</dc:creator>
  <dc:description/>
  <dc:language>en-US</dc:language>
  <cp:lastModifiedBy>RomaK</cp:lastModifiedBy>
  <dcterms:modified xsi:type="dcterms:W3CDTF">2015-09-02T09:46:12Z</dcterms:modified>
  <cp:revision>6</cp:revision>
  <dc:subject/>
  <dc:title>Writing</dc:title>
</cp:coreProperties>
</file>