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7EC1-CCEA-480F-BB7F-420BF6305F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F33-C7E8-47E4-B04F-45BC7252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F64-5479-47AC-ACAB-D5E3314C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510-DE11-458F-A2BA-AFF8AC7D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087-ED7C-4394-B9AF-04CF098A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592A-AA27-4CDB-A723-9A927897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BF1-5257-4270-B4FD-7A10822D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62B-A32F-432A-B1B2-BCCEDCFE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3E1-5764-4FF2-A26C-0EDB3B77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9F1-B373-4351-8B1B-12428545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415-3BE9-4047-8BBE-1F981C2B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F54-8414-4986-918C-0F337AC7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FCE-5864-4C1E-9618-7CE26683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F315-5A5D-4261-B870-C0105DEE94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ick Writ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rpose of writing is to communicate your thoughts and feelings.  This is your vo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 WHAT YOU WR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 what you write, this will help you edit your pap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MPj04117770000[1]"/>
          <p:cNvPicPr/>
          <p:nvPr/>
        </p:nvPicPr>
        <p:blipFill>
          <a:blip r:embed="rId1"/>
          <a:stretch/>
        </p:blipFill>
        <p:spPr>
          <a:xfrm>
            <a:off x="1108080" y="1981080"/>
            <a:ext cx="27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our voice can b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heard through writing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7" descr="MCj03102360000[1]"/>
          <p:cNvPicPr/>
          <p:nvPr/>
        </p:nvPicPr>
        <p:blipFill>
          <a:blip r:embed="rId1"/>
          <a:stretch/>
        </p:blipFill>
        <p:spPr>
          <a:xfrm>
            <a:off x="1143000" y="213372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Pj04088930000[1]"/>
          <p:cNvPicPr/>
          <p:nvPr/>
        </p:nvPicPr>
        <p:blipFill>
          <a:blip r:embed="rId2"/>
          <a:stretch/>
        </p:blipFill>
        <p:spPr>
          <a:xfrm>
            <a:off x="53020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e Your Thou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ou must Organize Your Writing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MCj01317850000[1]"/>
          <p:cNvPicPr/>
          <p:nvPr/>
        </p:nvPicPr>
        <p:blipFill>
          <a:blip r:embed="rId1"/>
          <a:stretch/>
        </p:blipFill>
        <p:spPr>
          <a:xfrm>
            <a:off x="4648320" y="2529000"/>
            <a:ext cx="40384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Organ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dy Paragraph(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6" descr="MPj03993130000[1]"/>
          <p:cNvPicPr/>
          <p:nvPr/>
        </p:nvPicPr>
        <p:blipFill>
          <a:blip r:embed="rId1"/>
          <a:stretch/>
        </p:blipFill>
        <p:spPr>
          <a:xfrm>
            <a:off x="4716360" y="2738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paragraph should introduce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sentence of the introductory paragraph should start with a general stat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Most high school students are proficient at text messaging, however their writing skills are 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ntences following the general statement will be the basis for your body paragraph(s)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dy Paragraph(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dy paragraph(s) is where you elaborate on the subj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9" descr="MPj03900930000[1]"/>
          <p:cNvPicPr/>
          <p:nvPr/>
        </p:nvPicPr>
        <p:blipFill>
          <a:blip r:embed="rId1"/>
          <a:stretch/>
        </p:blipFill>
        <p:spPr>
          <a:xfrm>
            <a:off x="4838760" y="273384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Paragrap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s “ties” together all that you have writte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MPj04009850000[1]"/>
          <p:cNvPicPr/>
          <p:nvPr/>
        </p:nvPicPr>
        <p:blipFill>
          <a:blip r:embed="rId1"/>
          <a:stretch/>
        </p:blipFill>
        <p:spPr>
          <a:xfrm>
            <a:off x="5415120" y="2471760"/>
            <a:ext cx="2504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lk u 4 mi fr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2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s!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xt messaging is communicating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ever, in English and the workforce this is unacceptabl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MPj04306370000[1]"/>
          <p:cNvPicPr/>
          <p:nvPr/>
        </p:nvPicPr>
        <p:blipFill>
          <a:blip r:embed="rId1"/>
          <a:stretch/>
        </p:blipFill>
        <p:spPr>
          <a:xfrm>
            <a:off x="4660920" y="2324160"/>
            <a:ext cx="402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49:07Z</dcterms:created>
  <dc:creator>pamela.glover</dc:creator>
  <dc:description/>
  <dc:language>en-US</dc:language>
  <cp:lastModifiedBy>RomaK</cp:lastModifiedBy>
  <dcterms:modified xsi:type="dcterms:W3CDTF">2015-09-02T09:46:12Z</dcterms:modified>
  <cp:revision>6</cp:revision>
  <dc:subject/>
  <dc:title>Writing</dc:title>
</cp:coreProperties>
</file>