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D583-629D-4164-A2A8-3D4B7477C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: Language Arts/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 1.03 Students will incr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vocabulary through word study and word reference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draws a big cowboy hat on the board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n the top part of the hat teacher writes the word Cowboy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ipatory Set/Pre-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structs students to;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turn to their se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urn to one another and talk about the subject, Cowboys, for 2 minutes with a partne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Use the board as a reference as need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Wheel Packets (6 pa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ed 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 or 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dry erase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erase board 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 Str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gives student sentence str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assigns student a vocabulary wor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to write on the s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s instructed to stand up and read the word and tell what it m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then posts the word onto the word wall with t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for Understanding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walks around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rrects any mistakes 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understanding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sures word wheel is filled out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6647-9C89-4B6B-956C-1D90BE11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5706-4A21-4E07-B480-FF011E59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6A5-8DDC-4505-8E7B-A012DC4E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2A0-FF23-43AE-BB00-4980E953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0342-94AC-471A-9A00-BABCC109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FF5C-4A6D-4301-ACBC-24B9BC33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6477-D8CE-4086-8BF1-5994D0E2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8178-BA9F-4B72-B09F-84F1B260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B8F6-C97B-49F1-B8D5-2658F440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43AE-8615-421A-9A79-0CE332CA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0AF8-1A51-4F1D-8096-4D9306B0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5D6B-450E-4F35-ACB6-55E79571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FD15-9675-490C-AC65-E444238D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8FFC-8BC2-478D-9EE9-078A2059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A50E-96C4-4C02-8DDE-C7C2628F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F00A-604F-43EC-B35A-BA2074AA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BC36-0CA7-4D67-BA47-410964D4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64D-E104-4434-B265-4812EA46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E01-227A-40AA-AAB8-0387C941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C79D-7EA2-4233-B524-24EF7A28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C127-E984-4575-97EA-CC395A29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21E-EB6F-4A0E-B552-EDE37A8D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BA5-30A0-4E4B-8A93-1B7CB431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008-6202-4EAF-8B9B-8DAE58AC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64C-7881-4911-BF0B-4191E7E644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F7D6-88FC-4349-AC21-051C690AE8F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Writing"/>
          <p:cNvPicPr/>
          <p:nvPr/>
        </p:nvPicPr>
        <p:blipFill>
          <a:blip r:embed="rId1"/>
          <a:stretch/>
        </p:blipFill>
        <p:spPr>
          <a:xfrm>
            <a:off x="4471920" y="4400640"/>
            <a:ext cx="4672080" cy="2457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271880" y="770040"/>
            <a:ext cx="68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bject: Language Arts/Vocabula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066680" y="1981080"/>
            <a:ext cx="76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bjective:  1.03 Students will increas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ding and writing vocabulary through word study and word reference materi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3733920" cy="4572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 draws a big cowboy hat on the board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n the top part of the hat teacher writes the wor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wbo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tudents take turns writing two words they know that have to do with cowboy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5" name="Picture 4" descr="Student at Chalkboard 1"/>
          <p:cNvPicPr/>
          <p:nvPr/>
        </p:nvPicPr>
        <p:blipFill>
          <a:blip r:embed="rId1"/>
          <a:stretch/>
        </p:blipFill>
        <p:spPr>
          <a:xfrm>
            <a:off x="4471920" y="0"/>
            <a:ext cx="4672080" cy="88041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722520" y="554364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cipatory Set/Pre-Knowled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Arial"/>
              </a:rPr>
              <a:t>Teacher instructs students to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 Return to their seats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Turn to one another and talk about the subject, Cowboys, for 2 minutes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with a partner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Use the board as a reference as needed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228600" y="30492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8" descr="Tutorial 05"/>
          <p:cNvPicPr/>
          <p:nvPr/>
        </p:nvPicPr>
        <p:blipFill>
          <a:blip r:embed="rId3"/>
          <a:stretch/>
        </p:blipFill>
        <p:spPr>
          <a:xfrm>
            <a:off x="5486400" y="3809880"/>
            <a:ext cx="33526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aterials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ictiona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Word Wheel Packets (6 pag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Colored penci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Pen or penc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Main dry erase boar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mark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Dry erase board eras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Sentence Stri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Verdana"/>
              </a:rPr>
              <a:t>T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Dictionary &amp; Thesaurus 2"/>
          <p:cNvPicPr/>
          <p:nvPr/>
        </p:nvPicPr>
        <p:blipFill>
          <a:blip r:embed="rId1"/>
          <a:stretch/>
        </p:blipFill>
        <p:spPr>
          <a:xfrm>
            <a:off x="4876920" y="1600200"/>
            <a:ext cx="3533760" cy="453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dependent Practi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09680" y="12949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gives student sentence stri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acher assigns student a vocabulary word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to write on the strip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is instructed to stand up and read the word and tell what it mea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udent then posts the word onto the word wall with tap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9" descr="Pencil Cup"/>
          <p:cNvPicPr/>
          <p:nvPr/>
        </p:nvPicPr>
        <p:blipFill>
          <a:blip r:embed="rId1"/>
          <a:stretch/>
        </p:blipFill>
        <p:spPr>
          <a:xfrm>
            <a:off x="0" y="1066680"/>
            <a:ext cx="2109960" cy="1974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Tape"/>
          <p:cNvPicPr/>
          <p:nvPr/>
        </p:nvPicPr>
        <p:blipFill>
          <a:blip r:embed="rId2"/>
          <a:stretch/>
        </p:blipFill>
        <p:spPr>
          <a:xfrm>
            <a:off x="533520" y="5029200"/>
            <a:ext cx="1447560" cy="1324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Giving Presentation"/>
          <p:cNvPicPr/>
          <p:nvPr/>
        </p:nvPicPr>
        <p:blipFill>
          <a:blip r:embed="rId3"/>
          <a:stretch/>
        </p:blipFill>
        <p:spPr>
          <a:xfrm>
            <a:off x="6477120" y="3276720"/>
            <a:ext cx="2666880" cy="3581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5"/>
          <p:cNvSpPr/>
          <p:nvPr/>
        </p:nvSpPr>
        <p:spPr>
          <a:xfrm>
            <a:off x="7133760" y="452772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si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ck for Understanding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Class"/>
          <p:cNvPicPr/>
          <p:nvPr/>
        </p:nvPicPr>
        <p:blipFill>
          <a:blip r:embed="rId1"/>
          <a:stretch/>
        </p:blipFill>
        <p:spPr>
          <a:xfrm>
            <a:off x="2235240" y="1620720"/>
            <a:ext cx="4672080" cy="4488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669960" y="990720"/>
            <a:ext cx="74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er walks around the room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0" y="20890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ecks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udent’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0" y="5181480"/>
            <a:ext cx="83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Corrects any mistakes o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sunderstanding of the less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Ensures word wheel is filled out correct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02:00:42Z</dcterms:created>
  <dc:creator>kathy</dc:creator>
  <dc:description/>
  <dc:language>en-US</dc:language>
  <cp:lastModifiedBy>RomaK</cp:lastModifiedBy>
  <dcterms:modified xsi:type="dcterms:W3CDTF">2015-09-02T09:46:19Z</dcterms:modified>
  <cp:revision>6</cp:revision>
  <dc:subject/>
  <dc:title>-Teacher draws a big cowboy hat on the board.    -On the top part of the hat teacher writes the word Cowboy.   -Students take turns writing two words they know that have to do with cowboys.</dc:title>
</cp:coreProperties>
</file>