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CF50F-BA1F-4CE7-970C-15F45EC88D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ubject: Language Arts/Vocabulary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bjective:  1.03 Students will increase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Reading and writing vocabulary through word study and word reference material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ject: Language Arts/Vocabu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:  1.03 Students will increa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nd writing vocabulary through word study and word reference mater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-Teacher draws a big cowboy hat on the board.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-On the top part of the hat teacher writes the word Cowboy.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-Students take turns writing two words they know that have to do with cowboy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nticipatory Set/Pre-Knowledge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eacher draws a big cowboy hat on the board.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On the top part of the hat teacher writes the word Cowboy.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tudents take turns writing two words they know that have to do with cowbo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cipatory Set/Pre-Knowl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eacher instructs students to;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- Return to their seat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-Turn to one another and talk about the subject, Cowboys, for 2 minutes with a partner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-Use the board as a reference as needed.</a:t>
            </a:r>
            <a:br>
              <a:rPr sz="1200"/>
            </a:b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 instructs students to;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turn to their seat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urn to one another and talk about the subject, Cowboys, for 2 minutes with a partner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Use the board as a reference as needed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aterials: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ictionary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ord Wheel Packets (6 pages)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olored pencil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en or pencil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ain dry erase board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ry erase marker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ry erase board eraser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entence Strip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ape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ore free powerpoints at www.worldofteaching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eria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ct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 Wheel Packets (6 pag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red penc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 or penc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dry erase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y erase ma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y erase board era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 Str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free powerpoints at 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ndependent Practice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eacher gives student sentence strip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eacher assigns student a vocabulary word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udent is to write on the strip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udent is instructed to stand up and read the word and tell what it mean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udent then posts the word onto the word wall with tape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risi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pendent Prac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 gives student sentence str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 assigns student a vocabulary wor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 is to write on the stri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 is instructed to stand up and read the word and tell what it me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 then posts the word onto the word wall with ta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heck for Understanding:</a:t>
            </a:r>
            <a:br>
              <a:rPr sz="1200"/>
            </a:b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eacher walks around the ro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hecks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udent’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ork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-Corrects any mistakes or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isunderstanding of the lesso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-Ensures word wheel is filled out correctly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for Understanding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 walks around the ro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orrects any mistakes 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understanding of the les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nsures word wheel is filled out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B6A6-A1B7-4402-B9F3-D5F55813F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5166-4C43-4E3F-BE3E-9553F91B2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FA22-A99D-4104-9ACB-2BD9D781A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1306-FEF8-43A8-BD9F-96827F865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B59CC-4922-41AB-8F22-B85046F27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44958-2E15-4319-9BC0-5065CD578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22801-F001-43C2-8360-C4252CBF0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3DEE9-B5D0-4A2F-BC47-A138B4355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E1F03-C035-4E94-AD9B-8F5431375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3105B-0078-487A-ACA5-6DE3199A9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7C594-32C7-43C7-9CD6-7B0612B8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057E-0790-4EE8-BDA5-26C5168A2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5886C-31D0-46D5-B278-50F8460D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DED9D-895C-49C4-8EA4-156EB0B2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36C5E-ED62-4AD5-8907-2695A8172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3A2CE-556C-4EA0-972F-F122E40D0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68DBE-90FD-40AE-92BE-1B5949297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4096-8135-4611-944E-2C206BFE6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247A-1D64-43EF-8401-D8820B228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39DF-6454-4554-A867-1B15B0096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E7D9-EA73-4BAA-A4D3-BAC3654BA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B289-5647-43B6-86F6-7CD1622EC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3A54-C900-4D68-9E6B-EC4E3375A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1541-965B-4BF7-8FFC-439009A9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C5412-35C6-4507-B379-A8A0A39D0C7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02004-F3FA-4DE4-B081-58C1BECC61B6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Writing"/>
          <p:cNvPicPr/>
          <p:nvPr/>
        </p:nvPicPr>
        <p:blipFill>
          <a:blip r:embed="rId1"/>
          <a:stretch/>
        </p:blipFill>
        <p:spPr>
          <a:xfrm>
            <a:off x="4471920" y="4400640"/>
            <a:ext cx="4672080" cy="245736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1271880" y="770040"/>
            <a:ext cx="685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ubject: Language Arts/Vocabular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1066680" y="1981080"/>
            <a:ext cx="7678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bjective:  1.03 Students will increase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Reading and writing vocabulary through word study and word reference material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3733920" cy="4572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acher draws a big cowboy hat on the board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On the top part of the hat teacher writes the word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wbo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Students take turns writing two words they know that have to do with cowboys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5" name="Picture 4" descr="Student at Chalkboard 1"/>
          <p:cNvPicPr/>
          <p:nvPr/>
        </p:nvPicPr>
        <p:blipFill>
          <a:blip r:embed="rId1"/>
          <a:stretch/>
        </p:blipFill>
        <p:spPr>
          <a:xfrm>
            <a:off x="4471920" y="0"/>
            <a:ext cx="4672080" cy="880416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8"/>
          <p:cNvSpPr/>
          <p:nvPr/>
        </p:nvSpPr>
        <p:spPr>
          <a:xfrm>
            <a:off x="722520" y="5543640"/>
            <a:ext cx="547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nticipatory Set/Pre-Knowledg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Arial"/>
              </a:rPr>
              <a:t>Teacher instructs students to;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- Return to their seats.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-Turn to one another and talk about the subject, Cowboys, for 2 minutes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with a partner.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-Use the board as a reference as needed.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28" name="Object 5"/>
          <p:cNvGraphicFramePr/>
          <p:nvPr/>
        </p:nvGraphicFramePr>
        <p:xfrm>
          <a:off x="228600" y="304920"/>
          <a:ext cx="403560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04920"/>
                    <a:ext cx="403560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0" name="Picture 8" descr="Tutorial 05"/>
          <p:cNvPicPr/>
          <p:nvPr/>
        </p:nvPicPr>
        <p:blipFill>
          <a:blip r:embed="rId3"/>
          <a:stretch/>
        </p:blipFill>
        <p:spPr>
          <a:xfrm>
            <a:off x="5486400" y="3809880"/>
            <a:ext cx="3352680" cy="28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aterials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Verdana"/>
              </a:rPr>
              <a:t>Dictionar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Verdana"/>
              </a:rPr>
              <a:t>Word Wheel Packets (6 pages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Verdana"/>
              </a:rPr>
              <a:t>Colored pencil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Verdana"/>
              </a:rPr>
              <a:t>Pen or penci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Verdana"/>
              </a:rPr>
              <a:t>Main dry erase boar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Verdana"/>
              </a:rPr>
              <a:t>Dry erase marker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Verdana"/>
              </a:rPr>
              <a:t>Dry erase board eraser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Verdana"/>
              </a:rPr>
              <a:t>Sentence Strip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Verdana"/>
              </a:rPr>
              <a:t>Tap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3" name="Picture 4" descr="Dictionary &amp; Thesaurus 2"/>
          <p:cNvPicPr/>
          <p:nvPr/>
        </p:nvPicPr>
        <p:blipFill>
          <a:blip r:embed="rId1"/>
          <a:stretch/>
        </p:blipFill>
        <p:spPr>
          <a:xfrm>
            <a:off x="4876920" y="1600200"/>
            <a:ext cx="3533760" cy="45306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-11880" y="6541920"/>
            <a:ext cx="427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aeaea"/>
                </a:solidFill>
                <a:latin typeface="Arial"/>
                <a:ea typeface="Arial"/>
              </a:rPr>
              <a:t>More free powerpoints at www.worldofteaching.com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Independent Practic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09680" y="1294920"/>
            <a:ext cx="426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eacher gives student sentence strip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eacher assigns student a vocabulary word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tudent is to write on the strip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tudent is instructed to stand up and read the word and tell what it mean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tudent then posts the word onto the word wall with tape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7" name="Picture 9" descr="Pencil Cup"/>
          <p:cNvPicPr/>
          <p:nvPr/>
        </p:nvPicPr>
        <p:blipFill>
          <a:blip r:embed="rId1"/>
          <a:stretch/>
        </p:blipFill>
        <p:spPr>
          <a:xfrm>
            <a:off x="0" y="1066680"/>
            <a:ext cx="2109960" cy="19749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Tape"/>
          <p:cNvPicPr/>
          <p:nvPr/>
        </p:nvPicPr>
        <p:blipFill>
          <a:blip r:embed="rId2"/>
          <a:stretch/>
        </p:blipFill>
        <p:spPr>
          <a:xfrm>
            <a:off x="533520" y="5029200"/>
            <a:ext cx="1447560" cy="1324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3" descr="Giving Presentation"/>
          <p:cNvPicPr/>
          <p:nvPr/>
        </p:nvPicPr>
        <p:blipFill>
          <a:blip r:embed="rId3"/>
          <a:stretch/>
        </p:blipFill>
        <p:spPr>
          <a:xfrm>
            <a:off x="6477120" y="3276720"/>
            <a:ext cx="2666880" cy="35812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5"/>
          <p:cNvSpPr/>
          <p:nvPr/>
        </p:nvSpPr>
        <p:spPr>
          <a:xfrm>
            <a:off x="7133760" y="4527720"/>
            <a:ext cx="10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risi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heck for Understanding: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2" name="Picture 4" descr="Class"/>
          <p:cNvPicPr/>
          <p:nvPr/>
        </p:nvPicPr>
        <p:blipFill>
          <a:blip r:embed="rId1"/>
          <a:stretch/>
        </p:blipFill>
        <p:spPr>
          <a:xfrm>
            <a:off x="2235240" y="1620720"/>
            <a:ext cx="4672080" cy="44881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6"/>
          <p:cNvSpPr/>
          <p:nvPr/>
        </p:nvSpPr>
        <p:spPr>
          <a:xfrm>
            <a:off x="669960" y="990720"/>
            <a:ext cx="747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eacher walks around the room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0" y="2089080"/>
            <a:ext cx="2514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hecks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tudent’s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ork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0" y="5181480"/>
            <a:ext cx="831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-Corrects any mistakes or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isunderstanding of the lesso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-Ensures word wheel is filled out correctl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8T02:00:42Z</dcterms:created>
  <dc:creator>kathy</dc:creator>
  <dc:description/>
  <dc:language>en-US</dc:language>
  <cp:lastModifiedBy>RomaK</cp:lastModifiedBy>
  <dcterms:modified xsi:type="dcterms:W3CDTF">2015-09-02T09:46:19Z</dcterms:modified>
  <cp:revision>6</cp:revision>
  <dc:subject/>
  <dc:title>-Teacher draws a big cowboy hat on the board.    -On the top part of the hat teacher writes the word Cowboy.   -Students take turns writing two words they know that have to do with cowboys.</dc:title>
</cp:coreProperties>
</file>