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D054-8B95-4AE6-AC84-0F0FC5252B5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Subjec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Links (Below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ct The Auth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Subjec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Links (Below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ct The Auth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History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History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History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History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Law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Law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Mat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Mat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Mat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Mat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Music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Music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Music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Music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Physic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Physic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– Science/Englis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– Science/Englis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– Problem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– Problem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All Subjec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All Subject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– The Teacher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– The Teacher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– The Diploma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– The Diploma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Subjects – Know It All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Subjects – Know It All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Certain Days/Classe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Certain Days/Classe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Certain Days/Classe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Certain Days/Classe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Subjects - The Educated Mind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ol Subjects - The Educated Mind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Englis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Englis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Englis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Englis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Englis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English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History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chool Subjects - History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A7E6-FD9B-474C-94FB-BB9BD98C6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0FD6-FB1D-4BF4-9156-A1E6F78BD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6530-4610-4C1C-94E5-55B06D7F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AF40-D655-4ABC-837E-B532DB958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5684-E4BC-490F-9D10-132AEE92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FEDB-2DD1-4F70-B582-9CDABAB5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113F-6C0A-433F-9C34-17107D68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02CE-6D7D-4043-8810-F1F8C00E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2EAE-2CB1-4867-A134-8C8EA4E7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58B9-49EF-405B-9FDF-D691F2B7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C34D-820B-4D3C-9224-6A5BE90F0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F936-9048-4953-B969-36FD2B61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30AFE-F170-4012-8A5C-B99B216517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en.kranz@gmail.com" TargetMode="External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2.xml"/><Relationship Id="rId3" Type="http://schemas.openxmlformats.org/officeDocument/2006/relationships/slide" Target="slide9.xml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" Target="slide17.xml"/><Relationship Id="rId8" Type="http://schemas.openxmlformats.org/officeDocument/2006/relationships/slide" Target="slide4.xml"/><Relationship Id="rId9" Type="http://schemas.openxmlformats.org/officeDocument/2006/relationships/slide" Target="slide11.xml"/><Relationship Id="rId10" Type="http://schemas.openxmlformats.org/officeDocument/2006/relationships/slide" Target="slide18.xml"/><Relationship Id="rId11" Type="http://schemas.openxmlformats.org/officeDocument/2006/relationships/slide" Target="slide5.xml"/><Relationship Id="rId12" Type="http://schemas.openxmlformats.org/officeDocument/2006/relationships/slide" Target="slide12.xml"/><Relationship Id="rId13" Type="http://schemas.openxmlformats.org/officeDocument/2006/relationships/slide" Target="slide19.xml"/><Relationship Id="rId14" Type="http://schemas.openxmlformats.org/officeDocument/2006/relationships/slide" Target="slide6.xml"/><Relationship Id="rId15" Type="http://schemas.openxmlformats.org/officeDocument/2006/relationships/slide" Target="slide13.xml"/><Relationship Id="rId16" Type="http://schemas.openxmlformats.org/officeDocument/2006/relationships/slide" Target="slide20.xml"/><Relationship Id="rId17" Type="http://schemas.openxmlformats.org/officeDocument/2006/relationships/slide" Target="slide7.xml"/><Relationship Id="rId18" Type="http://schemas.openxmlformats.org/officeDocument/2006/relationships/slide" Target="slide14.xml"/><Relationship Id="rId19" Type="http://schemas.openxmlformats.org/officeDocument/2006/relationships/slide" Target="slide21.xml"/><Relationship Id="rId20" Type="http://schemas.openxmlformats.org/officeDocument/2006/relationships/slide" Target="slide8.xml"/><Relationship Id="rId21" Type="http://schemas.openxmlformats.org/officeDocument/2006/relationships/slide" Target="slide15.xml"/><Relationship Id="rId22" Type="http://schemas.openxmlformats.org/officeDocument/2006/relationships/slide" Target="slide22.xml"/><Relationship Id="rId23" Type="http://schemas.openxmlformats.org/officeDocument/2006/relationships/slide" Target="slide1.xml"/><Relationship Id="rId24" Type="http://schemas.openxmlformats.org/officeDocument/2006/relationships/hyperlink" Target="mailto:ken.kranz@gmail.com" TargetMode="External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12880" y="228240"/>
            <a:ext cx="8547120" cy="15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</a:t>
            </a:r>
            <a:br>
              <a:rPr sz="6000"/>
            </a:br>
            <a:r>
              <a:rPr b="0" lang="en-US" sz="3100" spc="-1" strike="noStrike" u="sng">
                <a:solidFill>
                  <a:srgbClr val="ffffb7"/>
                </a:solidFill>
                <a:uFillTx/>
                <a:latin typeface="Arial Black"/>
              </a:rPr>
              <a:t>Click On Links (Below):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3938760" y="6993000"/>
            <a:ext cx="231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Contact The Auth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041480" y="2133720"/>
          <a:ext cx="7848360" cy="4114800"/>
        </p:xfrm>
        <a:graphic>
          <a:graphicData uri="http://schemas.openxmlformats.org/drawingml/2006/table">
            <a:tbl>
              <a:tblPr/>
              <a:tblGrid>
                <a:gridCol w="3025800"/>
                <a:gridCol w="2361960"/>
                <a:gridCol w="24606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54">
            <a:hlinkClick r:id="" action="ppaction://hlinkshowjump?jump=endshow"/>
          </p:cNvPr>
          <p:cNvSpPr/>
          <p:nvPr/>
        </p:nvSpPr>
        <p:spPr>
          <a:xfrm>
            <a:off x="8737560" y="6934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History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203040" y="1268280"/>
            <a:ext cx="9753840" cy="407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History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Law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Math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Rectangle 193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Math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Music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Rectangle 193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Music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203040" y="12952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4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Physics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– Science/English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– Problems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52240" y="321840"/>
            <a:ext cx="922788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All Subjects</a:t>
            </a:r>
            <a:br>
              <a:rPr sz="27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203040" y="1268280"/>
            <a:ext cx="9677520" cy="407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7670880" y="6400800"/>
          <a:ext cx="2133360" cy="941400"/>
        </p:xfrm>
        <a:graphic>
          <a:graphicData uri="http://schemas.openxmlformats.org/drawingml/2006/table">
            <a:tbl>
              <a:tblPr/>
              <a:tblGrid>
                <a:gridCol w="2133360"/>
              </a:tblGrid>
              <a:tr h="42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8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– The Teacher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Rectangle 193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– The Diplomat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3945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99ff66"/>
                          </a:solidFill>
                          <a:latin typeface="Arial Black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968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99ff66"/>
                          </a:solidFill>
                          <a:latin typeface="Arial Black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– Know It All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52240" y="321840"/>
            <a:ext cx="922788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Certain Days/Classes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203040" y="1236600"/>
            <a:ext cx="9753840" cy="410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52240" y="321840"/>
            <a:ext cx="922788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Certain Days/Classes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203040" y="1301760"/>
            <a:ext cx="9753840" cy="404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240" y="321840"/>
            <a:ext cx="922788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The Educated Mind</a:t>
            </a: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203040" y="1268280"/>
            <a:ext cx="9753840" cy="407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52240" y="321840"/>
            <a:ext cx="922788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English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English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Rectangle 192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English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203040" y="1270080"/>
            <a:ext cx="9753840" cy="407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279360" y="5410080"/>
          <a:ext cx="6095880" cy="20005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1840"/>
              </a:tblGrid>
              <a:tr h="3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to Navigat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All Subjec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Physic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ertain Days/Class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Histo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Science/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The Educated Mi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La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Proble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The Teach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Ma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The Diplom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Engli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Mus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The Know It Al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8356680" y="6400800"/>
          <a:ext cx="1557360" cy="1049400"/>
        </p:xfrm>
        <a:graphic>
          <a:graphicData uri="http://schemas.openxmlformats.org/drawingml/2006/table">
            <a:tbl>
              <a:tblPr/>
              <a:tblGrid>
                <a:gridCol w="155736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3" action="ppaction://hlinksldjump"/>
                        </a:rPr>
                        <a:t>Return Ho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132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 u="sng">
                          <a:solidFill>
                            <a:srgbClr val="ccccff"/>
                          </a:solidFill>
                          <a:uFillTx/>
                          <a:latin typeface="Arial Black"/>
                          <a:hlinkClick r:id="rId24"/>
                        </a:rPr>
                        <a:t>Contact The Auth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Clo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4" name="Rectangle 193"/>
          <p:cNvSpPr/>
          <p:nvPr/>
        </p:nvSpPr>
        <p:spPr>
          <a:xfrm>
            <a:off x="552600" y="322200"/>
            <a:ext cx="92278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b7"/>
                </a:solidFill>
                <a:uFillTx/>
                <a:latin typeface="Arial Black"/>
              </a:rPr>
              <a:t>School Subjects - History</a:t>
            </a: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Ken Kranz</dc:creator>
  <dc:description/>
  <dc:language>en-US</dc:language>
  <cp:lastModifiedBy>RomaK</cp:lastModifiedBy>
  <dcterms:modified xsi:type="dcterms:W3CDTF">2015-09-02T09:47:14Z</dcterms:modified>
  <cp:revision>33</cp:revision>
  <dc:subject/>
  <dc:title>PowerPoint Presentation</dc:title>
</cp:coreProperties>
</file>