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28F0-C771-442D-8F4D-B802ED517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979-9B4E-4354-B915-40C32932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65E-6468-4996-AC89-E074C59B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54A-3FBE-4BD0-AAB4-2337DC5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6C-65AB-4B37-A4EA-541C7A8C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F71-488F-4128-ACB1-CC328FD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685-7ABA-4D72-B6EB-80B432D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AFE-EB16-4921-BC56-0F462DE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4E4-F815-4B40-B688-1BA87B29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FB5-83F9-41C7-9679-143E5634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BF0-502A-4079-8156-CD2BA38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981-7E3C-4A05-9631-2E54468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832-5D0A-4AF7-9B10-BE11B11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ECD8-0123-4E7E-BCBD-8C311867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n.kranz@gmail.com" TargetMode="Externa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</a:t>
            </a:r>
            <a:br>
              <a:rPr sz="6000"/>
            </a:br>
            <a:r>
              <a:rPr b="0" lang="en-US" sz="3100" spc="-1" strike="noStrike" u="sng">
                <a:solidFill>
                  <a:srgbClr val="ffffb7"/>
                </a:solidFill>
                <a:uFillTx/>
                <a:latin typeface="Arial Black"/>
              </a:rPr>
              <a:t>Click On Links (Below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38760" y="6993000"/>
            <a:ext cx="231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ntac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1480" y="2133720"/>
          <a:ext cx="7848360" cy="4114800"/>
        </p:xfrm>
        <a:graphic>
          <a:graphicData uri="http://schemas.openxmlformats.org/drawingml/2006/table">
            <a:tbl>
              <a:tblPr/>
              <a:tblGrid>
                <a:gridCol w="3025800"/>
                <a:gridCol w="2361960"/>
                <a:gridCol w="2460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54">
            <a:hlinkClick r:id="" action="ppaction://hlinkshowjump?jump=endshow"/>
          </p:cNvPr>
          <p:cNvSpPr/>
          <p:nvPr/>
        </p:nvSpPr>
        <p:spPr>
          <a:xfrm>
            <a:off x="8737560" y="6934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Law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Physic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Science/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Problem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All Subject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67752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70880" y="6400800"/>
          <a:ext cx="2133360" cy="9414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Teacher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Diplomat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Know It All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3040" y="1236600"/>
            <a:ext cx="9753840" cy="410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3040" y="1301760"/>
            <a:ext cx="9753840" cy="40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The Educated Mind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Ken Kranz</dc:creator>
  <dc:description/>
  <dc:language>en-US</dc:language>
  <cp:lastModifiedBy>RomaK</cp:lastModifiedBy>
  <dcterms:modified xsi:type="dcterms:W3CDTF">2015-09-02T09:47:14Z</dcterms:modified>
  <cp:revision>33</cp:revision>
  <dc:subject/>
  <dc:title>PowerPoint Presentation</dc:title>
</cp:coreProperties>
</file>