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C814-F915-4D67-8017-6B9C14F1750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OF MAIN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AK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MS OF MAIN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in verb that does not need a ‘t’ , ‘d’, ‘ed’ to give its past and past participle forms is called as a strong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GA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OO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ROK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main verb that does not need a ‘t’ , ‘d’, ‘ed’ to give its past and past participle forms is called as a strong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xampl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IV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GAV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IV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AKE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TOOK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A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EAK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BROKE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O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a main verb that needs a ‘t’ or ‘d’ to give its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ast participle forms is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in verb that loses an ‘e’ from its usual form to give the past and past participle forms is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read - read -  read , bleed – bled- b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verb that does not change its usual form in all the three forms is also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cut, set, 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A main verb that needs an ‘ed’ to form its past and past participle form is called as a weak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walk-walked-walked, render-rendered-rend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weak ver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a main verb that needs a ‘t’ or ‘d’ to give its p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d past participle forms is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main verb that loses an ‘e’ from its usual form to give the past and past participle forms is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read - read -  read , bleed – bled- bl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. A verb that does not change its usual form in all the three forms is also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cut, set, 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. A main verb that needs an ‘ed’ to form its past and past participle form is called as a weak verb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walk-walked-walked, render-rendered-rende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is a weak verb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9F45-8F91-4F4E-9DE6-C1E78624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BC3-4F8A-4366-B411-1A0985DC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E5CE-3B7C-4B13-A3A5-E3C02076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9656-4900-4CC3-A5B3-968F72CE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D4C9-B1C2-4802-BCAD-184AD29C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41A4-5896-4F47-89AF-2ABC0DCC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8A72-50F3-434F-A40A-7F3733AB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D395-B0E6-468E-9A5F-F82E9D39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E783-5FEC-4CE5-87D3-E77BA939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750F-37C3-476C-B568-B1D40955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469A-04D3-4FC3-9598-C8256011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8430-4CE6-43D7-8885-995E2FD3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97C1-2E39-44E3-92CE-BA997047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5680-ED30-4102-B595-12D171EA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26D8-42F8-4343-92C2-59D31210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5ABF-C242-4400-93B8-FC66A96E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FD95-2B6D-43D6-B581-8629752A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308C-D77E-4A97-81DB-EAE2D0F5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397-8A84-4343-8542-9B3150E0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7106-8673-4C0D-BB5C-C06ECD8B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8F01-FF5D-4A56-8354-A5028BD4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5E0F-14E3-459B-91A8-74CC09B2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D671-2A5C-46F3-9C7F-083B3244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B8D0-14E8-4EED-963A-CA549C4E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9564-CCB7-4F52-860D-1D9EACEFEE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61AC-C7EF-45F5-84EC-697A542F81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85800" y="152280"/>
          <a:ext cx="5181480" cy="6675480"/>
        </p:xfrm>
        <a:graphic>
          <a:graphicData uri="http://schemas.openxmlformats.org/drawingml/2006/table">
            <a:tbl>
              <a:tblPr/>
              <a:tblGrid>
                <a:gridCol w="1612800"/>
                <a:gridCol w="1494000"/>
                <a:gridCol w="2074680"/>
              </a:tblGrid>
              <a:tr h="36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A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AST PARTICIP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IV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AV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IV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A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OO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A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EA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O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O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A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OO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A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AK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O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O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U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EE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pSp>
        <p:nvGrpSpPr>
          <p:cNvPr id="96" name="Group 92"/>
          <p:cNvGrpSpPr/>
          <p:nvPr/>
        </p:nvGrpSpPr>
        <p:grpSpPr>
          <a:xfrm>
            <a:off x="6019920" y="2133720"/>
            <a:ext cx="761760" cy="4266000"/>
            <a:chOff x="6019920" y="2133720"/>
            <a:chExt cx="761760" cy="4266000"/>
          </a:xfrm>
        </p:grpSpPr>
        <p:sp>
          <p:nvSpPr>
            <p:cNvPr id="97" name="Line 93"/>
            <p:cNvSpPr/>
            <p:nvPr/>
          </p:nvSpPr>
          <p:spPr>
            <a:xfrm>
              <a:off x="6019920" y="2133720"/>
              <a:ext cx="49284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Line 94"/>
            <p:cNvSpPr/>
            <p:nvPr/>
          </p:nvSpPr>
          <p:spPr>
            <a:xfrm>
              <a:off x="6019920" y="6399720"/>
              <a:ext cx="49284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Line 95"/>
            <p:cNvSpPr/>
            <p:nvPr/>
          </p:nvSpPr>
          <p:spPr>
            <a:xfrm>
              <a:off x="6512760" y="2133720"/>
              <a:ext cx="0" cy="426600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Line 96"/>
            <p:cNvSpPr/>
            <p:nvPr/>
          </p:nvSpPr>
          <p:spPr>
            <a:xfrm>
              <a:off x="6512760" y="4266000"/>
              <a:ext cx="26892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1" name="Text Box 97"/>
          <p:cNvSpPr/>
          <p:nvPr/>
        </p:nvSpPr>
        <p:spPr>
          <a:xfrm>
            <a:off x="7086600" y="4038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Arial"/>
              </a:rPr>
              <a:t>WEAK VER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" name="Group 98"/>
          <p:cNvGrpSpPr/>
          <p:nvPr/>
        </p:nvGrpSpPr>
        <p:grpSpPr>
          <a:xfrm>
            <a:off x="6019920" y="609480"/>
            <a:ext cx="685440" cy="1219320"/>
            <a:chOff x="6019920" y="609480"/>
            <a:chExt cx="685440" cy="1219320"/>
          </a:xfrm>
        </p:grpSpPr>
        <p:sp>
          <p:nvSpPr>
            <p:cNvPr id="103" name="Line 99"/>
            <p:cNvSpPr/>
            <p:nvPr/>
          </p:nvSpPr>
          <p:spPr>
            <a:xfrm>
              <a:off x="6019920" y="609480"/>
              <a:ext cx="4435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Line 100"/>
            <p:cNvSpPr/>
            <p:nvPr/>
          </p:nvSpPr>
          <p:spPr>
            <a:xfrm>
              <a:off x="6019920" y="1828800"/>
              <a:ext cx="4435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Line 101"/>
            <p:cNvSpPr/>
            <p:nvPr/>
          </p:nvSpPr>
          <p:spPr>
            <a:xfrm>
              <a:off x="6463440" y="609480"/>
              <a:ext cx="0" cy="121932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Line 102"/>
            <p:cNvSpPr/>
            <p:nvPr/>
          </p:nvSpPr>
          <p:spPr>
            <a:xfrm>
              <a:off x="6463440" y="1197360"/>
              <a:ext cx="2419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7" name="Text Box 103"/>
          <p:cNvSpPr/>
          <p:nvPr/>
        </p:nvSpPr>
        <p:spPr>
          <a:xfrm>
            <a:off x="6705720" y="990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STRONG VER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104"/>
          <p:cNvSpPr/>
          <p:nvPr/>
        </p:nvSpPr>
        <p:spPr>
          <a:xfrm>
            <a:off x="6705720" y="2514600"/>
            <a:ext cx="23619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6e3c"/>
                </a:solidFill>
                <a:latin typeface="Georgia"/>
              </a:rPr>
              <a:t>FORMS OF MAIN</a:t>
            </a:r>
            <a:r>
              <a:rPr b="1" lang="en-US" sz="2400" spc="-1" strike="noStrike">
                <a:solidFill>
                  <a:srgbClr val="edc5b1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d26e3c"/>
                </a:solidFill>
                <a:latin typeface="Georgia"/>
              </a:rPr>
              <a:t>VER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9" name="Group 105"/>
          <p:cNvGrpSpPr/>
          <p:nvPr/>
        </p:nvGrpSpPr>
        <p:grpSpPr>
          <a:xfrm>
            <a:off x="104760" y="647280"/>
            <a:ext cx="495000" cy="5181840"/>
            <a:chOff x="104760" y="647280"/>
            <a:chExt cx="495000" cy="5181840"/>
          </a:xfrm>
        </p:grpSpPr>
        <p:sp>
          <p:nvSpPr>
            <p:cNvPr id="110" name="Text Box 106"/>
            <p:cNvSpPr/>
            <p:nvPr/>
          </p:nvSpPr>
          <p:spPr>
            <a:xfrm>
              <a:off x="152280" y="762120"/>
              <a:ext cx="381240" cy="49528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I     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G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V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S</a:t>
              </a: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1" name="Group 107"/>
            <p:cNvGrpSpPr/>
            <p:nvPr/>
          </p:nvGrpSpPr>
          <p:grpSpPr>
            <a:xfrm>
              <a:off x="104760" y="647280"/>
              <a:ext cx="495000" cy="5181840"/>
              <a:chOff x="104760" y="647280"/>
              <a:chExt cx="495000" cy="5181840"/>
            </a:xfrm>
          </p:grpSpPr>
          <p:sp>
            <p:nvSpPr>
              <p:cNvPr id="112" name="Line 108"/>
              <p:cNvSpPr/>
              <p:nvPr/>
            </p:nvSpPr>
            <p:spPr>
              <a:xfrm flipH="1">
                <a:off x="106200" y="5829120"/>
                <a:ext cx="493560" cy="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Line 109"/>
              <p:cNvSpPr/>
              <p:nvPr/>
            </p:nvSpPr>
            <p:spPr>
              <a:xfrm flipH="1">
                <a:off x="104760" y="647640"/>
                <a:ext cx="493920" cy="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Line 110"/>
              <p:cNvSpPr/>
              <p:nvPr/>
            </p:nvSpPr>
            <p:spPr>
              <a:xfrm flipV="1">
                <a:off x="106560" y="647280"/>
                <a:ext cx="0" cy="518148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2280" y="2057400"/>
            <a:ext cx="8839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daff"/>
                </a:solidFill>
                <a:latin typeface="Arial"/>
              </a:rPr>
              <a:t>STRONG VE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3daff"/>
                </a:solidFill>
                <a:latin typeface="Arial"/>
              </a:rPr>
              <a:t>a main verb that does not need a ‘t’ , ‘d’, ‘ed’ to give its past and past participle forms is called as a strong ve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828800" y="3962520"/>
            <a:ext cx="5486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GA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TOO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A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BROK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974880"/>
            <a:ext cx="9144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lly a main verb that needs a ‘t’ or ‘d’ to give its pa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past participle forms is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e9f4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f4d8"/>
                </a:solidFill>
                <a:latin typeface="Arial"/>
              </a:rPr>
              <a:t>A main verb that loses an ‘e’ from its usual form to give the past and past participle forms is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f4d8"/>
                </a:solidFill>
                <a:latin typeface="Arial"/>
              </a:rPr>
              <a:t>e.g. read - read -  read , bleed – bled- bl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daff"/>
                </a:solidFill>
                <a:latin typeface="Arial"/>
              </a:rPr>
              <a:t>3. A verb that does not change its usual form in all the three forms is also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daff"/>
                </a:solidFill>
                <a:latin typeface="Arial"/>
              </a:rPr>
              <a:t>e.g. cut, set, pu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4. A main verb that needs an ‘ed’ to form its past and past participle form is called as a weak ver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.g. walk-walked-walked, render-rendered-rend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981080" y="228600"/>
            <a:ext cx="4953240" cy="64260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What is a weak verb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3:43:03Z</dcterms:created>
  <dc:creator>CONTINENTAL ACADEMY</dc:creator>
  <dc:description/>
  <dc:language>en-US</dc:language>
  <cp:lastModifiedBy>RomaK</cp:lastModifiedBy>
  <dcterms:modified xsi:type="dcterms:W3CDTF">2015-09-02T09:48:17Z</dcterms:modified>
  <cp:revision>4</cp:revision>
  <dc:subject/>
  <dc:title>Slide 1</dc:title>
</cp:coreProperties>
</file>