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7500-09DD-4211-A301-8C77BB9AA2F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D7A-8E34-4675-85F6-0505CBD1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FDB-C50D-4786-A3AF-8CE41E05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558-F309-4A37-AAE4-CBD26C45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849-305C-4EFC-9152-6C88C530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3AD6-6302-4C07-BF24-6F9734BB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129B-D80B-4186-B8DC-70B01CA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DB29-599A-46A3-AE75-6881FAFB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A7F2-7681-4044-83E1-A6C833FD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D958-6B45-4F3B-A2DA-8874F250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719B-82F2-4D1C-835B-D321E1C5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6EA-86CD-49DE-9FAB-879EF045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26B-A029-4898-8962-300EF3D4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0EB8-88CF-4106-90A6-99143E6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C003-E21C-45C6-B4D1-2C50FF9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49E1-AFEC-485E-A0B5-2F776238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FEA4-DF75-49C7-ABDB-C95C63EE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34AF-4ECB-4299-8308-BB543EDB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4EA-2166-4316-AFB5-FCA8063F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686-7740-43F6-AF92-E0D0BA14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B27-EAFB-48F1-90DA-72FDAA1D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A3B-5429-467B-90FF-FA508F1D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3E3-CD8B-4560-924C-EE458689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9B0-192B-410F-9799-2020F85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AB7-E242-4131-B8B5-4203EBB9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7833-ECCC-4B1B-BA84-BAD28BE14C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8FB5-289B-4207-BFE6-49DA4E3273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1660680" y="3581280"/>
            <a:ext cx="576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dividualized Education Plan in relationship 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013360" y="495288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amended by Congress in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.L. 108-446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360" y="50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451640" y="142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9960" y="96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Picture 17" descr="On Crutches"/>
          <p:cNvPicPr/>
          <p:nvPr/>
        </p:nvPicPr>
        <p:blipFill>
          <a:blip r:embed="rId1"/>
          <a:stretch/>
        </p:blipFill>
        <p:spPr>
          <a:xfrm>
            <a:off x="3886200" y="4724280"/>
            <a:ext cx="1039680" cy="18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760428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20" descr="Wheelchair Access"/>
          <p:cNvPicPr/>
          <p:nvPr/>
        </p:nvPicPr>
        <p:blipFill>
          <a:blip r:embed="rId2"/>
          <a:stretch/>
        </p:blipFill>
        <p:spPr>
          <a:xfrm>
            <a:off x="3733920" y="1676520"/>
            <a:ext cx="1746000" cy="1825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>
            <a:off x="2660760" y="15228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3962520"/>
            <a:ext cx="121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-135000" y="50785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27" descr="ABC Books"/>
          <p:cNvPicPr/>
          <p:nvPr/>
        </p:nvPicPr>
        <p:blipFill>
          <a:blip r:embed="rId3"/>
          <a:stretch/>
        </p:blipFill>
        <p:spPr>
          <a:xfrm>
            <a:off x="228600" y="228600"/>
            <a:ext cx="232884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Notes Background 2"/>
          <p:cNvPicPr/>
          <p:nvPr/>
        </p:nvPicPr>
        <p:blipFill>
          <a:blip r:embed="rId4"/>
          <a:stretch/>
        </p:blipFill>
        <p:spPr>
          <a:xfrm>
            <a:off x="6553080" y="30492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Reviewing and Revising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4" descr="Boys Studying"/>
          <p:cNvPicPr/>
          <p:nvPr/>
        </p:nvPicPr>
        <p:blipFill>
          <a:blip r:embed="rId1"/>
          <a:stretch/>
        </p:blipFill>
        <p:spPr>
          <a:xfrm>
            <a:off x="5353200" y="2514600"/>
            <a:ext cx="3333600" cy="338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Reviewing and Revising IEP Cont.</a:t>
            </a:r>
            <a:br>
              <a:rPr sz="4000"/>
            </a:b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Amending the IEP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The parent and schoo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gree to ame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r modify the IEP, they may revise the IEP by agreement without convening an IEP meeting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4" descr="Boy Reading"/>
          <p:cNvPicPr/>
          <p:nvPr/>
        </p:nvPicPr>
        <p:blipFill>
          <a:blip r:embed="rId1"/>
          <a:stretch/>
        </p:blipFill>
        <p:spPr>
          <a:xfrm>
            <a:off x="1219320" y="4038480"/>
            <a:ext cx="144756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1295280"/>
            <a:ext cx="161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1600" y="1649520"/>
            <a:ext cx="787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6" descr="Books - Law 1"/>
          <p:cNvPicPr/>
          <p:nvPr/>
        </p:nvPicPr>
        <p:blipFill>
          <a:blip r:embed="rId1"/>
          <a:stretch/>
        </p:blipFill>
        <p:spPr>
          <a:xfrm>
            <a:off x="7010280" y="4950000"/>
            <a:ext cx="2133720" cy="190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IEP Amended 2004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pecial Education law mandated chan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11" descr="100_0366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3762360" y="62215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6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784760" y="5562720"/>
            <a:ext cx="322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8" descr="Accounting 1"/>
          <p:cNvPicPr/>
          <p:nvPr/>
        </p:nvPicPr>
        <p:blipFill>
          <a:blip r:embed="rId1"/>
          <a:stretch/>
        </p:blipFill>
        <p:spPr>
          <a:xfrm>
            <a:off x="4648320" y="2233440"/>
            <a:ext cx="4038480" cy="322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shall be provided on an individualized bas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4" descr="At the Chalkboard 1"/>
          <p:cNvPicPr/>
          <p:nvPr/>
        </p:nvPicPr>
        <p:blipFill>
          <a:blip r:embed="rId1"/>
          <a:stretch/>
        </p:blipFill>
        <p:spPr>
          <a:xfrm>
            <a:off x="4648320" y="2252520"/>
            <a:ext cx="4038480" cy="319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5486400" y="25639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15120" y="62974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Drawing Straight Edge"/>
          <p:cNvPicPr/>
          <p:nvPr/>
        </p:nvPicPr>
        <p:blipFill>
          <a:blip r:embed="rId1"/>
          <a:stretch/>
        </p:blipFill>
        <p:spPr>
          <a:xfrm>
            <a:off x="6324480" y="1066680"/>
            <a:ext cx="2667240" cy="386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029200" y="6450120"/>
            <a:ext cx="51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Garamond"/>
              </a:rPr>
              <a:t>Considerations in Developing the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4" descr="Boy at Computer"/>
          <p:cNvPicPr/>
          <p:nvPr/>
        </p:nvPicPr>
        <p:blipFill>
          <a:blip r:embed="rId1"/>
          <a:stretch/>
        </p:blipFill>
        <p:spPr>
          <a:xfrm>
            <a:off x="4648320" y="2544840"/>
            <a:ext cx="4038480" cy="2606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876920" y="6248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Garamond"/>
              </a:rPr>
              <a:t>IEP in the Classroo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4" descr="100_0361"/>
          <p:cNvPicPr/>
          <p:nvPr/>
        </p:nvPicPr>
        <p:blipFill>
          <a:blip r:embed="rId1"/>
          <a:stretch/>
        </p:blipFill>
        <p:spPr>
          <a:xfrm>
            <a:off x="457200" y="15238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3383640" y="1459080"/>
            <a:ext cx="61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o include accommoda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65040" y="3962520"/>
            <a:ext cx="8550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The law Section 1414(e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cessary to hav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Girl Studying 4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62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1:57:05Z</dcterms:created>
  <dc:creator>kathy</dc:creator>
  <dc:description/>
  <dc:language>en-US</dc:language>
  <cp:lastModifiedBy>RomaK</cp:lastModifiedBy>
  <dcterms:modified xsi:type="dcterms:W3CDTF">2015-09-02T09:48:28Z</dcterms:modified>
  <cp:revision>28</cp:revision>
  <dc:subject/>
  <dc:title>IEP individualized Educational Plan</dc:title>
</cp:coreProperties>
</file>