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3B862-61FE-4DAE-804D-6D52B66748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s for Word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arts of Spee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s for Word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arts of Spee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example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one came to save him, so he went off to explo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ice smiled, and then turned to her rabb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example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one came to save him, so he went off to explo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ice smiled, and then turned to her rabb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jective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ds that descri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djective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ords that descri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jecti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ds that descri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used to describe nou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d to sa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something feels, tastes, looks, or sou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jecti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ds that descri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used to describe nou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d to sa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something feels, tastes, looks, or sou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ngs that we describ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k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ho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ngs that we describ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k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ho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ds to Descri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n – Any Col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rm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u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ve – Any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ds to Descri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n – Any Col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rm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u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ve – Any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tting it all toge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llow Chick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ple swe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oudy Sk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inky Cigaret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tting it all toge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llow Chick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ple swe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oudy Sk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inky Cigaret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more than one adjec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some cases, 2 adjectives may be used to descri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ar was boxy, and green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 thin, gray paper airplane was indestructible.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more than one adjec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some cases, 2 adjectives may be used to descri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ar was boxy, and green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 thin, gray paper airplane was indestructible.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jecti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ck some adjectives fo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jecti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ck some adjectives fo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u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nouns and Proper Nou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u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nouns and Proper Nou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noun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the place of nou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ve time and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nouns are words such as it, he , she, they, 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*They refer to the previous no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noun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the place of nou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ve time and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nouns are words such as it, he , she, they, 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*They refer to the previous no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s for Words: Parts of Spee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matter what, words must be put toge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makes a sent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hing is possible without sent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s for Words: Parts of Spee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matter what, words must be put toge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makes a sent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hing is possible without sent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s of Pronou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e, won a new car, and he jumped with joy.”                            Jo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s of Pronou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e, won a new car, and he jumped with joy.”                            Jo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per Noun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thing's OW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lude names, nicknames, pets names, places names, city names, 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per Nouns also def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proper nouns start with Capit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e vs. Person              Jamestown vs. the 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roper Nouns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omething's OW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clude names, nicknames, pets names, places names, city names, 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roper Nouns also def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ll proper nouns start with Capit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oe vs. Person              Jamestown vs. the 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tic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, An,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rtic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, An,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tic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ways go before a no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tic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ways go before a no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ule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always presents a conson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ways presents a vow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lways presents a singul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ule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always presents a conson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ways presents a vow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lways presents a singul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wo Parts of a Sent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tting Things Toge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wo Parts of a Sent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tting Things Toge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Parts Of a Sent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tences are the building blocks of our 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2 Main Parts a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j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di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Parts Of a Sent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tences are the building blocks of our 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2 Main Parts a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j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di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b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e Noun of the sentence, The sentence is also based upon the No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, “The beautiful ballerina leaped into the air like a deer.” Ballerina is the sub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, “The Seminole Indians traveled over the water in the dugout canals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quickest way to find the subject is to read the sentence carefu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bject can be singular or plural and 1 or 2 wo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b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e Noun of the sentence, The sentence is also based upon the No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, “The beautiful ballerina leaped into the air like a deer.” Ballerina is the sub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, “The Seminole Indians traveled over the water in the dugout canals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quickest way to find the subject is to read the sentence carefu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bject can be singular or plural and 1 or 2 wo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edic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edicate names the verb in the sentence that tells what is happe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, “The beautiful ballerina leaped into the air like a deer.” leaped is the predic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, “ The Seminole Indians traveled  over water in the dugout canals.” the predicate is traveled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asiest way to find the predicate is to find what the subject is do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edic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edicate names the verb in the sentence that tells what is happe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, “The beautiful ballerina leaped into the air like a deer.” leaped is the predic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, “ The Seminole Indians traveled  over water in the dugout canals.” the predicate is traveled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asiest way to find the predicate is to find what the subject is do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ping Ver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elping Ver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tence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sentences must start with a capital let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sentences must end with a punct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entence is not a part of speech; it just the thing that contains the Part of spee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tence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sentences must start with a capital let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sentences must end with a punct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entence is not a part of speech; it just the thing that contains the Part of spee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ping Ver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elping Verb shows us weather the verb is past, present, or future.  These are all considered “tense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ping Ver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elping Verb shows us weather the verb is past, present, or future.  These are all considered “tense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“tense”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“tense”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tting Words to Ag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ngular and Plur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tting Words to Ag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ngular and Plur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tting Words to Ag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plural subjects end with the letter “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bs in sentences with he  and  they do not always indicate a plur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*Rememb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G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tting Words to Ag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plural subjects end with the letter “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bs in sentences with he  and  they do not always indicate a plur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*Rememb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G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ching Plural Ver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you have a plural subject such as, “five boys” you must give them a plural verb such as,  “run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ching Plural Ver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you have a plural subject such as, “five boys” you must give them a plural verb such as,  “run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bs with &lt;1 P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st agree in “Tense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 1st part is talking about the past the 2nd part must do the s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is rule is not followed, it will create a time warp in the midd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bs with &lt;1 P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st agree in “Tense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 1st part is talking about the past the 2nd part must do the s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is rule is not followed, it will create a time warp in the midd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e Types of Sent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 Sent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e Types of Sent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 Sent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3 Main Types Of Sent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most everything we say is said in sentenc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interrogative, declarative, and imperative sent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3 Main Types Of Sent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most everything we say is said in sentenc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interrogative, declarative, and imperative sent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larative Sent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the most common type of senten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punctuated with a peri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used to tell our thoughts, and what we se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be simple or complex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have a dream . . .” as MLK Jr. once sai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saw a bird as beautiful as the summer sky as it rises above the horizon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larative Sent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the most common type of senten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punctuated with a peri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used to tell our thoughts, and what we se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be simple or complex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have a dream . . .” as MLK Jr. once sai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saw a bird as beautiful as the summer sky as it rises above the horizon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rogative Sent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WAYS has a (?) question mar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you ask enough of them they become self-explanato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stars burn out ?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are my eyes colored ?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is global warming such a problem ?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rogative Sent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WAYS has a (?) question mar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you ask enough of them they become self-explanato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stars burn out ?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are my eyes colored ?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is global warming such a problem ?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 Main Parts Of Spee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uns                           interjections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jec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ver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n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nou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 Main Parts Of Spee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uns                           interjections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jec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ver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n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nou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erative Sent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y need more than 1 or 2 wor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d to give orders and make reques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ways ends in a (!) exclamation point if used to make reques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ways ends in (.) a period to give ord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p!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g Me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* In many sentences YOU is not spoken but is underst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erative Sent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y need more than 1 or 2 wor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d to give orders and make reques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ways ends in a (!) exclamation point if used to make reques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ways ends in (.) a period to give ord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p!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g Me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* In many sentences YOU is not spoken but is underst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s of Litera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rning Boo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s of Litera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rning Boo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ograph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True story about a persons lif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very interesting s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NOT by the person they are ab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written using second hand accou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-HAND ACCOUNTS –writings that are left behind, diaries, newspapers, and letters, 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ograph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True story about a persons lif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very interesting s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NOT by the person they are ab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written using second hand accou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-HAND ACCOUNTS –writings that are left behind, diaries, newspapers, and letters, 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obiograph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books written by the person they are ab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o- means self (ex. Automobile is self driven. Autopilot is a plane that flies by itself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are written in Prose, but can be written in poems, plays, or so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obiograph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books written by the person they are ab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o- means self (ex. Automobile is self driven. Autopilot is a plane that flies by itself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are written in Prose, but can be written in poems, plays, or so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make-believe, or fairytales such as Alice in Wonderland, or Pollyan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everything has to be made-up, can have true parts with a twist, or true facts in a made-up story. Ex. You could have a story about traveling through space, that is not true.  But, the moon, gravity force, wind, stars, yourself, a spaceshutle, 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make-believe, or fairytales such as Alice in Wonderland, or Pollyan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everything has to be made-up, can have true parts with a twist, or true facts in a made-up story. Ex. You could have a story about traveling through space, that is not true.  But, the moon, gravity force, wind, stars, yourself, a spaceshutle, 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n-Fi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ALL 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. Biographies, and autobiographies, newspaper articles, and school reports, and his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E. A report on the 1989 earthquake in San Francis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n-Fi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ALL 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. Biographies, and autobiographies, newspaper articles, and school reports, and his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E. A report on the 1989 earthquake in San Francis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yings and Phr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dioms and Metaphors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yings and Phr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dioms and Metaphors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A Phrase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 Entry:1phr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nunciation:*fr*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:nou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tymology:Latin phrasis, from Greek, from phrazein to point out, explain, t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e:15301 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haracteristic manner or style of expression  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CTION2 a : a brief expression;  especially   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TCHPHRASE  b 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D3 : a short musical thought typically two to four measures long closing with a cadence4 : a word or group of words forming a syntactic constituent with a single grammatical function  *an adverbial phrase*5 : a series of dance movements comprising a section of a patter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A Phrase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 Entry:1phr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nunciation:*fr*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:nou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tymology:Latin phrasis, from Greek, from phrazein to point out, explain, t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e:15301 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haracteristic manner or style of expression  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CTION2 a : a brief expression;  especially   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TCHPHRASE  b 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D3 : a short musical thought typically two to four measures long closing with a cadence4 : a word or group of words forming a syntactic constituent with a single grammatical function  *an adverbial phrase*5 : a series of dance movements comprising a section of a patter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ions Speak Louder Than                Word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ns, some people don’t mean what they say.  It is often obvious what is mea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d says he hates cats – even Juju,” Stewart sai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,” Tracy said, “last night, I saw Dad kiss the top of his hea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” Stewart said, “I think he really loves Juju, well, actions speak louder than words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ions Speak Louder Than                Word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ns, some people don’t mean what they say.  It is often obvious what is mea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d says he hates cats – even Juju,” Stewart sai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,” Tracy said, “last night, I saw Dad kiss the top of his hea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” Stewart said, “I think he really loves Juju, well, actions speak louder than words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ggars, Can’t Be Choo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hrase means if you are needy, don’t be picky even if it isn’t exactly what you want or ne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didn’t have time to eat,” Jane said, “and I’m starving! But the only thing left in the cafeteria is yesterdays spinach salad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ggars can’t be choosers, Jane,” Nicky said, “looks like you’ll actually have to eat something healthy for a change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ggars, Can’t Be Choo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hrase means if you are needy, don’t be picky even if it isn’t exactly what you want or ne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didn’t have time to eat,” Jane said, “and I’m starving! But the only thing left in the cafeteria is yesterdays spinach salad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ggars can’t be choosers, Jane,” Nicky said, “looks like you’ll actually have to eat something healthy for a change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nction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in Th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njunction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oin Th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t Bygones Be Byg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people should forget about bad feelings towards each ot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can’t belive you won’t help me with this science experiment! It means a lot, I’m failing,” Tyron said screaming,”Why won’t you help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e on, Tyron,” Janine said,”I’ll help you study.  There is no sense in being mad. Just  Let bygones be bygones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t Bygones Be Byg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people should forget about bad feelings towards each ot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can’t belive you won’t help me with this science experiment! It means a lot, I’m failing,” Tyron said screaming,”Why won’t you help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e on, Tyron,” Janine said,”I’ll help you study.  There is no sense in being mad. Just  Let bygones be bygones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Before You Lea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s about risks we take in life. It means that we should think before act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m, Andrew asked me if I want to take over his paper route.  Isn’t that a great idea ?  Then I could by that new trumpet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don’t know,” mother said, “ you have music lessons every day after school.  Do you really have time.  You should  Look before you leap.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Before You Lea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s about risks we take in life. It means that we should think before act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m, Andrew asked me if I want to take over his paper route.  Isn’t that a great idea ?  Then I could by that new trumpet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don’t know,” mother said, “ you have music lessons every day after school.  Do you really have time.  You should  Look before you leap.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Rotten Apple Spoils The Whole Barr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day , you are going to use your text books and do partner not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urn to page 63, it is at the bottom of pg. 63 and pg. 6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Rotten Apple Spoils The Whole Barr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day , you are going to use your text books and do partner not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urn to page 63, it is at the bottom of pg. 63 and pg. 6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lace for Everything and Everything in its Pl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day , you are going to use your text books and do partner not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urn to pg. 6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must have a different part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lace for Everything and Everything in its Pl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day , you are going to use your text books and do partner not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urn to pg. 6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must have a different part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how Must Go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ns no matter what happens the project must keep go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can’t play goalie this weekend,” Lisa said, “ I have a sprained ankle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s okay,” said the coach, “ the show must go on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how Must Go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ns no matter what happens the project must keep go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can’t play goalie this weekend,” Lisa said, “ I have a sprained ankle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s okay,” said the coach, “ the show must go on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s Bark Is Worse Than His B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ns someone looks or acts a lot differently than who they really a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r. Crackles is such a grouch,” Meg sai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ah,” said Mickey, “ they shouldn’t call him principal, they should call him ‘prince-paddle’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are so foolish you 2,” Missy explained, “you know he wouldn’t paddle anyone.  He might get mad easy but he’s really a nice man.  His bark is worse that his bite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s Bark Is Worse Than His B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ns someone looks or acts a lot differently than who they really a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r. Crackles is such a grouch,” Meg sai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ah,” said Mickey, “ they shouldn’t call him principal, they should call him ‘prince-paddle’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are so foolish you 2,” Missy explained, “you know he wouldn’t paddle anyone.  He might get mad easy but he’s really a nice man.  His bark is worse that his bite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at Around The Bu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day , you are going to use your text books and do partner not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urn to page 65, You must work with someone you haven't yet worked wit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at Around The Bu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day , you are going to use your text books and do partner not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urn to page 65, You must work with someone you haven't yet worked wit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ean Bill Of Heal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day , you are going to use your text books and do partner not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urn to page 6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ean Bill Of Heal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day , you are going to use your text books and do partner not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urn to page 6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 His Last Le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ns something is about to die or break for g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r job now is to write a role play for this phra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est one will become part of this present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 His Last Le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ns something is about to die or break for g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r job now is to write a role play for this phra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est one will become part of this present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n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nctions are connecting wo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adds things together in the sentence “I like baseball and soccer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also joins, but makes an option “What do you like best, dogs or cats?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can also  pose a ques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n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nctions are connecting wo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adds things together in the sentence “I like baseball and soccer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also joins, but makes an option “What do you like best, dogs or cats?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can also  pose a ques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And/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tence 1:  “I am going to play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tence 2:  “I am going to study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And to joi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am going to play, and I’m going to study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Or to joi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am going to play, or I’m going to study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And/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tence 1:  “I am going to play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tence 2:  “I am going to study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And to joi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am going to play, and I’m going to study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Or to joi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am going to play, or I’m going to study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a Com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fore every joining word, a comma (,) must be u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like soup, and I like sandwiches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also must check that a and/or can be used by taking out the , and/, or and replacing it with a peri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a Com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fore every joining word, a comma (,) must be u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like soup, and I like sandwiches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also must check that a and/or can be used by taking out the , and/, or and replacing it with a peri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Conjunction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nctions aren’t only and/or, they a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because, but, then, after,also just a (,), 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Conjunction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nctions aren’t only and/or, they a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because, but, then, after,also just a (,), 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26C12-EA9E-4591-8350-BF45DC9A8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2F843-442A-41A1-9E77-4EE026DE3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832BD-DE53-41A0-AD13-B4A96AB2E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B6E8B-4BED-4963-AB74-C9D55C99A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F18A1-FC0E-4E98-B826-B069F644C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C45EA-520C-40F8-9ACE-37839EF0A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B34F5-B8BA-4DDA-A589-509A79A7B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C4770-4EE9-432C-B204-9D3DE6719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0C2CA-F8DF-408D-AC38-CE6771ED7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4A9C6-A942-48E9-9F0D-C1B654A40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6DE98-4A4B-4465-8A96-31A8C1366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16933-981E-47D2-BE95-97AA2FFDA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9287E-27F7-410D-BD9B-EF80DF943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28560-7FD3-44DA-B734-60106FC7F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044DC-A6D9-46D0-8310-650410D96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3F12C-3328-45EF-BF94-B946D484A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5F508-F85C-4F0E-AA37-032BA493F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96F9E-54D1-4C05-BAA5-FDC9E85EB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FF77B-A8AC-4C3B-A253-0A8D3249C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B08C1-DE28-40DC-A5F9-B199CC166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1D1D7-CE12-4232-860B-8DE01EA34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A9808-2A25-4C6B-BFED-BAB7A41DD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CDC58-1846-4891-BF73-B825C3DD4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8A229-C731-4A6C-A492-FAB3EF17C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Expbanna"/>
          <p:cNvPicPr/>
          <p:nvPr/>
        </p:nvPicPr>
        <p:blipFill>
          <a:blip r:embed="rId3"/>
          <a:stretch/>
        </p:blipFill>
        <p:spPr>
          <a:xfrm>
            <a:off x="0" y="0"/>
            <a:ext cx="6858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FFF25-DAC4-4BE8-A107-018F53A1240F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EXPHORSA"/>
          <p:cNvPicPr/>
          <p:nvPr/>
        </p:nvPicPr>
        <p:blipFill>
          <a:blip r:embed="rId4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Group 7"/>
          <p:cNvGrpSpPr/>
          <p:nvPr/>
        </p:nvGrpSpPr>
        <p:grpSpPr>
          <a:xfrm>
            <a:off x="0" y="0"/>
            <a:ext cx="6362640" cy="6858000"/>
            <a:chOff x="0" y="0"/>
            <a:chExt cx="6362640" cy="6858000"/>
          </a:xfrm>
        </p:grpSpPr>
        <p:pic>
          <p:nvPicPr>
            <p:cNvPr id="44" name="Picture 8" descr="Expbanna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6858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Picture 9" descr="EXPHORSA"/>
            <p:cNvPicPr/>
            <p:nvPr/>
          </p:nvPicPr>
          <p:blipFill>
            <a:blip r:embed="rId4"/>
            <a:stretch/>
          </p:blipFill>
          <p:spPr>
            <a:xfrm>
              <a:off x="3505320" y="5715000"/>
              <a:ext cx="2857320" cy="95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6" name="Picture 10" descr="EXPHORSA"/>
          <p:cNvPicPr/>
          <p:nvPr/>
        </p:nvPicPr>
        <p:blipFill>
          <a:blip r:embed="rId5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12330-A321-46A0-AED9-0B761A55E29C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Names for Words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7524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arts of Spee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More examples</a:t>
            </a:r>
            <a:br>
              <a:rPr sz="4400"/>
            </a:b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one came to save him, so he went off to explo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ice smiled, and then turned to her rabb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Adjectives</a:t>
            </a:r>
            <a:br>
              <a:rPr sz="4400"/>
            </a:b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7524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ds that describ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Adjectives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ds that describ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e used to describe nou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to sa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something feels, tastes, looks, or sou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Things that we describe</a:t>
            </a:r>
            <a:br>
              <a:rPr sz="4400"/>
            </a:b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k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hoo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Words to Describ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een – Any Col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orm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u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ve – Any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Putting it all together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ellow Chick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rple swea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oudy Sk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inky Cigaret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Using more than one adjectiv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some cases, 2 adjectives may be used to describ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ar wa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oxy, and green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thin, gray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per airplane was indestructible.”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Adjectives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ick some adjectives fo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4" descr="PE01832_"/>
          <p:cNvPicPr/>
          <p:nvPr/>
        </p:nvPicPr>
        <p:blipFill>
          <a:blip r:embed="rId2"/>
          <a:stretch/>
        </p:blipFill>
        <p:spPr>
          <a:xfrm>
            <a:off x="3429000" y="2666880"/>
            <a:ext cx="2744640" cy="25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Nouns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7524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nouns and Proper Nou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Pronouns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ke the place of nou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ve time and ener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nouns are words such as it, he , she, they,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**They refer to the previous nou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040" y="3805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Names for Words: Parts of Speech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matter what, words must be put toget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at makes a sent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hing is possible without sent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Examples of Pronouns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oe, won a new car, 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jumped with joy.”                          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Jo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Proper Nouns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thing's OWN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lude names, nicknames, pets names, places names, city names,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per Nouns also def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proper nouns start with Capit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oe vs. Person              Jamestown vs. the c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Articles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17524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, An, T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Articles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ways go before a nou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The Rules”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always presents a consona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always presents a vow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always presents a singul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The Two Parts of a Sentenc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17524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tting Things Toget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2 Parts Of a Sentenc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ntences are the building blocks of our langu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2 Main Parts a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b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dica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The Subjec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61640" y="1766520"/>
            <a:ext cx="7769160" cy="49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 Noun of the sentence, The sentence is also based upon the Nou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, “The beautiful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allerina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ped into the air like a deer.”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allerin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the subj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, “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eminole Indian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veled over the water in the dugout canals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quickest way to find the subject is to read the sentence careful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ubject can be singular or plural and 1 or 2 wo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The Predicat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061640" y="1766520"/>
            <a:ext cx="776916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redicate names the verb in the sentence that tells what is happe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, “The beautiful ballerin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eape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to the air like a deer.”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eape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the predic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, “ The Seminole Indian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raveled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ver water in the dugout canals.” the predicate i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raveled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easiest way to find the predicate is to find what the subject is do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Helping Verbs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17524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Sentence Structur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sentences must start with a capital let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sentences must end with a punctu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sentence is not a part of speech; it just the thing that contains the Part of spee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Helping Verbs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Helping Verb shows us weather the verb is past, present, or future.  These are all considered “tenses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The “tense” tabl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1143000" y="1828800"/>
          <a:ext cx="7620120" cy="3962520"/>
        </p:xfrm>
        <a:graphic>
          <a:graphicData uri="http://schemas.openxmlformats.org/drawingml/2006/table">
            <a:tbl>
              <a:tblPr/>
              <a:tblGrid>
                <a:gridCol w="2838600"/>
                <a:gridCol w="2390760"/>
                <a:gridCol w="2390760"/>
              </a:tblGrid>
              <a:tr h="100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s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utu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7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l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7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a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/Are going 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Getting Words to Agre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7524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ngular and Plur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Getting Words to Agre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plural subjects end with the letter “s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rbs in sentences with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the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do not always indicate a plur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**Remembe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 Go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y G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Matching Plural Verbs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you have a plural subject such as, “five boys” you must give them a plural verb such as,  “run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Verbs with &lt;1 Par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st agree in “Tense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th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art is talking about the past the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art must do the s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this rule is not followed, it will create a time warp in the midd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Three Types of Sentences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17524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in Sent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The 3 Main Types Of Sentences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most everything we say is said in sentenc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e are interrogative, declarative, and imperative sent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Declarative Sentences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1640" y="1766520"/>
            <a:ext cx="7769160" cy="49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e the most common type of sente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e punctuated with a perio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e used to tell our thoughts, and what we se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be simple or complex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 have a dream . . .” as MLK Jr. once sai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 saw a bird as beautiful as the summer sky as it rises above the horizon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Interrogative Sentences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WAYS has a (?) question mar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you ask enough of them they become self-explanator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 stars burn out ?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are my eyes colored ?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is global warming such a problem ?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8 Main Parts Of Speech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uns                           interjections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rb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jec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verb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posi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jun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nou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Imperative Sentences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y need more than 1 or 2 wor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to give orders and make reques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ways ends in a (!) exclamation point if used to make reques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ways ends in (.) a period to give ord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op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ug Me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* In many sentences YOU is not spoken but is understoo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Types of Literatur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7524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Boo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Biography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True story about a persons lif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e very interesting st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e NOT by the person they are abo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e written using second hand ac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-HAND ACCOUNTS –writings that are left behind, diaries, newspapers, and letters,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Autobiography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e books written by the person they are abo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o- means self (ex.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ut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bile is self driven.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ut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ilot is a plane that flies by itself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are written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rose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t can be written in poems, plays, or so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Fiction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e make-believe, or fairytales such a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lice in Wonderland, or Pollyan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 everything has to be made-up, can have true parts with a twist, or true facts in a made-up story. Ex. You could have a story about traveling through space, that is not true.  But, 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oon, gravity force, wind, stars, yourself, a spaceshutle,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Non-Fiction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ALL tr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. Biographies, and autobiographies, newspaper articles, and school reports, and hist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E. A report on the 1989 earthquake in San Francis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Sayings and Phrases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17524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dioms and Metaphors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What Is A Phrase ?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SzPct val="18290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Entry:1phr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SzPct val="1829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nunciation:*fr*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SzPct val="18290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:nou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SzPct val="18290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tymology:Latin phrasis, from Greek, from phrazein to point out, explain, te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SzPct val="18290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e:15301 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SzPct val="18290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 characteristic manner or style of expression 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SzPct val="18290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CTION2 a : a brief expression;  especially  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SzPct val="18290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TCHPHRASE  b 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SzPct val="18290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ORD3 : a short musical thought typically two to four measures long closing with a cadence4 : a word or group of words forming a syntactic constituent with a single grammatical function  *an adverbial phrase*5 : a series of dance movements comprising a section of a patter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Actions Speak Louder Than                Words”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ans, some people don’t mean what they say.  It is often obvious what is mea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d says he hates cats – even Juju,” Stewart sai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t,” Tracy said, “last night, I saw Dad kiss the top of his he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ll,” Stewart said, “I think he really loves Juju, well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ctions speak louder than words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Beggars, Can’t Be Choosers”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phrase means if you are needy, don’t be picky even if it isn’t exactly what you want or ne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didn’t have time to eat,” Jane said, “and I’m starving! But the only thing left in the cafeteria is yesterdays spinach salad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eggars can’t be chooser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Jane,” Nicky said, “looks like you’ll actually have to eat something healthy for a change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onjunctions</a:t>
            </a:r>
            <a:br>
              <a:rPr sz="4400"/>
            </a:b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7524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oin Th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j0074241.mid" descr=""/>
          <p:cNvPicPr/>
          <p:nvPr/>
        </p:nvPicPr>
        <p:blipFill>
          <a:blip r:embed="rId1"/>
          <a:stretch/>
        </p:blipFill>
        <p:spPr>
          <a:xfrm>
            <a:off x="1143000" y="6248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Let Bygones Be Bygones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means that people should forget about bad feelings towards each oth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can’t belive you won’t help me with this science experiment! It means a lot, I’m failing,” Tyron said screaming,”Why won’t you help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e on, Tyron,” Janine said,”I’ll help you study.  There is no sense in being mad. Ju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Let bygones be bygones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Look Before You Leap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ks about risks we take in life. It means that we should think before act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m, Andrew asked me if I want to take over his paper route.  Isn’t that a great idea ?  Then I could by that new trumpet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don’t know,” mother said, “ you have music lessons every day after school.  Do you really have time.  You shoul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Look before you leap.”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One Rotten Apple Spoils The Whole Barrel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day , you are going to use your text books and do partner not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urn to page 63, it is at the bottom of pg. 63 and pg. 6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A Place for Everything and Everything in its Plac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day , you are going to use your text books and do partner not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urn to pg. 6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 must have a different partn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The Show Must Go On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ans no matter what happens the project must keep go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 can’t play goalie this weekend,” Lisa said, “ I have a sprained ankle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s okay,” said the coach, “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the show must go on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His Bark Is Worse Than His Bit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ans someone looks or acts a lot differently than who they really a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r. Crackles is such a grouch,” Meg sai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eah,” said Mickey, “ they shouldn’t call him principal, they should call him ‘prince-paddle’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are so foolish you 2,” Missy explained, “you know he wouldn’t paddle anyone.  He might get mad easy but he’s really a nice man.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is bark is worse that his bit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Beat Around The Bush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day , you are going to use your text books and do partner not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urn to page 65, You must work with someone you haven't yet worked wit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ean Bill Of Health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day , you are going to use your text books and do partner not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urn to page 6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On His Last Legs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ans something is about to die or break for goo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r job now is to write a role play for this phra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best one will become part of this present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The End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17524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onjunctions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junctions are connecting wor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dds things together in the sentence “I like basebal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ccer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lso joins, but makes an option “What do you like best, dog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o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ts?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also  pose a ques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Using </a:t>
            </a:r>
            <a:r>
              <a:rPr b="1" i="1" lang="en-US" sz="4400" spc="-1" strike="noStrike">
                <a:solidFill>
                  <a:srgbClr val="482400"/>
                </a:solidFill>
                <a:latin typeface="Times New Roman"/>
              </a:rPr>
              <a:t>And/Or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ntence 1:  “I am going to play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ntence 2:  “I am going to study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joi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 am going to play, and I’m going to study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joi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 am going to play, or I’m going to study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Using a Comma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fore every joining word, a comma (,) must be u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 like soup, and I like sandwiches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 also must check that a and/or can be used by taking out the , and/, or and replacing it with a perio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Different Conjunctions</a:t>
            </a:r>
            <a:br>
              <a:rPr sz="4400"/>
            </a:b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junctions aren’t only and/or, they a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, because, but, then, after,also just a (,),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2T19:44:48Z</dcterms:created>
  <dc:creator>Ben Swanson</dc:creator>
  <dc:description/>
  <dc:language>en-US</dc:language>
  <cp:lastModifiedBy>RomaK</cp:lastModifiedBy>
  <dcterms:modified xsi:type="dcterms:W3CDTF">2015-09-02T09:48:39Z</dcterms:modified>
  <cp:revision>13</cp:revision>
  <dc:subject/>
  <dc:title>Names for Words  </dc:title>
</cp:coreProperties>
</file>