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D9E5-2825-40EA-9C2E-BB0E570B0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4DF-1E92-478F-AA90-EEC6DADF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21B-FC82-4BB6-8F80-5ADA47D3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949-2211-42A8-B346-D512249A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3D1-A7AE-4D84-AE85-4820100A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AD00-D4FF-43C2-BE0C-F8D20B4E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A00C-8930-43B7-B4C3-7C43988F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69BC-19C7-4C92-A9C1-21D8B33A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8788-10E4-43B6-8780-D84914D1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F33E-B2DF-4EB2-91E1-5C8FC8EE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8D57-2F65-4EF7-A56D-C6D473E5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52F2-77DC-4491-B004-46DCCEA4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03F-7FFA-43E0-AE39-B1DF5FA0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B5A0-F823-433B-96F1-F7FD16D3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E953-DEEA-4D30-98E0-A147A7EA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F64B-1D5D-4B46-B2DE-5F5A790A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B7DA-D220-4E5E-B75D-4D8D4680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F0E3-CBD2-43CC-B4B3-4D5936A6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F41-AB78-4E7D-9156-52E42417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CE9-5A9A-4566-96CF-38EBFD7E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037-78A3-498A-B43E-5ED6FEB6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CD6-23B2-4808-B0F8-52B261CE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93E-78BD-4291-92D1-A1F01ECD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228-9157-43CA-8325-67597FE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2E3-A4C8-4DA9-86CD-3DB9D706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6C18-0B94-45A7-BAFF-81FADD172B6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8D41-0EC2-4F60-8B87-D236BF7C3FB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gs that we describe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ds to Describ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more than one ad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r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xy, and gre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in, gra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airplane was indestructible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E01832_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: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o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, won a new car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mped with joy.”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per 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ule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wo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bjec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ped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nole India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ed over the water in the dugout canal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edic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baller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 The Seminole Indi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water in the dugout canals.” the predicat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ntence Stru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“tense”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1828800"/>
          <a:ext cx="7620120" cy="3962520"/>
        </p:xfrm>
        <a:graphic>
          <a:graphicData uri="http://schemas.openxmlformats.org/drawingml/2006/table">
            <a:tbl>
              <a:tblPr/>
              <a:tblGrid>
                <a:gridCol w="2838600"/>
                <a:gridCol w="2390760"/>
                <a:gridCol w="23907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Are going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in sentenc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not always indicate a pl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tching Plural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bs with &lt;1 Pa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is talking about the past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must do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3 Main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cla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rog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 Main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e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ypes of 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- means self (ex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is self drive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is a plane that flies by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re writte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s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be written in poems, plays, or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ake-believe, or fairytales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ce in Wonderland, or Pollya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on, gravity force, wind, stars, yourself, a spaceshutl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n-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ayings and Phras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Is A Phrase 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tions Speak Louder Than                Word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s speak louder than word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ggars, Can’t Be Chooser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gars can’t be choos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ane,” Nicky said, “looks like you’ll actually have to eat something healthy for a cha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t Bygones Be Byg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t bygones be byg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ok Before You Lea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ok before you leap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e Rotten Apple Spoils The Whole Barre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Place for Everything and Everything in its Pl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how Must Go 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okay,” said the coach,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show must go 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is Bark Is Worse Than His B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bark is worse that his b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at Around The Bus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ean Bill Of Heal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His Last Leg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9:44:48Z</dcterms:created>
  <dc:creator>Ben Swanson</dc:creator>
  <dc:description/>
  <dc:language>en-US</dc:language>
  <cp:lastModifiedBy>RomaK</cp:lastModifiedBy>
  <dcterms:modified xsi:type="dcterms:W3CDTF">2015-09-02T09:48:39Z</dcterms:modified>
  <cp:revision>13</cp:revision>
  <dc:subject/>
  <dc:title>Names for Words  </dc:title>
</cp:coreProperties>
</file>