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87CE-523E-46F5-966C-2A576E847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79B-CD8E-4C47-8B97-1FF9FA88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F2C-53AE-4422-8AEB-93653DFE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096-2108-4CEF-A883-1C8F7161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1C7-86E0-4917-8D23-A0BEC805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CE85-BDFC-4F4A-9E5F-538A5FDC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FA66-77B9-4587-A47F-F2F50BF9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8CA6-0BE8-4620-82C0-05D7B319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B2FF-010B-45A8-A69E-D64B8F34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B465-16AF-4874-8D76-59ECFCE2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40C8-73A9-4A0A-8FF6-DD69AB86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66E4-57E6-4CA9-981E-B999299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489-C8D6-4DAF-AC37-687B7551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2478-102B-4595-9B94-D1670639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28CD-EC1E-42E0-9FA8-AC0FE0C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81DF-9E6D-487F-9EC4-C3E5964F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EB82-4D45-48FC-83EF-37C28EF6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6CCD-CFE5-40E4-B8B3-86FCDD21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B6D-C9C9-4218-BFDA-73231A80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A4F-5DBB-42D9-B17E-6DF1CFAC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365-E964-47E0-8E23-12F7819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A11-0A37-4916-8154-93BA3F05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8C7-7824-42E1-BA1C-B121CE77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B61-DF2C-40AF-B648-C67B383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71C-3265-4F30-8195-A8470E8D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1E88-91D2-446B-8142-3F48E1CC3F46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26F9-6574-4DC2-8F3B-376020EAFA5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nd of Poetr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U11l2a2"/>
          <p:cNvPicPr/>
          <p:nvPr/>
        </p:nvPicPr>
        <p:blipFill>
          <a:blip r:embed="rId1"/>
          <a:stretch/>
        </p:blipFill>
        <p:spPr>
          <a:xfrm>
            <a:off x="2971800" y="2133720"/>
            <a:ext cx="32004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eech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up of two eleme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sonants and vow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end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or harsh eg slice, baffl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sounds; cat, difficul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harsh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d/Letter Sou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add to the mean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no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, J, M, N, S, V, 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K, D, Q, T, C, B, 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Sound Principle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nanc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esignates the ability of a vibration to reach out through waves to set off a similar vibration in another bo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ysic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und vibrations are connected to the vibrations of atoms and molecules in the ai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ansmission of a resonant vibra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rce.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hought, sounds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 transmitting mediu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ir i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Effect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any fo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cumulative and detec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ch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0 decibel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range we can hear now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equal to the sound of one train pulling into a subway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6:57:44Z</dcterms:created>
  <dc:creator>Gaile Wotherspoon</dc:creator>
  <dc:description/>
  <dc:language>en-US</dc:language>
  <cp:lastModifiedBy>RomaK</cp:lastModifiedBy>
  <dcterms:modified xsi:type="dcterms:W3CDTF">2015-09-02T09:48:50Z</dcterms:modified>
  <cp:revision>5</cp:revision>
  <dc:subject/>
  <dc:title>The Sound of Poetry </dc:title>
</cp:coreProperties>
</file>