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type.wav" ContentType="audio/x-wav"/>
  <Override PartName="/ppt/media/camera.wav" ContentType="audio/x-wav"/>
  <Override PartName="/ppt/media/laser.wav" ContentType="audio/x-wav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0421-B144-4DD1-9675-5C4DA1CD52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The Sound of Poetr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ound of Poet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Wave Patter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v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peec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ords and their sounds vibrate to different parts of the bod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ade up of two elements – consonants and vowe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very letter and combination of letters has significanc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nd of words make the tone or tex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ord endings – fluid or harsh eg slice, baffling – fluid sounds; cat, difficult – harsh sou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and their sounds vibrate to different parts of the bo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two elements – consonants and vow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letter and combination of letters has signific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of words make the tone or te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endings – fluid or harsh eg slice, baffling – fluid sounds; cat, difficult – harsh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ord/Letter Sou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an add to the meaning – connot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 sounds and letters connect to images eg: The Moon rose over the ocea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ft sounding consonants – R, J, M, N, S, V, W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Hard sounding consonants – K, D, Q, T, C, B, 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me letters and combination of letters create full, thin or open sou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/Letter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add to the meaning – con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sounds and letters connect to images eg: The Moon rose over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sounding consonants – R, J, M, N, S, V,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 sounding consonants – K, D, Q, T, C, B,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etters and combination of letters create full, thin or open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Basic Sound Principl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sonance – designates the ability of a vibration to reach out through waves to set off a similar vibration in another bod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hysics – sound vibrations are connected to the vibrations of atoms and molecules in the ai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Life is composed of atoms which contain protons and electrons.  These are electrically charged particles of energy, in constant mo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ound Princi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nance – designates the ability of a vibration to reach out through waves to set off a similar vibration in anot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– sound vibrations are connected to the vibrations of atoms and molecules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s composed of atoms which contain protons and electrons.  These are electrically charged particles of energy, in constant mo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ransmission of a resonant vibr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quires three thing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st be an original vibrating energy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.   Can be thought, sounds,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lours, musical instruments, voi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st be a transmitting medium – air is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ost common carri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re must be a receiver of the vibration, something which will receive and respond to the energy or sound vibration being s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 of a resonant vib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three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n original vibrating energ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.   Can be thought, sound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, musical instruments, vo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transmitting medium – air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c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must be a receiver of the vibration, something which will receive and respond to the energy or sound vibration being 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Effects of Sou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 any form – are cumulative and detectabl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nd in any of its forms is a source of ener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ffective as a tool to alter the electromagnetic fields and impulses of a human or an environm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s of 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form – are cumulative and detec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in any of its forms is a source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 as a tool to alter the electromagnetic fields and impulses of a human or a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itch of Sou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itch is the highness or lowness of the sou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itch is determined by the speed at which it vibrates.  The faster the sound vibrates, the higher the pit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Low tones bend around objects when they are emit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High-pitched tones are more focus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tch of 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tch is the highness or lowness of the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tch is determined by the speed at which it vibrates.  The faster the sound vibrates, the higher the p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tones bend around objects when they are e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-pitched tones are more foc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ne decibel is the quietest sound the average person can hea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cibels increase their effects logarithmical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0 decibels of sound is ten times greater than one decibe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decibel is the quietest sound the average person can h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bels increase their effects logarithm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decibels of sound is ten times greater than one deci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20 decibels is 10 times greater than the ten decibel range or 100 times greater than 1 decibe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90 decibels – the range we can hear now – is equal to the sound of one train pulling into a subway st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00 decibels is equal to the sound of 10 trains pulling into the subway station at the same ti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decibels is 10 times greater than the ten decibel range or 100 times greater than 1 deci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decibels – the range we can hear now – is equal to the sound of one train pulling into a subway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decibels is equal to the sound of 10 trains pulling into the subway station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 Patterns of Sou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s - Rhythmic disturbance that carries energ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length - Distance between a point on a wave and the identical point on the next wave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eriod - Time required for one wavelength to pas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Patterns of 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- Rhythmic disturbance that carries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- Distance between a point on a wave and the identical point on the next wa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 - Time required for one wavelength to pa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 patterns continu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mplitude - Greatest distance of a wave's rise or fall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 Velocity - Wave velocity is the distance a wave travels per second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length - velocity / frequenc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patterns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 - Greatest distance of a wave's rise or f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Velocity - Wave velocity is the distance a wave travels per sec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- velocity / frequ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05C0-D747-45F6-8B6A-0420B5B4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A1A-8BCD-4BAD-AABA-6649131F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F83-B966-4F29-88A6-83A35D97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B314-F63C-4614-BD07-208FB4E7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A517-5A77-470D-A1AA-B807192E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4852-F888-4B0F-9AAC-54F02C05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4F4E-AF0D-495E-981E-15007CBA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B3D4-22BB-479B-BA9C-41216746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19B1-D594-4151-A0CB-7B30D78A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C8A3-6DCB-47BB-B0E4-349AE75D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5A48-2328-490A-92E5-F68C5460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781F-B72E-484C-BA46-B82260B8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BD28-D463-42F6-B6C0-CF23FD21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AE85-6A67-4071-9615-96C215A2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0E76-43E2-46F4-9572-7E5CD8F1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DBC5-A702-4E21-9F93-48F1F414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DA94-E0CC-4F83-A4EF-0CAE93F4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454B-656D-4A69-BC06-4F28BE82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B510-E6B2-49CD-9A99-B35264C7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9858-1CA0-4753-874B-BF58818C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A64B-58BB-4E00-A260-564C47CB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9412-5276-438B-8EB2-E3668BF3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10BA-C15C-443F-8CC0-83CD7EAA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E0E6-9234-4471-90DE-48E4F8DA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1567-36C3-477A-BF57-5CB24E25422B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FD7F-3351-431F-B8EF-94B97C59C25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Sound of Poetry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8680" y="380520"/>
            <a:ext cx="8208720" cy="56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ve Patter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3" name="Picture 6" descr="U11l2a2"/>
          <p:cNvPicPr/>
          <p:nvPr/>
        </p:nvPicPr>
        <p:blipFill>
          <a:blip r:embed="rId1"/>
          <a:stretch/>
        </p:blipFill>
        <p:spPr>
          <a:xfrm>
            <a:off x="2971800" y="2133720"/>
            <a:ext cx="320040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peech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ords and their sounds vibrate to different parts of the bod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de up of two elemen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consonants and vowe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ry letter and combination of letters has significanc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und of words make the tone or text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ord ending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fluid or harsh eg slice, baffling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fluid sounds; cat, difficult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harsh soun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ord/Letter Soun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n add to the meaning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connot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 sounds and letters connect to images eg: The Moon rose over the ocea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ft sounding consonan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R, J, M, N, S, V, W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ard sounding consonan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K, D, Q, T, C, B, 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me letters and combination of letters create full, thin or open soun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75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Sound Principle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sonanc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designates the ability of a vibration to reach out through waves to set off a similar vibration in another bod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hysic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sound vibrations are connected to the vibrations of atoms and molecules in the ai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fe is composed of atoms which contain protons and electrons.  These are electrically charged particles of energy, in constant motion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ransmission of a resonant vibration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quires three thing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st be an original vibrating energy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urce.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n be thought, sounds,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lours, musical instruments, voic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st be a transmitting medium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air is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common carri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re must be a receiver of the vibration, something which will receive and respond to the energy or sound vibration being s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Effects of Sound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any form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are cumulative and detectabl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und in any of its forms is a source of energ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ffective as a tool to alter the electromagnetic fields and impulses of a human or an environ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75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ch of Sound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itch is the highness or lowness of the soun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itch is determined by the speed at which it vibrates.  The faster the sound vibrates, the higher the pit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ow tones bend around objects when they are emitt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igh-pitched tones are more focused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75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75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75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75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cibel Level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ne decibel is the quietest sound the average person can he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cibels increase their effects logarithmical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0 decibels of sound is ten times greater than one decib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cibel Level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20 decibels is 10 times greater than the ten decibel range or 100 times greater than 1 decib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90 decibel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the range we can hear now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s equal to the sound of one train pulling into a subway st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00 decibels is equal to the sound of 10 trains pulling into the subway station at the same ti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ave Patterns of Sound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aves - Rhythmic disturbance that carries energ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avelength - Distance between a point on a wave and the identical point on the next wave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eriod - Time required for one wavelength to pas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75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75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75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75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75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75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ave patterns continue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mplitude - Greatest distance of a wave's rise or fal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ve Velocity - Wave velocity is the distance a wave travels per second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velength - velocity / frequency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16:57:44Z</dcterms:created>
  <dc:creator>Gaile Wotherspoon</dc:creator>
  <dc:description/>
  <dc:language>en-US</dc:language>
  <cp:lastModifiedBy>RomaK</cp:lastModifiedBy>
  <dcterms:modified xsi:type="dcterms:W3CDTF">2015-09-02T09:48:50Z</dcterms:modified>
  <cp:revision>5</cp:revision>
  <dc:subject/>
  <dc:title>The Sound of Poetry </dc:title>
</cp:coreProperties>
</file>