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type.wav" ContentType="audio/x-wav"/>
  <Override PartName="/ppt/media/camera.wav" ContentType="audio/x-wav"/>
  <Override PartName="/ppt/media/laser.wav" ContentType="audio/x-wav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4C53-2A76-46BA-B1D4-2A6ED6FB67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01E-BE02-4D71-8EE5-E7C02F1A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F3D-847D-4B3D-9C20-97728C37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F5E-B30D-47B5-BBFA-A42E126C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57D-131D-4EBE-95DC-3629C8C1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5700-7D91-4C81-A7FA-12A02250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28AB-0523-4B17-8C6D-EB25D039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0DF9-5625-4228-B2EF-19AEDDB1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1384-6FF4-4D48-93FA-A3BA6BA6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4151-77F0-4355-BF84-63AF55E1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2BA6-EF18-4681-8974-6B226D5B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8463-95DC-451C-A490-3154B682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64E-A89A-4551-9E3E-04741BD3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5E5E-31B9-464F-952D-C0BFFF74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5B20-BD37-4185-9A04-F7C5AE37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88ED-DE42-441D-B448-822008CB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9C00-7DB3-4092-9805-26143F51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54DD-8B20-4468-B740-D0FE06D1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29F-2992-4DDF-B546-FE21C29E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A42-081F-4D10-9B7C-E526BCBE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171-3037-44AB-BCFC-6F00A0DE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6BB-CB33-4F29-A610-E8B0801F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65A-071E-4AB9-B862-4BE6A9B9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E783-62B7-47FA-A385-A5087565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C98-BA11-4022-9111-3DDB2803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D3C1-BF3C-4BD2-B57D-6E27B7EAD800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256E-F6C8-447F-A2E9-74E2E2A0E58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ound of Poetry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8680" y="380520"/>
            <a:ext cx="820872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3" name="Picture 6" descr="U11l2a2"/>
          <p:cNvPicPr/>
          <p:nvPr/>
        </p:nvPicPr>
        <p:blipFill>
          <a:blip r:embed="rId1"/>
          <a:stretch/>
        </p:blipFill>
        <p:spPr>
          <a:xfrm>
            <a:off x="2971800" y="2133720"/>
            <a:ext cx="32004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peech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de up of two eleme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sonants and vow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 ending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or harsh eg slice, baffl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sounds; cat, difficul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harsh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ord/Letter Sou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add to the mean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no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ft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R, J, M, N, S, V, 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rd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K, D, Q, T, C, B, 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Sound Principle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sonanc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designates the ability of a vibration to reach out through waves to set off a similar vibration in another bod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hysic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sound vibrations are connected to the vibrations of atoms and molecules in the ai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ransmission of a resonant vibrati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rce.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be thought, sounds,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 transmitting medium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ir i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Effect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any form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cumulative and detecta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ch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90 decibel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the range we can hear now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equal to the sound of one train pulling into a subway s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6:57:44Z</dcterms:created>
  <dc:creator>Gaile Wotherspoon</dc:creator>
  <dc:description/>
  <dc:language>en-US</dc:language>
  <cp:lastModifiedBy>RomaK</cp:lastModifiedBy>
  <dcterms:modified xsi:type="dcterms:W3CDTF">2015-09-02T09:48:50Z</dcterms:modified>
  <cp:revision>5</cp:revision>
  <dc:subject/>
  <dc:title>The Sound of Poetry </dc:title>
</cp:coreProperties>
</file>