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1D14-BD03-4121-B8CF-50BF2FE3FA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Writing A Good Book Review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A Good Book 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OMEWORK-DAY 2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Write a Paragraph 3 &amp; 4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-DAY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 Paragraph 3 &amp;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UTTING IT ALL TOGETHER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Now you have a great report to be proud of that will count for a major part in your grad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 want this typed neatly in a readable font, size 14 by tomorrow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great report to be proud of that will count for a major part in your g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ant this typed neatly in a readable font, size 14 by tomo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What Is A Book Review ?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 written opinion of what you think of a certain book as well as an accompanying summary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Book Review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ritten opinion of what you think of a certain book as well as an accompanying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 Good Book Review . . 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ives a statement telling the genre and what types of people would enjoy reading this book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ives your personal opinions and thoughts about the book and relates the book to your personal lif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ives a brief summary of what goes on in the book but not giving a way the final event ( to do this, you usually just say a question such as “Who will win the vigorous battle between ________ and ______?  Read the book to find out !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Leaves the reader in suspens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ood Book Review . .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a statement telling the genre and what types of people would enjoy reading this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your personal opinions and thoughts about the book and relates the book to your personal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a brief summary of what goes on in the book but not giving a way the final event ( to do this, you usually just say a question such as “Who will win the vigorous battle between ________ and ______?  Read the book to find out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s the reader in suspe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agraph 1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first paragraph follows the title and author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n the 1st paragraph, you will need to include the genre, and what type of people the book is geared toward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paragraph follows the title and auth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st paragraph, you will need to include the genre, and what type of people the book is geared to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agraph 2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n the 2nd paragraph you want to include your personal opinions about the book and how parts relate to your personal lif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paragraph is strictly about you and your thoughts, and enjoymen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2nd paragraph you want to include your personal opinions about the book and how parts relate to your personal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aragraph is strictly about you and your thoughts, and enjoy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OMEWORK-DAY 1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onight’s homework is to write the 1st 2 paragraphs of a book review on the book you will be using for this project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t the end of this part of the unit you will put everything together for 1 grad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-DAY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night’s homework is to write the 1st 2 paragraphs of a book review on the book you will be using for this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end of this part of the unit you will put everything together for 1 g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agraph 3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Your 3rd paragraph is the longest of all of your paragraph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You will give a descriptive yet brief summary of at least 9 sentences but no more that 15 sentence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You must go through phases 1 through 3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(see next slide)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3rd paragraph is the longest of all of your paragra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give a descriptive yet brief summary of at least 9 sentences but no more that 15 sent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go through phases 1 throug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ee next slid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agraph 3-PLANNER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or your summary, you will need to design a phases planner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hase 1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alk about the main events in the 1st 4th of your book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hase 2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alk about the main events and the problems that occur during the 1st part of the middle.  Talk about the major proble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hase 3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alk about the 3nd half of the middle and the steps leading up to the s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hase 4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You don’t talk about this phase in your paragraph 3 but you must still plan i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3-PLA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your summary, you will need to design a phases pla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the main events in the 1st 4th of your 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the main events and the problems that occur during the 1st part of the middle.  Talk about the major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the 3nd half of the middle and the steps leading up to th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don’t talk about this phase in your paragraph 3 but you must still plan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agraph 4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is your last required paragraph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alk about the following;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uthor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uthor’s purpos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wards Book Has Receive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dditional Info About The Book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losing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EMEMBER-WHAT EVR YOUR WRITE IN THE LAST PARAGRAPH IS WHAT MOST PEOPLE WILL COMMONLY REMEMBER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your last required para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the follow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’s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rds Book Has Rece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Info About The 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-WHAT EVR YOUR WRITE IN THE LAST PARAGRAPH IS WHAT MOST PEOPLE WILL COMMONLY REMEMB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24B5-2F49-4661-B120-212964C6C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27B1-9057-47FF-972A-0EB0BE22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0DC1-1D04-4BFD-8637-5BCDB61F2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B328-FC0C-4F36-8B6D-10A796B72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311F-A9EC-4BF1-987C-3147B5965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A054-33EF-45DD-B752-5905E77F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CF3E-7E29-4911-9459-C558C1D3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557A-FDD0-43B4-8134-34B0FE9D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CEFF-E9F9-4EE3-BE40-190F7FE0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93FE-03AD-4D67-9C92-7378AABB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AD79-A9FE-4A29-B2CB-7CC053D6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7E3C-6926-458C-B870-4BDD36D3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3DA1-1D97-4819-9A8E-5EAFF6FE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6053-DA2E-4E0E-97CF-492CF6B3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5DEF-DB55-401C-A864-1A414E75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8ED6-4085-4940-A138-8F29E7C04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0E66-8E65-4ECE-A786-DE434D3BD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FA50-B641-4F17-950F-292B1FF1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5154-D8C1-46BB-BE71-30BFF1BA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3C78-1903-4F19-9F11-E636FEAA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8BE0-7D3A-434B-A765-DFA04E95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A181-BCE2-4CFE-B9E9-D9ED1578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48F5-907F-478E-B145-0419A72C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1378-68C0-43CE-9772-D11D9C03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FA70-8EFC-47C8-806E-76AA8ABEFAB6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8B02-7646-4543-ACD7-87453BD81FCD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riting A Good Book Review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WORK-DAY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rite a Paragraph 3 &amp; 4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UTTING IT ALL TOGETH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ow you have a great report to be proud of that will count for a major part in your grad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 want this typed neatly in a readable font, size 14 by tomorrow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at Is A Book Review 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written opinion of what you think of a certain book as well as an accompanying summar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 Good Book Review . . .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a statement telling the genre and what types of people would enjoy reading this book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your personal opinions and thoughts about the book and relates the book to your personal lif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a brief summary of what goes on in the book but not giving a way the final event ( to do this, you usually just say a question such as “Who will win the vigorous battle between ________ and ______?  Read the book to find out !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eaves the reader in suspens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first paragraph follows the title and autho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1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, you will need to include the genre, and what type of people the book is geared towa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2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 you want to include your personal opinions about the book and how parts relate to your personal lif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s paragraph is strictly about you and your thoughts, and enjoyment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WORK-DAY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onight’s homework is to write the 1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2 paragraphs of a book review on the book you will be using for this projec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t the end of this part of the unit you will put everything together for 1 grad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3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r 3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 is the longest of all of your paragraph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will give a descriptive yet brief summary of at least 9 sentences but no more that 15 sentenc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must go through phases 1 through 3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(see next slide)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3-PLANN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r your summary, you will need to design a phases plann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609480" y="3809880"/>
            <a:ext cx="8382240" cy="2667240"/>
          </a:xfrm>
          <a:prstGeom prst="flowChar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62120" y="3200400"/>
            <a:ext cx="3657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1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main events in the 1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4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of your book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952880" y="3352680"/>
            <a:ext cx="3810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2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main events and the problems that occur during the 1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part of the middle.  Talk about the major proble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914400" y="5257800"/>
            <a:ext cx="3657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3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3nd half of the middle and the steps leading up to the soluti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5105520" y="525780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4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You don’t talk about this phase in your paragraph 3 but you must still plan i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4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s is your last required paragrap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alk about the following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utho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uthor’s purpos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wards Book Has Receive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dditional Info About The Book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losin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EMEMBER-WHAT EVR YOUR WRITE IN THE LAST PARAGRAPH IS WHAT MOST PEOPLE WILL COMMONLY REMEMBER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20:20:03Z</dcterms:created>
  <dc:creator>Ben Swanson</dc:creator>
  <dc:description/>
  <dc:language>en-US</dc:language>
  <cp:lastModifiedBy>RomaK</cp:lastModifiedBy>
  <dcterms:modified xsi:type="dcterms:W3CDTF">2015-09-02T09:49:05Z</dcterms:modified>
  <cp:revision>4</cp:revision>
  <dc:subject/>
  <dc:title>Writing A Good Book Review</dc:title>
</cp:coreProperties>
</file>