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9C78-3B0B-4528-B358-07A15C404E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7C0-4012-4D58-B263-425DD40C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185-93C1-4ADD-AF55-8ACE4311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835-5A62-49A3-8638-2931478C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F22-4C2D-4969-8952-9690A65A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7ADD-4D52-4E9E-9B49-390D48E8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96EF-DDF7-448E-A4C7-960EF32E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E032-B9B7-409B-B648-CCF4263B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EEF2-231E-4405-802D-0BF113C5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8ACB-BB30-458C-BDC4-46CC2673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45B2-C310-49F2-A812-313B3D2B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7625-5213-4666-9B7A-F5BA7CF2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7CC-7EB1-48E2-B37C-73E5BC2E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1B46-AADC-4BC6-87EE-86C8D308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7815-A020-4B8B-8D05-BCC48E2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AF63-7BCF-4654-AED3-40E8E6A8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73C9-5507-4072-B5C8-4D0DD127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1E81-643F-4AB2-BE81-DFE18A15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C07-0026-4103-8C4E-0124551F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5B2-DF26-4A41-9D41-622C2B60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08E-52F9-4CCA-A770-C9B72517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D7C-0873-4FDF-AC18-EADEAE95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B29-FB54-4824-BE22-CA77633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1A5-4229-4FA6-91E7-D5A008B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D21-215A-477E-9746-69CA8E52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039B-705B-49F6-9F40-458B303E5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9906-E868-4959-997B-CEAB5051FF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riting A Good Ess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Good Essay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Beginning, Middle and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learly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Essay Is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ritten speech, used to talk about a given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eginn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3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-Intro and a main overview of the main, and primary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-Thesis Statement (a statement that proves a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-Lead or conversion to start you bod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o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is the main section of the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put into 1 or many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s about the subjects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ragraph is a different sub-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ll info. being 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nding paragraph sums up the entir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Ending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r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 Thesi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touch on every topic in your essay in the last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essays, the Ending paragraph is what people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07:12Z</dcterms:created>
  <dc:creator>Ben Swanson</dc:creator>
  <dc:description/>
  <dc:language>en-US</dc:language>
  <cp:lastModifiedBy>RomaK</cp:lastModifiedBy>
  <dcterms:modified xsi:type="dcterms:W3CDTF">2015-09-02T09:49:12Z</dcterms:modified>
  <cp:revision>4</cp:revision>
  <dc:subject/>
  <dc:title>Writing A Good Essay</dc:title>
</cp:coreProperties>
</file>