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4FD6-5E94-469F-ABDC-3074E537D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8CB-EBA7-49EB-ABF8-5A03B6D0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E1A-BFF9-4FFE-BE84-9A753104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8F2-7590-4261-9665-61489A0D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C84-08EB-4CC7-A129-2D273558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E91D-D9D3-44E4-9666-21388610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F43-1CB7-4351-9E8E-7F6988EA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2AAB-92D7-4E58-B0B6-EFF2DA1E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FB88-FC7D-486D-A8B0-250DC73C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654A-14E6-4236-934D-F8AD6895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0E3C-9645-43D6-98EE-653DCD83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0D23-24D7-4D37-934C-2716921E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BE6-05B4-43A2-AAD9-C1C5ECE5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694F-BEF8-4FC7-959D-5DF1D80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7A13-1707-482D-8F58-AEA915C5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5D14-F17E-408B-B12D-8B24382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723A-051A-4CDF-B20D-45E4BE2B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E09F-10D4-4B4E-9E81-BCC9A9E7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965-0670-4003-A8B7-D5287F0E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F33-20A7-4B69-9ACA-3742A5C1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971-1572-4279-A1C6-F9BD6EA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1A0-3DB2-4032-843B-7748C3C7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DDA-5DEC-4B5A-BA65-55E3F72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30E-2E43-4088-AD58-A07D3D5D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D86-2059-4B6D-9916-7FD1525D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1DFF-6D21-44DE-9FEA-12A0B102A2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9AC4-F61F-40BF-8AB9-EEBE6F781A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riting A Good Ess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Good Essay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Beginning, Middle and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learly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Essay Is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ritten speech, used to talk about a given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eginn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3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-Intro and a main overview of the main, and primary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-Thesis Statement (a statement that proves a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-Lead or conversion to start you bod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o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is the main section of the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put into 1 or many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s about the subjects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ragraph is a different sub-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ll info. being 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nding paragraph sums up the entir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Ending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r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 Thesi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touch on every topic in your essay in the last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essays, the Ending paragraph is what people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07:12Z</dcterms:created>
  <dc:creator>Ben Swanson</dc:creator>
  <dc:description/>
  <dc:language>en-US</dc:language>
  <cp:lastModifiedBy>RomaK</cp:lastModifiedBy>
  <dcterms:modified xsi:type="dcterms:W3CDTF">2015-09-02T09:49:12Z</dcterms:modified>
  <cp:revision>4</cp:revision>
  <dc:subject/>
  <dc:title>Writing A Good Essay</dc:title>
</cp:coreProperties>
</file>