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pacta Blk BT"/>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4C11B-BC71-4C8D-9DDB-4D518DC4768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yn Ra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05-1982)</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yn 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05-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l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eople have free will, they can make choices, make up their own mind, makes decisions, and can direct their own lives by the ideas and values they adop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hem all the characters actually have free will, although most will believe that they do not.  It appears that all the individuals are brainwashed, with no power to control their own live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e so-called “robots” who submit to the authorities have free will; they are robots by choice – they were not forced to obey.  They do so voluntaril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s in Anthem  are depressed, without hope or ambition.  They make no effort to accomplish anything and merely go along with orde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 holds that free will means “the choice to think or not.”  Most of the characters have chosen not to think.</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aracter in Anthem  will rely on his own judgment rather than to take the beliefs of his leaders as automatically true.   Therefore, free will is exercis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eople have free will, they can make choices, make up their own mind, makes decisions, and can direct their own lives by the ideas and values they ado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hem all the characters actually have free will, although most will believe that they do not.  It appears that all the individuals are brainwashed, with no power to control their own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e so-called “robots” who submit to the authorities have free will; they are robots by choice – they were not forced to obey.  They do so voluntar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s in Anthem  are depressed, without hope or ambition.  They make no effort to accomplish anything and merely go along with 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 holds that free will means “the choice to think or not.”  Most of the characters have chosen not to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aracter in Anthem  will rely on his own judgment rather than to take the beliefs of his leaders as automatically true.   Therefore, free will is exerc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if is a recurrent device, formula, or situation that often serves as a signal for the appearance of a character or event. The following motifs are present in 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arkness and ligh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ignorance and knowledg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transgression and damna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if is a recurrent device, formula, or situation that often serves as a signal for the appearance of a character or event. The following motifs are present in 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arknes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ignorance and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transgression and dam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 (cont’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in Anthem characterizes those social lepers who do not have enough sense of themselves to understand that each individual is the center of his or her univers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ociety in Anthem, naming is a form of identifying one’s possessions as one’s own. For this reason, Equality 7-2521 names the Golden One on two separate occasions, names himself, and searches relentlessly for the word “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lessn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fear, shapelessness in Anthem connotes evil because it illustrates a lack of willingness or ability to believe in something and to stand behind i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in Anthem characterizes those social lepers who do not have enough sense of themselves to understand that each individual is the center of his or her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ociety in Anthem, naming is a form of identifying one’s possessions as one’s own. For this reason, Equality 7-2521 names the Golden One on two separate occasions, names himself, and searches relentlessly for the word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fear, shapelessness in Anthem connotes evil because it illustrates a lack of willingness or ability to believe in something and to stand behi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s of Importa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Infa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ude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Mating</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reet Sweepers, Scholars, Leaders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Peasa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the Usel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Corrective Deten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Cesspoo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Theate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arted Forest</a:t>
            </a:r>
            <a:br>
              <a:rPr sz="1200"/>
            </a:b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s of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I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M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reet Sweepers, Scholars, Leader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Peas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the Use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Corrective De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Cessp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The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arted Fores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racters &amp; Organiz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 &gt; The Unconquered &gt;Prometheu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 &gt; The Golden One &gt; Gae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y 2-5503</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4-8818</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arity 9-6347</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on 5-3992</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gressor of the Unspeakable Wor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int of the Pyr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rganiz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Eugenic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Voc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Council of Schola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racters &amp;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 &gt; The Unconquered &gt;Prometh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 &gt; The Golden One &gt; Ga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y 2-55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4-88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arity 9-6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on 5-39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gressor of the Unspeakable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int of the Py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Euge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Vo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Council of Scho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s New Nam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conquer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etheu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s New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conqu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eth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s New Name</a:t>
            </a:r>
            <a:br>
              <a:rPr sz="1200"/>
            </a:b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On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e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s New Nam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gives free copies of Ayn Rand’s novels to teachers and classrooms all over the worl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also gives out thousands of dollars each year through its essay contes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ynrand.or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gives free copies of Ayn Rand’s novels to teachers and classrooms all over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also gives out thousands of dollars each year through its essay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ynrand.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born in St. Petersburg, Russia, on February 2, 1905.</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opposed the mysticism and collectivism of Russian cultur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itnessed both the Kerensky and Bolshevik Revolutions during her teenage years in Russi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victory in Russia resulted in the confiscation of her father's pharmacy and periods of near-starvation for her famil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roduced to American history in her last year of high school, she immediately took America as her model of what a nation of free men could b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e 1925 she obtained permission to leave Soviet Russia for a visit to relatives in the United States.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he told Soviet authorities that her visit would be short, she was determined never to return to Russia, and she never di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born in St. Petersburg, Russia, on February 2, 19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opposed the mysticism and collectivism of Russian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itnessed both the Kerensky and Bolshevik Revolutions during her teenage years in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victory in Russia resulted in the confiscation of her father's pharmacy and periods of near-starvation for her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roduced to American history in her last year of high school, she immediately took America as her model of what a nation of free men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e 1925 she obtained permission to leave Soviet Russia for a visit to relatives in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he told Soviet authorities that her visit would be short, she was determined never to return to Russia, and she never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work · Novell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 Anti-Utopian (The world presented is the world as it should NOT b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written · The United States, 1937</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 · Equality 7-2521 writes the journal of the events as they transpire over the course of several month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 · Equality 7-2521 speaks in the first person (plural) He will refer to himself as “we” instead of “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 Equality 7-2521 records his thoughts and actions in a straightforward manner, with no trace of iron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e · Present, with some past-tense narra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work · Nov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 Anti-Utopian (The world presented is the world as it should NO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written · The United States, 19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 · Equality 7-2521 writes the journal of the events as they transpire over the course of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 · Equality 7-2521 speaks in the first person (plural) He will refer to himself as “we” instead of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 Equality 7-2521 records his thoughts and actions in a straightforward manner, with no trace of ir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e · Present, with some past-tense nar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ime) · Sometime in the distant future, after the collapse of the social order because of the common acceptance of collectivist value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place) · An unidentified city; much of the first half of Anthem  is narrated from a tunnel underground where Equality 7-2521 is hiding, and the second half is narrated from a forest where he has taken refuge from a society that hates hi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gonist · Equality 7-2521</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 Light; the forest; manuscrip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ime) · Sometime in the distant future, after the collapse of the social order because of the common acceptance of collectivist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place) · An unidentified city; much of the first half of Anthem  is narrated from a tunnel underground where Equality 7-2521 is hiding, and the second half is narrated from a forest where he has taken refuge from a society that hates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gonist · Equality 7-25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 Light; the forest; manu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Literary Term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ntral or dominant idea behind the story; the most important aspect that emerges from how the book treats the subjec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sition or vantage point from which the events of a story seem to come and are presented to the reade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and where the short story, play, or novel takes pla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who tells the stor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current device, formula, or situation that often serves  as a signal for the appearance of a character or even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Literary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ntral or dominant idea behind the story; the most important aspect that emerges from how the book treats the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sition or vantage point from which the events of a story seem to come and are presented to the r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and where the short story, play, or novel take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who tells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current device, formula, or situation that often serves  as a signal for the appearance of a character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 the subjugation of the individual to the group – whether to a race, class, or state does not matter.  In Anthem, Ayn Rand will present a collectivist society that is stagnant and primitive, and the word "I" is obsolet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wned by the group</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a private existe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lead his own life, pursue his own happiness, or use his own propert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s only as part of the group</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 the subjugation of the individual to the group – whether to a race, class, or state does not matter.  In Anthem, Ayn Rand will present a collectivist society that is stagnant and primitive, and the word "I" is obso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wned by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a private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lead his own life, pursue his own happiness, or use his own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s only as part of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Objectivism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n anyone else’s life, nor let anyone run thei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le or be rul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be a master nor a slav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sacrifice themselves to anyone, nor sacrifice anyone to themselves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Objectivism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n anyone else’s life, nor let anyone run the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le or be r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be a master nor a sl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sacrifice themselves to anyone, nor sacrifice anyone to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ramatizes the view that the self is destroyed in a collectivist societ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is shown in the following way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has a personal name because under collectivism, individuals are interchangeabl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fer one person over another (as a friend or romantic partner) is committing the cardinal sin known as the “Transgression of Prefere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rong to disagree, to have independent thoughts, or to ask questions because these things will set you apart from othe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rtion is forbidde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cisions are made by the “Council” in the name of the whol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have no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hich is not permitted by the law is forbidde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ramatizes the view that the self is destroyed in a collectivis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is shown in the following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has a personal name because under collectivism, individuals are interchang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fer one person over another (as a friend or romantic partner) is committing the cardinal sin known as the “Transgression of P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rong to disagree, to have independent thoughts, or to ask questions because these things will set you apa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rtion i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cisions are made by the “Council” in the name of the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have no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hich is not permitted by the law i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cont’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epicts what happens to a society that implements selflessness.  The result is what Ayn Rand believes is a subhuman society; what makes human beings human is having a self, which means having a mi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fless individual is a mindless individua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epicts what happens to a society that implements selflessness.  The result is what Ayn Rand believes is a subhuman society; what makes human beings human is having a self, which means having a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fless individual is a mindless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128F7-E7F4-4D14-B9F6-76B85C66E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09CA4-9BA3-4FE2-8327-BC091844C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31B6A-35B9-4F24-8D3D-7B75ECE7D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2B91E-EE7B-4DCC-9136-C7FC86D66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3E71A1-B2B7-432A-88E3-A23CB3E7B7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1E866-D441-4E99-9668-37A8BFAE0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86A0B-4574-4FE5-9130-EBAD60805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C3A7A-7A99-4FD3-B063-FE92C8B44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0269A-DF46-40EC-98B1-DD6B5E985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B39CD-3D01-4856-B93B-C2FABC2B5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AD410-0BF0-499B-ABAA-8F2C10724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2A0A8-D6DD-4CF9-873F-027E5CEB8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91D80-5B6E-493A-8D84-D6EA0855B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53DE0-1FD0-42F1-8241-0C078ECF2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81E7B-C44B-4C3B-B45A-D33BEF632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6C6F4C-CAE1-49F3-9DFF-6E6D6C9F9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46BFC2-E7AC-4899-8A00-1DE56F1A1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6BFEA-395E-4B4B-9A3D-F0E525D7D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BB216-62FF-472B-918A-B2170D421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0E89C-9B69-4CD4-8FD8-1021DD179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CB87C-8021-4E3C-A9C6-CA41AE926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0C5D7-0750-4DBC-A1D6-375AB77BE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8A80D-9AA4-43C7-B5FA-7B2ACC80D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3EFB5-691D-4700-9F50-3D8BE42CB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76C8-F782-4AD4-A1FF-E9F119F2AB5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92D9-6678-46A4-8A53-3244655C5CB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n.wikipedia.org/wiki/Image:Ayn_Rand1.jpg" TargetMode="External"/><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aynrand.or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990720"/>
            <a:ext cx="7623000" cy="1218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	</a:t>
            </a:r>
            <a:r>
              <a:rPr b="0" lang="en-US" sz="4600" spc="-1" strike="noStrike">
                <a:solidFill>
                  <a:srgbClr val="006633"/>
                </a:solidFill>
                <a:latin typeface="Garamond"/>
              </a:rPr>
              <a:t>	</a:t>
            </a:r>
            <a:br>
              <a:rPr sz="4600"/>
            </a:br>
            <a:r>
              <a:rPr b="0" lang="en-US" sz="4600" spc="-1" strike="noStrike">
                <a:solidFill>
                  <a:srgbClr val="006633"/>
                </a:solidFill>
                <a:latin typeface="Garamond"/>
              </a:rPr>
              <a:t>	</a:t>
            </a:r>
            <a:r>
              <a:rPr b="0" lang="en-US" sz="4600" spc="-1" strike="noStrike">
                <a:solidFill>
                  <a:srgbClr val="006633"/>
                </a:solidFill>
                <a:latin typeface="Garamond"/>
              </a:rPr>
              <a:t>	</a:t>
            </a:r>
            <a:r>
              <a:rPr b="0" lang="en-US" sz="8000" spc="-1" strike="noStrike">
                <a:solidFill>
                  <a:srgbClr val="006633"/>
                </a:solidFill>
                <a:latin typeface="Calligrapher"/>
              </a:rPr>
              <a:t>Anthem</a:t>
            </a:r>
            <a:endParaRPr b="0" lang="en-US" sz="8000" spc="-1" strike="noStrike">
              <a:solidFill>
                <a:srgbClr val="006633"/>
              </a:solidFill>
              <a:latin typeface="Garamond"/>
            </a:endParaRPr>
          </a:p>
        </p:txBody>
      </p:sp>
      <p:sp>
        <p:nvSpPr>
          <p:cNvPr id="94" name="PlaceHolder 2"/>
          <p:cNvSpPr>
            <a:spLocks noGrp="1"/>
          </p:cNvSpPr>
          <p:nvPr>
            <p:ph type="subTitle"/>
          </p:nvPr>
        </p:nvSpPr>
        <p:spPr>
          <a:xfrm>
            <a:off x="457200" y="4267080"/>
            <a:ext cx="5105520" cy="144792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ligrapher"/>
              </a:rPr>
              <a:t>	</a:t>
            </a:r>
            <a:r>
              <a:rPr b="0" lang="en-US" sz="4800" spc="-1" strike="noStrike">
                <a:solidFill>
                  <a:srgbClr val="000000"/>
                </a:solidFill>
                <a:latin typeface="Calligrapher"/>
              </a:rPr>
              <a:t>By Ayn Rand</a:t>
            </a:r>
            <a:endParaRPr b="0" lang="en-US" sz="4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ligrapher"/>
              </a:rPr>
              <a:t>                  </a:t>
            </a:r>
            <a:r>
              <a:rPr b="0" lang="en-US" sz="2800" spc="-1" strike="noStrike">
                <a:solidFill>
                  <a:srgbClr val="000000"/>
                </a:solidFill>
                <a:latin typeface="Calligrapher"/>
              </a:rPr>
              <a:t>(1905-1982)</a:t>
            </a:r>
            <a:endParaRPr b="0" lang="en-US" sz="2800" spc="-1" strike="noStrike">
              <a:solidFill>
                <a:srgbClr val="000000"/>
              </a:solidFill>
              <a:latin typeface="Arial"/>
            </a:endParaRPr>
          </a:p>
        </p:txBody>
      </p:sp>
      <p:pic>
        <p:nvPicPr>
          <p:cNvPr id="95" name="Picture 4" descr=""/>
          <p:cNvPicPr/>
          <p:nvPr/>
        </p:nvPicPr>
        <p:blipFill>
          <a:blip r:embed="rId1"/>
          <a:stretch/>
        </p:blipFill>
        <p:spPr>
          <a:xfrm>
            <a:off x="1600200" y="1371600"/>
            <a:ext cx="1152360" cy="1724040"/>
          </a:xfrm>
          <a:prstGeom prst="rect">
            <a:avLst/>
          </a:prstGeom>
          <a:ln w="0">
            <a:noFill/>
          </a:ln>
        </p:spPr>
      </p:pic>
      <p:pic>
        <p:nvPicPr>
          <p:cNvPr id="96" name="Picture 8" descr="Ayn_Rand1">
            <a:hlinkClick r:id="rId2"/>
          </p:cNvPr>
          <p:cNvPicPr/>
          <p:nvPr/>
        </p:nvPicPr>
        <p:blipFill>
          <a:blip r:embed="rId3"/>
          <a:stretch/>
        </p:blipFill>
        <p:spPr>
          <a:xfrm>
            <a:off x="5562720" y="3048120"/>
            <a:ext cx="2743200" cy="340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 Will</a:t>
            </a:r>
            <a:endParaRPr b="0" lang="en-US" sz="4200" spc="-1" strike="noStrike">
              <a:solidFill>
                <a:srgbClr val="006633"/>
              </a:solidFill>
              <a:latin typeface="Garamond"/>
            </a:endParaRPr>
          </a:p>
        </p:txBody>
      </p:sp>
      <p:sp>
        <p:nvSpPr>
          <p:cNvPr id="119" name="PlaceHolder 2"/>
          <p:cNvSpPr>
            <a:spLocks noGrp="1"/>
          </p:cNvSpPr>
          <p:nvPr>
            <p:ph/>
          </p:nvPr>
        </p:nvSpPr>
        <p:spPr>
          <a:xfrm>
            <a:off x="457200" y="1066320"/>
            <a:ext cx="8229600" cy="506412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people have free will, they can make choices, make up their own mind, makes decisions, and can direct their own lives by the ideas and values they adopt.</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a:t>
            </a:r>
            <a:r>
              <a:rPr b="0" i="1" lang="en-US" sz="2100" spc="-1" strike="noStrike">
                <a:solidFill>
                  <a:srgbClr val="000000"/>
                </a:solidFill>
                <a:latin typeface="Arial"/>
              </a:rPr>
              <a:t>Anthem </a:t>
            </a:r>
            <a:r>
              <a:rPr b="0" lang="en-US" sz="2100" spc="-1" strike="noStrike">
                <a:solidFill>
                  <a:srgbClr val="000000"/>
                </a:solidFill>
                <a:latin typeface="Arial"/>
              </a:rPr>
              <a:t>all the characters actually have free will, although most will believe that they do not.  It appears that all the individuals are brainwashed, with no power to control their own live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en the so-called “robots” who submit to the authorities have free will; they are robots by choice – they were not forced to obey.  They do so voluntarily.</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haracters in </a:t>
            </a:r>
            <a:r>
              <a:rPr b="0" i="1" lang="en-US" sz="2100" spc="-1" strike="noStrike">
                <a:solidFill>
                  <a:srgbClr val="000000"/>
                </a:solidFill>
                <a:latin typeface="Arial"/>
              </a:rPr>
              <a:t>Anthem</a:t>
            </a:r>
            <a:r>
              <a:rPr b="0" lang="en-US" sz="2100" spc="-1" strike="noStrike">
                <a:solidFill>
                  <a:srgbClr val="000000"/>
                </a:solidFill>
                <a:latin typeface="Arial"/>
              </a:rPr>
              <a:t>  are depressed, without hope or ambition.  They make no effort to accomplish anything and merely go along with order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yn Rand holds that free will means “the choice to think or not.”  Most of the characters have chosen not to think.</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ain character in </a:t>
            </a:r>
            <a:r>
              <a:rPr b="0" i="1" lang="en-US" sz="2100" spc="-1" strike="noStrike">
                <a:solidFill>
                  <a:srgbClr val="000000"/>
                </a:solidFill>
                <a:latin typeface="Arial"/>
              </a:rPr>
              <a:t>Anthem</a:t>
            </a:r>
            <a:r>
              <a:rPr b="0" lang="en-US" sz="2100" spc="-1" strike="noStrike">
                <a:solidFill>
                  <a:srgbClr val="000000"/>
                </a:solidFill>
                <a:latin typeface="Arial"/>
              </a:rPr>
              <a:t>  will rely on his own judgment rather than to take the beliefs of his leaders as automatically true.   Therefore, free will is exercis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tifs</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motif is a recurrent device, formula, or situation that often serves as a signal for the appearance of a character or event. The following motifs are present in </a:t>
            </a:r>
            <a:r>
              <a:rPr b="0" i="1" lang="en-US" sz="3000" spc="-1" strike="noStrike">
                <a:solidFill>
                  <a:srgbClr val="000000"/>
                </a:solidFill>
                <a:latin typeface="Arial"/>
              </a:rPr>
              <a:t>Anthem</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darkness and ligh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ence of ignorance and knowledg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dea of transgression and damn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tifs (cont’d)</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r</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ar in </a:t>
            </a:r>
            <a:r>
              <a:rPr b="0" i="1" lang="en-US" sz="2200" spc="-1" strike="noStrike">
                <a:solidFill>
                  <a:srgbClr val="000000"/>
                </a:solidFill>
                <a:latin typeface="Arial"/>
              </a:rPr>
              <a:t>Anthem</a:t>
            </a:r>
            <a:r>
              <a:rPr b="0" lang="en-US" sz="2200" spc="-1" strike="noStrike">
                <a:solidFill>
                  <a:srgbClr val="000000"/>
                </a:solidFill>
                <a:latin typeface="Arial"/>
              </a:rPr>
              <a:t> characterizes those social lepers who do not have enough sense of themselves to understand that each individual is the center of his or her universe.</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ing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society in </a:t>
            </a:r>
            <a:r>
              <a:rPr b="0" i="1" lang="en-US" sz="2200" spc="-1" strike="noStrike">
                <a:solidFill>
                  <a:srgbClr val="000000"/>
                </a:solidFill>
                <a:latin typeface="Arial"/>
              </a:rPr>
              <a:t>Anthem,</a:t>
            </a:r>
            <a:r>
              <a:rPr b="0" lang="en-US" sz="2200" spc="-1" strike="noStrike">
                <a:solidFill>
                  <a:srgbClr val="000000"/>
                </a:solidFill>
                <a:latin typeface="Arial"/>
              </a:rPr>
              <a:t> naming is a form of identifying one’s possessions as one’s own. For this reason, Equality 7-2521 names the Golden One on two separate occasions, names himself, and searches relentlessly for the word “I.”</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pelessness</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ke fear, shapelessness in </a:t>
            </a:r>
            <a:r>
              <a:rPr b="0" i="1" lang="en-US" sz="2200" spc="-1" strike="noStrike">
                <a:solidFill>
                  <a:srgbClr val="000000"/>
                </a:solidFill>
                <a:latin typeface="Arial"/>
              </a:rPr>
              <a:t>Anthem</a:t>
            </a:r>
            <a:r>
              <a:rPr b="0" lang="en-US" sz="2200" spc="-1" strike="noStrike">
                <a:solidFill>
                  <a:srgbClr val="000000"/>
                </a:solidFill>
                <a:latin typeface="Arial"/>
              </a:rPr>
              <a:t> connotes evil because it illustrates a lack of willingness or ability to believe in something and to stand behind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laces of Importance</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Infa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Stude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lace of Mating</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Street Sweepers, Scholars, Leaders . .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Peasa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the Useles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lace of Corrective Detention</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ty Cesspool</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ty Theate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charted Forest</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y Characters &amp; Organizations</a:t>
            </a:r>
            <a:endParaRPr b="0" lang="en-US" sz="4200" spc="-1" strike="noStrike">
              <a:solidFill>
                <a:srgbClr val="006633"/>
              </a:solidFill>
              <a:latin typeface="Garamond"/>
            </a:endParaRPr>
          </a:p>
        </p:txBody>
      </p:sp>
      <p:sp>
        <p:nvSpPr>
          <p:cNvPr id="12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ality 7-2521 &gt; The Unconquered &gt;Prometheu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berty 5-3000 &gt; The Golden One &gt; Gae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aternity 2-5503</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ational 4-8818</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idarity 9-6347</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ion 5-3992</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ransgressor of the Unspeakable Wor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aint of the Pyre</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Key Organizations:</a:t>
            </a:r>
            <a:endParaRPr b="0" lang="en-US" sz="22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cil of Eugenic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cil of Vocation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Council of Schol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quality 7-2521’s New Name</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ality 7-2521</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nconquered</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etheus</a:t>
            </a:r>
            <a:endParaRPr b="0" lang="en-US" sz="20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800" spc="-1" strike="noStrike">
              <a:solidFill>
                <a:srgbClr val="000000"/>
              </a:solidFill>
              <a:latin typeface="Arial"/>
            </a:endParaRPr>
          </a:p>
        </p:txBody>
      </p:sp>
      <p:pic>
        <p:nvPicPr>
          <p:cNvPr id="130" name="Picture 5" descr="Prometheus_--_Elsie_Russell"/>
          <p:cNvPicPr/>
          <p:nvPr/>
        </p:nvPicPr>
        <p:blipFill>
          <a:blip r:embed="rId1"/>
          <a:stretch/>
        </p:blipFill>
        <p:spPr>
          <a:xfrm>
            <a:off x="4876920" y="2057400"/>
            <a:ext cx="358128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iberty 5-3000’s New Name</a:t>
            </a:r>
            <a:br>
              <a:rPr sz="3800"/>
            </a:br>
            <a:endParaRPr b="0" lang="en-US" sz="3800" spc="-1" strike="noStrike">
              <a:solidFill>
                <a:srgbClr val="006633"/>
              </a:solidFill>
              <a:latin typeface="Garamond"/>
            </a:endParaRPr>
          </a:p>
        </p:txBody>
      </p:sp>
      <p:sp>
        <p:nvSpPr>
          <p:cNvPr id="132"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berty 5-3000</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olden One</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ea</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2000" spc="-1" strike="noStrike">
              <a:solidFill>
                <a:srgbClr val="000000"/>
              </a:solidFill>
              <a:latin typeface="Arial"/>
            </a:endParaRPr>
          </a:p>
        </p:txBody>
      </p:sp>
      <p:pic>
        <p:nvPicPr>
          <p:cNvPr id="133" name="Picture 5" descr="madonna15"/>
          <p:cNvPicPr/>
          <p:nvPr/>
        </p:nvPicPr>
        <p:blipFill>
          <a:blip r:embed="rId1"/>
          <a:stretch/>
        </p:blipFill>
        <p:spPr>
          <a:xfrm>
            <a:off x="2819520" y="4038480"/>
            <a:ext cx="3809880" cy="23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Ayn Rand Institute (ARI)</a:t>
            </a:r>
            <a:endParaRPr b="0" lang="en-US" sz="4200" spc="-1" strike="noStrike">
              <a:solidFill>
                <a:srgbClr val="006633"/>
              </a:solidFill>
              <a:latin typeface="Garamond"/>
            </a:endParaRPr>
          </a:p>
        </p:txBody>
      </p:sp>
      <p:sp>
        <p:nvSpPr>
          <p:cNvPr id="135"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RI gives </a:t>
            </a:r>
            <a:r>
              <a:rPr b="0" lang="en-US" sz="2100" spc="-1" strike="noStrike" u="sng">
                <a:solidFill>
                  <a:srgbClr val="000000"/>
                </a:solidFill>
                <a:uFillTx/>
                <a:latin typeface="Arial"/>
              </a:rPr>
              <a:t>free</a:t>
            </a:r>
            <a:r>
              <a:rPr b="0" lang="en-US" sz="2100" spc="-1" strike="noStrike">
                <a:solidFill>
                  <a:srgbClr val="000000"/>
                </a:solidFill>
                <a:latin typeface="Arial"/>
              </a:rPr>
              <a:t> copies of Ayn Rand’s novels to teachers and classrooms all over the world.</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RI also gives out thousands of dollars each year through its essay contest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1"/>
              </a:rPr>
              <a:t>http://www.aynrand.org</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yn Rand</a:t>
            </a:r>
            <a:endParaRPr b="0" lang="en-US" sz="4200" spc="-1" strike="noStrike">
              <a:solidFill>
                <a:srgbClr val="006633"/>
              </a:solidFill>
              <a:latin typeface="Garamond"/>
            </a:endParaRPr>
          </a:p>
        </p:txBody>
      </p:sp>
      <p:sp>
        <p:nvSpPr>
          <p:cNvPr id="98" name="PlaceHolder 2"/>
          <p:cNvSpPr>
            <a:spLocks noGrp="1"/>
          </p:cNvSpPr>
          <p:nvPr>
            <p:ph/>
          </p:nvPr>
        </p:nvSpPr>
        <p:spPr>
          <a:xfrm>
            <a:off x="457200" y="990720"/>
            <a:ext cx="5486400" cy="514008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was born in St. Petersburg, Russia, on February 2, 1905.</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opposed the mysticism and collectivism of Russian cultur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witnessed both the Kerensky and Bolshevik Revolutions during her teenage years in Russi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ommunist victory in Russia resulted in the confiscation of her father's pharmacy and periods of near-starvation for her family.</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introduced to American history in her last year of high school, she immediately took America as her model of what a nation of free men could b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late 1925 she obtained permission to leave Soviet Russia for a visit to relatives in the United State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though she told Soviet authorities that her visit would be short, she was determined never to return to Russia, and she never did.</a:t>
            </a:r>
            <a:endParaRPr b="0" lang="en-US" sz="1900" spc="-1" strike="noStrike">
              <a:solidFill>
                <a:srgbClr val="000000"/>
              </a:solidFill>
              <a:latin typeface="Arial"/>
            </a:endParaRPr>
          </a:p>
        </p:txBody>
      </p:sp>
      <p:pic>
        <p:nvPicPr>
          <p:cNvPr id="99" name="Picture 5" descr="25936"/>
          <p:cNvPicPr/>
          <p:nvPr/>
        </p:nvPicPr>
        <p:blipFill>
          <a:blip r:embed="rId1"/>
          <a:stretch/>
        </p:blipFill>
        <p:spPr>
          <a:xfrm>
            <a:off x="6248520" y="1066680"/>
            <a:ext cx="249228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Key Facts</a:t>
            </a:r>
            <a:endParaRPr b="0" lang="en-US" sz="4200" spc="-1" strike="noStrike">
              <a:solidFill>
                <a:srgbClr val="006633"/>
              </a:solidFill>
              <a:latin typeface="Garamond"/>
            </a:endParaRPr>
          </a:p>
        </p:txBody>
      </p:sp>
      <p:sp>
        <p:nvSpPr>
          <p:cNvPr id="10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 of work</a:t>
            </a:r>
            <a:r>
              <a:rPr b="0" lang="en-US" sz="2200" spc="-1" strike="noStrike">
                <a:solidFill>
                  <a:srgbClr val="000000"/>
                </a:solidFill>
                <a:latin typeface="Arial"/>
              </a:rPr>
              <a:t> · Novella</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re</a:t>
            </a:r>
            <a:r>
              <a:rPr b="0" lang="en-US" sz="2200" spc="-1" strike="noStrike">
                <a:solidFill>
                  <a:srgbClr val="000000"/>
                </a:solidFill>
                <a:latin typeface="Arial"/>
              </a:rPr>
              <a:t> · </a:t>
            </a:r>
            <a:r>
              <a:rPr b="0" lang="en-US" sz="2200" spc="-1" strike="noStrike" u="sng">
                <a:solidFill>
                  <a:srgbClr val="000000"/>
                </a:solidFill>
                <a:uFillTx/>
                <a:latin typeface="Arial"/>
              </a:rPr>
              <a:t>Anti</a:t>
            </a:r>
            <a:r>
              <a:rPr b="0" lang="en-US" sz="2200" spc="-1" strike="noStrike">
                <a:solidFill>
                  <a:srgbClr val="000000"/>
                </a:solidFill>
                <a:latin typeface="Arial"/>
              </a:rPr>
              <a:t>-Utopian (The world presented is the world as it should NOT be.)</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 and place written</a:t>
            </a:r>
            <a:r>
              <a:rPr b="0" lang="en-US" sz="2200" spc="-1" strike="noStrike">
                <a:solidFill>
                  <a:srgbClr val="000000"/>
                </a:solidFill>
                <a:latin typeface="Arial"/>
              </a:rPr>
              <a:t> · The United States, 1937</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rrator</a:t>
            </a:r>
            <a:r>
              <a:rPr b="0" lang="en-US" sz="2200" spc="-1" strike="noStrike">
                <a:solidFill>
                  <a:srgbClr val="000000"/>
                </a:solidFill>
                <a:latin typeface="Arial"/>
              </a:rPr>
              <a:t> · Equality 7-2521 writes the journal of the events as they transpire over the course of several months.</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 of view</a:t>
            </a:r>
            <a:r>
              <a:rPr b="0" lang="en-US" sz="2200" spc="-1" strike="noStrike">
                <a:solidFill>
                  <a:srgbClr val="000000"/>
                </a:solidFill>
                <a:latin typeface="Arial"/>
              </a:rPr>
              <a:t> · Equality 7-2521 speaks in the first person (plural) He will refer to himself as “we” instead of “I.”</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ne</a:t>
            </a:r>
            <a:r>
              <a:rPr b="0" lang="en-US" sz="2200" spc="-1" strike="noStrike">
                <a:solidFill>
                  <a:srgbClr val="000000"/>
                </a:solidFill>
                <a:latin typeface="Arial"/>
              </a:rPr>
              <a:t> · Equality 7-2521 records his thoughts and actions in a straightforward manner, with no trace of irony.</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nse</a:t>
            </a:r>
            <a:r>
              <a:rPr b="0" lang="en-US" sz="2200" spc="-1" strike="noStrike">
                <a:solidFill>
                  <a:srgbClr val="000000"/>
                </a:solidFill>
                <a:latin typeface="Arial"/>
              </a:rPr>
              <a:t> · Present, with some past-tense narration</a:t>
            </a:r>
            <a:endParaRPr b="0" lang="en-US" sz="2200" spc="-1" strike="noStrike">
              <a:solidFill>
                <a:srgbClr val="000000"/>
              </a:solidFill>
              <a:latin typeface="Arial"/>
            </a:endParaRPr>
          </a:p>
        </p:txBody>
      </p:sp>
      <p:pic>
        <p:nvPicPr>
          <p:cNvPr id="102" name="Picture 4" descr=""/>
          <p:cNvPicPr/>
          <p:nvPr/>
        </p:nvPicPr>
        <p:blipFill>
          <a:blip r:embed="rId1"/>
          <a:stretch/>
        </p:blipFill>
        <p:spPr>
          <a:xfrm>
            <a:off x="533520" y="228600"/>
            <a:ext cx="70956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Key Facts</a:t>
            </a:r>
            <a:endParaRPr b="0" lang="en-US" sz="4200" spc="-1" strike="noStrike">
              <a:solidFill>
                <a:srgbClr val="006633"/>
              </a:solidFill>
              <a:latin typeface="Garamond"/>
            </a:endParaRPr>
          </a:p>
        </p:txBody>
      </p:sp>
      <p:sp>
        <p:nvSpPr>
          <p:cNvPr id="104" name="PlaceHolder 2"/>
          <p:cNvSpPr>
            <a:spLocks noGrp="1"/>
          </p:cNvSpPr>
          <p:nvPr>
            <p:ph/>
          </p:nvPr>
        </p:nvSpPr>
        <p:spPr>
          <a:xfrm>
            <a:off x="456840" y="1600200"/>
            <a:ext cx="7924680" cy="464832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ting</a:t>
            </a:r>
            <a:r>
              <a:rPr b="0" lang="en-US" sz="2600" spc="-1" strike="noStrike">
                <a:solidFill>
                  <a:srgbClr val="000000"/>
                </a:solidFill>
                <a:latin typeface="Arial"/>
              </a:rPr>
              <a:t> (time) · Sometime in the distant future, after the collapse of the social order because of the common acceptance of collectivist valu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ting</a:t>
            </a:r>
            <a:r>
              <a:rPr b="0" lang="en-US" sz="2600" spc="-1" strike="noStrike">
                <a:solidFill>
                  <a:srgbClr val="000000"/>
                </a:solidFill>
                <a:latin typeface="Arial"/>
              </a:rPr>
              <a:t> (place) · An unidentified city; much of the first half of </a:t>
            </a:r>
            <a:r>
              <a:rPr b="0" i="1" lang="en-US" sz="2600" spc="-1" strike="noStrike">
                <a:solidFill>
                  <a:srgbClr val="000000"/>
                </a:solidFill>
                <a:latin typeface="Arial"/>
              </a:rPr>
              <a:t>Anthem </a:t>
            </a:r>
            <a:r>
              <a:rPr b="0" lang="en-US" sz="2600" spc="-1" strike="noStrike">
                <a:solidFill>
                  <a:srgbClr val="000000"/>
                </a:solidFill>
                <a:latin typeface="Arial"/>
              </a:rPr>
              <a:t> is narrated from a tunnel underground where Equality 7-2521 is hiding, and the second half is narrated from a forest where he has taken refuge from a society that hates hi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tagonist</a:t>
            </a:r>
            <a:r>
              <a:rPr b="0" lang="en-US" sz="2600" spc="-1" strike="noStrike">
                <a:solidFill>
                  <a:srgbClr val="000000"/>
                </a:solidFill>
                <a:latin typeface="Arial"/>
              </a:rPr>
              <a:t> · Equality 7-2521</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ymbols</a:t>
            </a:r>
            <a:r>
              <a:rPr b="0" lang="en-US" sz="2600" spc="-1" strike="noStrike">
                <a:solidFill>
                  <a:srgbClr val="000000"/>
                </a:solidFill>
                <a:latin typeface="Arial"/>
              </a:rPr>
              <a:t> · Light; the forest; manuscripts</a:t>
            </a:r>
            <a:endParaRPr b="0" lang="en-US" sz="2600" spc="-1" strike="noStrike">
              <a:solidFill>
                <a:srgbClr val="000000"/>
              </a:solidFill>
              <a:latin typeface="Arial"/>
            </a:endParaRPr>
          </a:p>
        </p:txBody>
      </p:sp>
      <p:pic>
        <p:nvPicPr>
          <p:cNvPr id="105" name="Picture 4" descr=""/>
          <p:cNvPicPr/>
          <p:nvPr/>
        </p:nvPicPr>
        <p:blipFill>
          <a:blip r:embed="rId1"/>
          <a:stretch/>
        </p:blipFill>
        <p:spPr>
          <a:xfrm>
            <a:off x="533520" y="228600"/>
            <a:ext cx="70956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y Literary Terms</a:t>
            </a:r>
            <a:endParaRPr b="0" lang="en-US" sz="4200" spc="-1" strike="noStrike">
              <a:solidFill>
                <a:srgbClr val="006633"/>
              </a:solidFill>
              <a:latin typeface="Garamond"/>
            </a:endParaRPr>
          </a:p>
        </p:txBody>
      </p:sp>
      <p:sp>
        <p:nvSpPr>
          <p:cNvPr id="10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Theme: </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central or dominant idea behind the story; the most important aspect that emerges from how the book treats the subject</a:t>
            </a:r>
            <a:endParaRPr b="0" lang="en-US" sz="2200" spc="-1" strike="noStrike">
              <a:solidFill>
                <a:srgbClr val="000000"/>
              </a:solidFill>
              <a:latin typeface="Arial"/>
            </a:endParaRPr>
          </a:p>
          <a:p>
            <a:pPr marL="343080" indent="-343080">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 of View:</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position or vantage point from which the events of a story seem to come and are presented to the reader</a:t>
            </a:r>
            <a:endParaRPr b="0" lang="en-US" sz="2200" spc="-1" strike="noStrike">
              <a:solidFill>
                <a:srgbClr val="000000"/>
              </a:solidFill>
              <a:latin typeface="Arial"/>
            </a:endParaRPr>
          </a:p>
          <a:p>
            <a:pPr marL="343080" indent="-343080">
              <a:lnSpc>
                <a:spcPct val="8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Setting:</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hen and where the short story, play, or novel takes place</a:t>
            </a:r>
            <a:endParaRPr b="0" lang="en-US" sz="2200" spc="-1" strike="noStrike">
              <a:solidFill>
                <a:srgbClr val="000000"/>
              </a:solidFill>
              <a:latin typeface="Arial"/>
            </a:endParaRPr>
          </a:p>
          <a:p>
            <a:pPr marL="343080" indent="-343080">
              <a:lnSpc>
                <a:spcPct val="80000"/>
              </a:lnSpc>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Narrator:</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one who tells the story</a:t>
            </a:r>
            <a:endParaRPr b="0" lang="en-US" sz="2200" spc="-1" strike="noStrike">
              <a:solidFill>
                <a:srgbClr val="000000"/>
              </a:solidFill>
              <a:latin typeface="Arial"/>
            </a:endParaRPr>
          </a:p>
          <a:p>
            <a:pPr marL="343080" indent="-343080">
              <a:lnSpc>
                <a:spcPct val="80000"/>
              </a:lnSpc>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Motif:</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recurrent device, formula, or situation that often serves  as a signal for the appearance of a character or e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llectivism vs. Individualism</a:t>
            </a:r>
            <a:endParaRPr b="0" lang="en-US" sz="4200" spc="-1" strike="noStrike">
              <a:solidFill>
                <a:srgbClr val="006633"/>
              </a:solidFill>
              <a:latin typeface="Garamond"/>
            </a:endParaRPr>
          </a:p>
        </p:txBody>
      </p:sp>
      <p:sp>
        <p:nvSpPr>
          <p:cNvPr id="109"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Collectivism</a:t>
            </a:r>
            <a:r>
              <a:rPr b="0" lang="en-US" sz="2600" spc="-1" strike="noStrike">
                <a:solidFill>
                  <a:srgbClr val="000000"/>
                </a:solidFill>
                <a:latin typeface="Arial"/>
              </a:rPr>
              <a:t> – the subjugation of the individual to the group – whether to a race, class, or state does not matter.  In </a:t>
            </a:r>
            <a:r>
              <a:rPr b="0" i="1" lang="en-US" sz="2600" spc="-1" strike="noStrike">
                <a:solidFill>
                  <a:srgbClr val="000000"/>
                </a:solidFill>
                <a:latin typeface="Arial"/>
              </a:rPr>
              <a:t>Anthem</a:t>
            </a:r>
            <a:r>
              <a:rPr b="0" lang="en-US" sz="2600" spc="-1" strike="noStrike">
                <a:solidFill>
                  <a:srgbClr val="000000"/>
                </a:solidFill>
                <a:latin typeface="Arial"/>
              </a:rPr>
              <a:t>, Ayn Rand will present a collectivist society that is stagnant and primitive, and the word "I" is obsolet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individual . . .</a:t>
            </a:r>
            <a:endParaRPr b="0" lang="en-US" sz="2600" spc="-1" strike="noStrike">
              <a:solidFill>
                <a:srgbClr val="000000"/>
              </a:solidFill>
              <a:latin typeface="Arial"/>
            </a:endParaRPr>
          </a:p>
          <a:p>
            <a:pPr lvl="1" marL="669960" indent="-32544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owned by the group</a:t>
            </a:r>
            <a:endParaRPr b="0" lang="en-US" sz="2200" spc="-1" strike="noStrike">
              <a:solidFill>
                <a:srgbClr val="000000"/>
              </a:solidFill>
              <a:latin typeface="Arial"/>
            </a:endParaRPr>
          </a:p>
          <a:p>
            <a:pPr lvl="1" marL="669960" indent="-325440">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no right to a private existence</a:t>
            </a:r>
            <a:endParaRPr b="0" lang="en-US" sz="2200" spc="-1" strike="noStrike">
              <a:solidFill>
                <a:srgbClr val="000000"/>
              </a:solidFill>
              <a:latin typeface="Arial"/>
            </a:endParaRPr>
          </a:p>
          <a:p>
            <a:pPr lvl="1" marL="669960" indent="-325440">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no right to lead his own life, pursue his own happiness, or use his own property</a:t>
            </a:r>
            <a:endParaRPr b="0" lang="en-US" sz="2200" spc="-1" strike="noStrike">
              <a:solidFill>
                <a:srgbClr val="000000"/>
              </a:solidFill>
              <a:latin typeface="Arial"/>
            </a:endParaRPr>
          </a:p>
          <a:p>
            <a:pPr lvl="1" marL="669960" indent="-325440">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ists</a:t>
            </a:r>
            <a:r>
              <a:rPr b="0" lang="en-US" sz="2200" spc="-1" strike="noStrike" u="sng">
                <a:solidFill>
                  <a:srgbClr val="000000"/>
                </a:solidFill>
                <a:uFillTx/>
                <a:latin typeface="Arial"/>
              </a:rPr>
              <a:t> only </a:t>
            </a:r>
            <a:r>
              <a:rPr b="0" lang="en-US" sz="2200" spc="-1" strike="noStrike">
                <a:solidFill>
                  <a:srgbClr val="000000"/>
                </a:solidFill>
                <a:latin typeface="Arial"/>
              </a:rPr>
              <a:t>as part of the group</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llectivism vs. Individualism</a:t>
            </a:r>
            <a:endParaRPr b="0" lang="en-US" sz="4200" spc="-1" strike="noStrike">
              <a:solidFill>
                <a:srgbClr val="006633"/>
              </a:solidFill>
              <a:latin typeface="Garamond"/>
            </a:endParaRPr>
          </a:p>
        </p:txBody>
      </p:sp>
      <p:sp>
        <p:nvSpPr>
          <p:cNvPr id="11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dividualism/Objectivism</a:t>
            </a:r>
            <a:r>
              <a:rPr b="0" lang="en-US" sz="2600" spc="-1" strike="noStrike">
                <a:solidFill>
                  <a:srgbClr val="000000"/>
                </a:solidFill>
                <a:latin typeface="Arial"/>
              </a:rPr>
              <a:t>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individual . . .</a:t>
            </a:r>
            <a:endParaRPr b="0" lang="en-US" sz="2600" spc="-1" strike="noStrike">
              <a:solidFill>
                <a:srgbClr val="000000"/>
              </a:solidFill>
              <a:latin typeface="Arial"/>
            </a:endParaRPr>
          </a:p>
          <a:p>
            <a:pPr lvl="1" marL="669960" indent="-325440">
              <a:lnSpc>
                <a:spcPct val="8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rights</a:t>
            </a:r>
            <a:endParaRPr b="0" lang="en-US" sz="2200" spc="-1" strike="noStrike">
              <a:solidFill>
                <a:srgbClr val="000000"/>
              </a:solidFill>
              <a:latin typeface="Arial"/>
            </a:endParaRPr>
          </a:p>
          <a:p>
            <a:pPr lvl="1" marL="669960" indent="-325440">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run anyone else’s life, nor let anyone run theirs</a:t>
            </a:r>
            <a:endParaRPr b="0" lang="en-US" sz="2200" spc="-1" strike="noStrike">
              <a:solidFill>
                <a:srgbClr val="000000"/>
              </a:solidFill>
              <a:latin typeface="Arial"/>
            </a:endParaRPr>
          </a:p>
          <a:p>
            <a:pPr lvl="1" marL="669960" indent="-325440">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rule or be ruled</a:t>
            </a:r>
            <a:endParaRPr b="0" lang="en-US" sz="2200" spc="-1" strike="noStrike">
              <a:solidFill>
                <a:srgbClr val="000000"/>
              </a:solidFill>
              <a:latin typeface="Arial"/>
            </a:endParaRPr>
          </a:p>
          <a:p>
            <a:pPr lvl="1" marL="669960" indent="-325440">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be a master nor a slave</a:t>
            </a:r>
            <a:endParaRPr b="0" lang="en-US" sz="2200" spc="-1" strike="noStrike">
              <a:solidFill>
                <a:srgbClr val="000000"/>
              </a:solidFill>
              <a:latin typeface="Arial"/>
            </a:endParaRPr>
          </a:p>
          <a:p>
            <a:pPr lvl="1" marL="669960" indent="-325440">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sacrifice themselves to anyone, nor sacrifice anyone to themselv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flessness</a:t>
            </a:r>
            <a:endParaRPr b="0" lang="en-US" sz="4200" spc="-1" strike="noStrike">
              <a:solidFill>
                <a:srgbClr val="006633"/>
              </a:solidFill>
              <a:latin typeface="Garamond"/>
            </a:endParaRPr>
          </a:p>
        </p:txBody>
      </p:sp>
      <p:sp>
        <p:nvSpPr>
          <p:cNvPr id="113"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Anthem</a:t>
            </a:r>
            <a:r>
              <a:rPr b="0" lang="en-US" sz="2100" spc="-1" strike="noStrike">
                <a:solidFill>
                  <a:srgbClr val="000000"/>
                </a:solidFill>
                <a:latin typeface="Arial"/>
              </a:rPr>
              <a:t> dramatizes the view that the self is destroyed in a collectivist societ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lflessness is shown in the following ways:</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ne has a personal name because under collectivism, individuals are interchangeabl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efer one person over another (as a friend or romantic partner) is committing the cardinal sin known as the “Transgression of Preferenc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wrong to disagree, to have independent thoughts, or to ask questions because these things will set you apart from other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assertion is forbidden.</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ecisions are made by the “Council” in the name of the whol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have no right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thing which is not permitted by the law is forbid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flessness (cont’d)</a:t>
            </a:r>
            <a:endParaRPr b="0" lang="en-US" sz="4200" spc="-1" strike="noStrike">
              <a:solidFill>
                <a:srgbClr val="006633"/>
              </a:solidFill>
              <a:latin typeface="Garamond"/>
            </a:endParaRPr>
          </a:p>
        </p:txBody>
      </p:sp>
      <p:sp>
        <p:nvSpPr>
          <p:cNvPr id="115" name="PlaceHolder 2"/>
          <p:cNvSpPr>
            <a:spLocks noGrp="1"/>
          </p:cNvSpPr>
          <p:nvPr>
            <p:ph/>
          </p:nvPr>
        </p:nvSpPr>
        <p:spPr>
          <a:xfrm>
            <a:off x="457200" y="1142640"/>
            <a:ext cx="5105520" cy="4987800"/>
          </a:xfrm>
          <a:prstGeom prst="rect">
            <a:avLst/>
          </a:prstGeom>
          <a:noFill/>
          <a:ln w="0">
            <a:noFill/>
          </a:ln>
        </p:spPr>
        <p:txBody>
          <a:bodyPr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them</a:t>
            </a:r>
            <a:r>
              <a:rPr b="0" lang="en-US" sz="2400" spc="-1" strike="noStrike">
                <a:solidFill>
                  <a:srgbClr val="000000"/>
                </a:solidFill>
                <a:latin typeface="Arial"/>
              </a:rPr>
              <a:t>  depicts what happens to a society that implements selflessness.  The result is what Ayn Rand believes is a subhuman society; what makes human beings human is having a self, which means having a mind.</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lfless individual is a mindless individual.</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t>
            </a:r>
            <a:r>
              <a:rPr b="0" i="1" lang="en-US" sz="2400" spc="-1" strike="noStrike">
                <a:solidFill>
                  <a:srgbClr val="000000"/>
                </a:solidFill>
                <a:latin typeface="Arial"/>
              </a:rPr>
              <a:t>Anthem.</a:t>
            </a:r>
            <a:endParaRPr b="0" lang="en-US" sz="2400" spc="-1" strike="noStrike">
              <a:solidFill>
                <a:srgbClr val="000000"/>
              </a:solidFill>
              <a:latin typeface="Arial"/>
            </a:endParaRPr>
          </a:p>
        </p:txBody>
      </p:sp>
      <p:pic>
        <p:nvPicPr>
          <p:cNvPr id="116" name="Picture 4" descr=""/>
          <p:cNvPicPr/>
          <p:nvPr/>
        </p:nvPicPr>
        <p:blipFill>
          <a:blip r:embed="rId1"/>
          <a:stretch/>
        </p:blipFill>
        <p:spPr>
          <a:xfrm>
            <a:off x="6553080" y="3733920"/>
            <a:ext cx="1457280" cy="2189160"/>
          </a:xfrm>
          <a:prstGeom prst="rect">
            <a:avLst/>
          </a:prstGeom>
          <a:ln w="0">
            <a:noFill/>
          </a:ln>
        </p:spPr>
      </p:pic>
      <p:pic>
        <p:nvPicPr>
          <p:cNvPr id="117" name="Picture 7" descr="aar_index_6"/>
          <p:cNvPicPr/>
          <p:nvPr/>
        </p:nvPicPr>
        <p:blipFill>
          <a:blip r:embed="rId2"/>
          <a:stretch/>
        </p:blipFill>
        <p:spPr>
          <a:xfrm>
            <a:off x="5867280" y="1447920"/>
            <a:ext cx="2867040" cy="174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3T00:39:22Z</dcterms:created>
  <dc:creator>Lisa LeAnn Ward</dc:creator>
  <dc:description/>
  <dc:language>en-US</dc:language>
  <cp:lastModifiedBy>RomaK</cp:lastModifiedBy>
  <dcterms:modified xsi:type="dcterms:W3CDTF">2015-09-04T10:35:19Z</dcterms:modified>
  <cp:revision>29</cp:revision>
  <dc:subject/>
  <dc:title> Anthem</dc:title>
</cp:coreProperties>
</file>