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pacta Blk BT"/>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C3ABE-D560-49B3-B989-107FA22CF361}"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br>
              <a:rPr sz="1200"/>
            </a:b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the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Ayn Ran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905-1982)</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br>
              <a:rPr sz="1200"/>
            </a:b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Ayn 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905-198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Will</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eople have free will, they can make choices, make up their own mind, makes decisions, and can direct their own lives by the ideas and values they adopt.</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them all the characters actually have free will, although most will believe that they do not.  It appears that all the individuals are brainwashed, with no power to control their own live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e so-called “robots” who submit to the authorities have free will; they are robots by choice – they were not forced to obey.  They do so voluntaril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acters in Anthem  are depressed, without hope or ambition.  They make no effort to accomplish anything and merely go along with order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yn Rand holds that free will means “the choice to think or not.”  Most of the characters have chosen not to think.</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character in Anthem  will rely on his own judgment rather than to take the beliefs of his leaders as automatically true.   Therefore, free will is exercise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eople have free will, they can make choices, make up their own mind, makes decisions, and can direct their own lives by the ideas and values they ado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them all the characters actually have free will, although most will believe that they do not.  It appears that all the individuals are brainwashed, with no power to control their own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e so-called “robots” who submit to the authorities have free will; they are robots by choice – they were not forced to obey.  They do so voluntar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acters in Anthem  are depressed, without hope or ambition.  They make no effort to accomplish anything and merely go along with or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yn Rand holds that free will means “the choice to think or not.”  Most of the characters have chosen not to th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character in Anthem  will rely on his own judgment rather than to take the beliefs of his leaders as automatically true.   Therefore, free will is exerc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tif is a recurrent device, formula, or situation that often serves as a signal for the appearance of a character or event. The following motifs are present in Anthe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darkness and light</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ce of ignorance and knowledg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 of transgression and damnation</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tif is a recurrent device, formula, or situation that often serves as a signal for the appearance of a character or event. The following motifs are present in An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darkness an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ce of ignorance and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 of transgression and dam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s (cont’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r</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r in Anthem characterizes those social lepers who do not have enough sense of themselves to understand that each individual is the center of his or her univers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ing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ociety in Anthem, naming is a form of identifying one’s possessions as one’s own. For this reason, Equality 7-2521 names the Golden One on two separate occasions, names himself, and searches relentlessly for the word “I.”</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elessnes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fear, shapelessness in Anthem connotes evil because it illustrates a lack of willingness or ability to believe in something and to stand behind it.</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s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r in Anthem characterizes those social lepers who do not have enough sense of themselves to understand that each individual is the center of his or her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ociety in Anthem, naming is a form of identifying one’s possessions as one’s own. For this reason, Equality 7-2521 names the Golden One on two separate occasions, names himself, and searches relentlessly for the word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eles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fear, shapelessness in Anthem connotes evil because it illustrates a lack of willingness or ability to believe in something and to stand behi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s of Importanc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Infan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Studen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lace of Mating</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Street Sweepers, Scholars, Leaders . .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Peasan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the Useles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lace of Corrective Detention</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Cesspool</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Theater</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harted Forest</a:t>
            </a:r>
            <a:br>
              <a:rPr sz="1200"/>
            </a:b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s of Impor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Inf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lace of M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Street Sweepers, Scholars, Leaders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Peas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the Use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lace of Corrective Det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Cessp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The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harted Forest</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Characters &amp; Organization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 &gt; The Unconquered &gt;Prometheu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 &gt; The Golden One &gt; Gaea</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ternity 2-5503</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4-8818</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idarity 9-6347</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on 5-3992</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gressor of the Unspeakable Wor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int of the Pyr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Organization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cil of Eugenic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cil of Vocation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Council of Scholar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Characters &amp; 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 &gt; The Unconquered &gt;Prometh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 &gt; The Golden One &gt; Ga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ternity 2-55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4-88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idarity 9-63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on 5-399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gressor of the Unspeakable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int of the Py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cil of Euge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cil of Vo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Council of Schol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s New Nam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conquere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etheu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eek mythology, Prometheus surpassed all in cunning and deceit.  He held no awe for the gods, and he ridiculed Zeus.  Prometheus was the creator of man.  He stole fire from heaven and gave it to his human creation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s New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conqu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eth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eek mythology, Prometheus surpassed all in cunning and deceit.  He held no awe for the gods, and he ridiculed Zeus.  Prometheus was the creator of man.  He stole fire from heaven and gave it to his human cre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s New Name</a:t>
            </a:r>
            <a:br>
              <a:rPr sz="1200"/>
            </a:b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lden On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ea</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eek mythology, Gaea is known as Earth or Mother Earth. She is considered the primeval divinity of earth, one of the primal elements who first emerged at the dawn of creation, along with air, sea, and sky. She was the great mother of all.</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s New Nam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lden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eek mythology, Gaea is known as Earth or Mother Earth. She is considered the primeval divinity of earth, one of the primal elements who first emerged at the dawn of creation, along with air, sea, and sky. She was the great mother of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yn Rand Institute (ARI)</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yn Rand Institute (ARI) is a nonprofit organization that works to introduce young people to Ayn Rand's novels, to support scholarship and research based on her ideas, and to promote the principles of reason, rational self-interest, individual rights and laissez-faire capitalism to the widest possible audience.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ARI objective is to cultivate a generation of intellectuals who will be effective advocates for the fundamentals of reason, rational self-interest, individual rights and capitalism. These professionals will be capable of articulating those ideas, at the highest level, to peers and students through publishing and teaching.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I gives free copies of Ayn Rand’s novels to teachers and classrooms all over the worl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I also gives out thousands of dollars each year through its essay contes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ynrand.org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yn Rand Institute (AR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yn Rand Institute (ARI) is a nonprofit organization that works to introduce young people to Ayn Rand's novels, to support scholarship and research based on her ideas, and to promote the principles of reason, rational self-interest, individual rights and laissez-faire capitalism to the widest possible aud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ARI objective is to cultivate a generation of intellectuals who will be effective advocates for the fundamentals of reason, rational self-interest, individual rights and capitalism. These professionals will be capable of articulating those ideas, at the highest level, to peers and students through publishing and teac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I gives free copies of Ayn Rand’s novels to teachers and classrooms all over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I also gives out thousands of dollars each year through its essay con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ynrand.or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yn Ran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was born in St. Petersburg, Russia, on February 2, 1905.</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opposed the mysticism and collectivism of Russian cultur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witnessed both the Kerensky and Bolshevik Revolutions during her teenage years in Russia.</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unist victory in Russia resulted in the confiscation of her father's pharmacy and periods of near-starvation for her famil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ntroduced to American history in her last year of high school, she immediately took America as her model of what a nation of free men could b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late 1925 she obtained permission to leave Soviet Russia for a visit to relatives in the United States.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she told Soviet authorities that her visit would be short, she was determined never to return to Russia, and she never di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yn 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was born in St. Petersburg, Russia, on February 2, 19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opposed the mysticism and collectivism of Russian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witnessed both the Kerensky and Bolshevik Revolutions during her teenage years in Rus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unist victory in Russia resulted in the confiscation of her father's pharmacy and periods of near-starvation for her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ntroduced to American history in her last year of high school, she immediately took America as her model of what a nation of free men could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late 1925 she obtained permission to leave Soviet Russia for a visit to relatives in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she told Soviet authorities that her visit would be short, she was determined never to return to Russia, and she never d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ey Fac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of work · Novella</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re · Anti-Utopian (The world presented is the world as it should NOT b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and place written · The United States, 1937</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rator · Equality 7-2521 writes the journal of the events as they transpire over the course of several month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f view · Equality 7-2521 speaks in the first person (plural) He will refer to himself as “we” instead of “I.”</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e · Equality 7-2521 records his thoughts and actions in a straightforward manner, with no trace of iron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nse · Present, with some past-tense narration</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ey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of work · Nove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re · Anti-Utopian (The world presented is the world as it should NOT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and place written · The United States, 19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rator · Equality 7-2521 writes the journal of the events as they transpire over the course of several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f view · Equality 7-2521 speaks in the first person (plural) He will refer to himself as “we” instead of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e · Equality 7-2521 records his thoughts and actions in a straightforward manner, with no trace of iro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nse · Present, with some past-tense nar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ey Fac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ime) · Sometime in the distant future, after the collapse of the social order because of the common acceptance of collectivist value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place) · An unidentified city; much of the first half of Anthem  is narrated from a tunnel underground where Equality 7-2521 is hiding, and the second half is narrated from a forest where he has taken refuge from a society that hates hi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agonist · Equality 7-2521</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s · Light; the forest; manuscrip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ey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ime) · Sometime in the distant future, after the collapse of the social order because of the common acceptance of collectivist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place) · An unidentified city; much of the first half of Anthem  is narrated from a tunnel underground where Equality 7-2521 is hiding, and the second half is narrated from a forest where he has taken refuge from a society that hates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agonist · Equality 7-25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s · Light; the forest; manu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Literary Term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entral or dominant idea behind the story; the most important aspect that emerges from how the book treats the subject</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f View:</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osition or vantage point from which the events of a story seem to come and are presented to the reader</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and where the short story, play, or novel takes plac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rator:</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one who tells the stor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recurrent device, formula, or situation that often serves  as a signal for the appearance of a character or event</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Literary 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entral or dominant idea behind the story; the most important aspect that emerges from how the book treats the su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f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osition or vantage point from which the events of a story seem to come and are presented to the rea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and where the short story, play, or novel takes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one who tells th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recurrent device, formula, or situation that often serves  as a signal for the appearance of a character or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vs. Individualis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 the subjugation of the individual to the group – whether to a race, class, or state does not matter.  In Anthem, Ayn Rand will present a collectivist society that is stagnant and primitive, and the word "I" is obsolet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dividual . .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owned by the group</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no right to a private existenc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no right to lead his own life, pursue his own happiness, or use his own propert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s only as part of the group</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vs. Individu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 the subjugation of the individual to the group – whether to a race, class, or state does not matter.  In Anthem, Ayn Rand will present a collectivist society that is stagnant and primitive, and the word "I" is obsol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dividual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owned by the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no right to a private ex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no right to lead his own life, pursue his own happiness, or use his own prop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s only as part of the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vs. Individualis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ism/Objectivism – regards every man as an independent, sovereign entity who possesses an inalienable right to his own life, a right derived from his nature as a rational being.  Individualism does not mean that one can do whatever he feels like doing; it means that every man or woman is an individual and has the same righ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dividual . .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righ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run anyone else’s life, nor let anyone run their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rule or be rule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be a master nor a slav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sacrifice themselves to anyone, nor sacrifice anyone to themselves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vs. Individu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ism/Objectivism – regards every man as an independent, sovereign entity who possesses an inalienable right to his own life, a right derived from his nature as a rational being.  Individualism does not mean that one can do whatever he feels like doing; it means that every man or woman is an individual and has the sam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dividual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run anyone else’s life, nor let anyone run the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rule or be r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be a master nor a sl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sacrifice themselves to anyone, nor sacrifice anyone to themsel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hem dramatizes the view that the self is destroyed in a collectivist societ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 is shown in the following way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has a personal name because under collectivism, individuals are interchangeabl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fer one person over another (as a friend or romantic partner) is committing the cardinal sin known as the “Transgression of Preferenc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wrong to disagree, to have independent thoughts, or to ask questions because these things will set you apart from other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assertion is forbidden.</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decisions are made by the “Council” in the name of the whol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s have no righ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which is not permitted by the law is forbidden.</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hem dramatizes the view that the self is destroyed in a collectivist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 is shown in the following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has a personal name because under collectivism, individuals are interchang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fer one person over another (as a friend or romantic partner) is committing the cardinal sin known as the “Transgression of P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wrong to disagree, to have independent thoughts, or to ask questions because these things will set you apart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assertion is forb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decisions are made by the “Council” in the name of the w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s have no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which is not permitted by the law is forb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 (cont’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hem  depicts what happens to a society that implements selflessness.  The result is what Ayn Rand believes is a subhuman society; what makes human beings human is having a self, which means having a min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lfless individual is a mindless individual.</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actice selflessness, one must abstain from thinking and obey one’s masters.  One must merge himself into the group and obliterate the individual identity.  The result is a society of mindless robots as found in Anthe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hem  depicts what happens to a society that implements selflessness.  The result is what Ayn Rand believes is a subhuman society; what makes human beings human is having a self, which means having a m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lfless individual is a mindless individ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actice selflessness, one must abstain from thinking and obey one’s masters.  One must merge himself into the group and obliterate the individual identity.  The result is a society of mindless robots as found in An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89C2DF-DE5B-48C6-8A73-1658E2B360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E22FE-15C9-4154-9FA9-F41AD5F02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3CCC00-5DD3-4EDC-9A04-9B18677C32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519555-DB05-4B73-BF0C-6EA84FEC69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DA2A13-8812-41AB-9B3A-85AA1C2722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FFC9FE-4EA1-4FE1-866A-97ACC8F2E3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A96B98-45FA-4CA5-A8AB-873BA7B255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CB1499-5B3A-4A10-A5B9-54D8F9425F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8C134B-2D42-422B-B64D-6283514C08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4E5BCA-204A-4528-9C4F-1A55A91841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FC270D-4F18-4DF9-941D-A8EF36D6DB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A6D46-6031-4AAD-9A57-9D1692C9A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F859E-A902-42B9-9394-9B5F3EC78B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7A149-F900-41CE-AC19-65B6930CD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788E4D-C471-498B-B7FC-B80A7286C4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10AB7C-B617-41BF-858F-86F9CF5642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84668A-5284-4406-8DEF-4280708A59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DE532-F70A-4F76-ACC6-744E1F16E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B44FD-8ADC-4F2C-AB8F-F60EC1685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7D6D3-2643-4FF0-96F7-82624F0B7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6974B-37DF-400E-8771-01EB38478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540EA-456A-4253-B79A-67FB11512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9F18A-0B9C-462F-967C-079739649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D2728-88B2-45C1-AFB6-DF6DAC6C39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pacta Blk BT"/>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pacta Blk BT"/>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F8233-8826-4556-86F8-04801908B6A8}"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pacta Blk BT"/>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pacta Blk B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pacta Blk BT"/>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pacta Blk BT"/>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pacta Blk BT"/>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pacta Blk BT"/>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AFE21-F062-4909-9A6D-8F496081F86A}"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en.wikipedia.org/wiki/Image:Ayn_Rand1.jpg" TargetMode="External"/><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aynrand.org/"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990720"/>
            <a:ext cx="7623000" cy="1218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	</a:t>
            </a:r>
            <a:r>
              <a:rPr b="0" lang="en-US" sz="4600" spc="-1" strike="noStrike">
                <a:solidFill>
                  <a:srgbClr val="006633"/>
                </a:solidFill>
                <a:latin typeface="Garamond"/>
              </a:rPr>
              <a:t>	</a:t>
            </a:r>
            <a:br>
              <a:rPr sz="4600"/>
            </a:br>
            <a:r>
              <a:rPr b="0" lang="en-US" sz="4600" spc="-1" strike="noStrike">
                <a:solidFill>
                  <a:srgbClr val="006633"/>
                </a:solidFill>
                <a:latin typeface="Garamond"/>
              </a:rPr>
              <a:t>	</a:t>
            </a:r>
            <a:r>
              <a:rPr b="0" lang="en-US" sz="4600" spc="-1" strike="noStrike">
                <a:solidFill>
                  <a:srgbClr val="006633"/>
                </a:solidFill>
                <a:latin typeface="Garamond"/>
              </a:rPr>
              <a:t>	</a:t>
            </a:r>
            <a:r>
              <a:rPr b="0" lang="en-US" sz="8000" spc="-1" strike="noStrike">
                <a:solidFill>
                  <a:srgbClr val="006633"/>
                </a:solidFill>
                <a:latin typeface="Calligrapher"/>
              </a:rPr>
              <a:t>Anthem</a:t>
            </a:r>
            <a:endParaRPr b="0" lang="en-US" sz="8000" spc="-1" strike="noStrike">
              <a:solidFill>
                <a:srgbClr val="006633"/>
              </a:solidFill>
              <a:latin typeface="Garamond"/>
            </a:endParaRPr>
          </a:p>
        </p:txBody>
      </p:sp>
      <p:sp>
        <p:nvSpPr>
          <p:cNvPr id="94" name="PlaceHolder 2"/>
          <p:cNvSpPr>
            <a:spLocks noGrp="1"/>
          </p:cNvSpPr>
          <p:nvPr>
            <p:ph type="subTitle"/>
          </p:nvPr>
        </p:nvSpPr>
        <p:spPr>
          <a:xfrm>
            <a:off x="457200" y="4267080"/>
            <a:ext cx="5105520" cy="1447920"/>
          </a:xfrm>
          <a:prstGeom prst="rect">
            <a:avLst/>
          </a:prstGeom>
          <a:noFill/>
          <a:ln w="0">
            <a:noFill/>
          </a:ln>
        </p:spPr>
        <p:txBody>
          <a:bodyPr anchor="t">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ligrapher"/>
              </a:rPr>
              <a:t>	</a:t>
            </a:r>
            <a:r>
              <a:rPr b="0" lang="en-US" sz="4800" spc="-1" strike="noStrike">
                <a:solidFill>
                  <a:srgbClr val="000000"/>
                </a:solidFill>
                <a:latin typeface="Calligrapher"/>
              </a:rPr>
              <a:t>By Ayn Rand</a:t>
            </a:r>
            <a:endParaRPr b="0" lang="en-US" sz="4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ligrapher"/>
              </a:rPr>
              <a:t>                  </a:t>
            </a:r>
            <a:r>
              <a:rPr b="0" lang="en-US" sz="2800" spc="-1" strike="noStrike">
                <a:solidFill>
                  <a:srgbClr val="000000"/>
                </a:solidFill>
                <a:latin typeface="Calligrapher"/>
              </a:rPr>
              <a:t>(1905-1982)</a:t>
            </a:r>
            <a:endParaRPr b="0" lang="en-US" sz="2800" spc="-1" strike="noStrike">
              <a:solidFill>
                <a:srgbClr val="000000"/>
              </a:solidFill>
              <a:latin typeface="Arial"/>
            </a:endParaRPr>
          </a:p>
        </p:txBody>
      </p:sp>
      <p:pic>
        <p:nvPicPr>
          <p:cNvPr id="95" name="Picture 4" descr=""/>
          <p:cNvPicPr/>
          <p:nvPr/>
        </p:nvPicPr>
        <p:blipFill>
          <a:blip r:embed="rId1"/>
          <a:stretch/>
        </p:blipFill>
        <p:spPr>
          <a:xfrm>
            <a:off x="1600200" y="1371600"/>
            <a:ext cx="1152360" cy="1724040"/>
          </a:xfrm>
          <a:prstGeom prst="rect">
            <a:avLst/>
          </a:prstGeom>
          <a:ln w="0">
            <a:noFill/>
          </a:ln>
        </p:spPr>
      </p:pic>
      <p:pic>
        <p:nvPicPr>
          <p:cNvPr id="96" name="Picture 8" descr="Ayn_Rand1">
            <a:hlinkClick r:id="rId2"/>
          </p:cNvPr>
          <p:cNvPicPr/>
          <p:nvPr/>
        </p:nvPicPr>
        <p:blipFill>
          <a:blip r:embed="rId3"/>
          <a:stretch/>
        </p:blipFill>
        <p:spPr>
          <a:xfrm>
            <a:off x="5562720" y="3048120"/>
            <a:ext cx="2743200" cy="3409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ree Will</a:t>
            </a:r>
            <a:endParaRPr b="0" lang="en-US" sz="4200" spc="-1" strike="noStrike">
              <a:solidFill>
                <a:srgbClr val="006633"/>
              </a:solidFill>
              <a:latin typeface="Garamond"/>
            </a:endParaRPr>
          </a:p>
        </p:txBody>
      </p:sp>
      <p:sp>
        <p:nvSpPr>
          <p:cNvPr id="119" name="PlaceHolder 2"/>
          <p:cNvSpPr>
            <a:spLocks noGrp="1"/>
          </p:cNvSpPr>
          <p:nvPr>
            <p:ph/>
          </p:nvPr>
        </p:nvSpPr>
        <p:spPr>
          <a:xfrm>
            <a:off x="457200" y="1066320"/>
            <a:ext cx="8229600" cy="5064120"/>
          </a:xfrm>
          <a:prstGeom prst="rect">
            <a:avLst/>
          </a:prstGeom>
          <a:noFill/>
          <a:ln w="0">
            <a:noFill/>
          </a:ln>
        </p:spPr>
        <p:txBody>
          <a:bodyPr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en people have free will, they can make choices, make up their own mind, makes decisions, and can direct their own lives by the ideas and values they adopt.</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a:t>
            </a:r>
            <a:r>
              <a:rPr b="0" i="1" lang="en-US" sz="2100" spc="-1" strike="noStrike">
                <a:solidFill>
                  <a:srgbClr val="000000"/>
                </a:solidFill>
                <a:latin typeface="Arial"/>
              </a:rPr>
              <a:t>Anthem </a:t>
            </a:r>
            <a:r>
              <a:rPr b="0" lang="en-US" sz="2100" spc="-1" strike="noStrike">
                <a:solidFill>
                  <a:srgbClr val="000000"/>
                </a:solidFill>
                <a:latin typeface="Arial"/>
              </a:rPr>
              <a:t>all the characters actually have free will, although most will believe that they do not.  It appears that all the individuals are brainwashed, with no power to control their own lives.</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ven the so-called “robots” who submit to the authorities have free will; they are robots by choice – they were not forced to obey.  They do so voluntarily.</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haracters in </a:t>
            </a:r>
            <a:r>
              <a:rPr b="0" i="1" lang="en-US" sz="2100" spc="-1" strike="noStrike">
                <a:solidFill>
                  <a:srgbClr val="000000"/>
                </a:solidFill>
                <a:latin typeface="Arial"/>
              </a:rPr>
              <a:t>Anthem</a:t>
            </a:r>
            <a:r>
              <a:rPr b="0" lang="en-US" sz="2100" spc="-1" strike="noStrike">
                <a:solidFill>
                  <a:srgbClr val="000000"/>
                </a:solidFill>
                <a:latin typeface="Arial"/>
              </a:rPr>
              <a:t>  are depressed, without hope or ambition.  They make no effort to accomplish anything and merely go along with orders.</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yn Rand holds that free will means “the choice to think or not.”  Most of the characters have chosen not to think.</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main character in </a:t>
            </a:r>
            <a:r>
              <a:rPr b="0" i="1" lang="en-US" sz="2100" spc="-1" strike="noStrike">
                <a:solidFill>
                  <a:srgbClr val="000000"/>
                </a:solidFill>
                <a:latin typeface="Arial"/>
              </a:rPr>
              <a:t>Anthem</a:t>
            </a:r>
            <a:r>
              <a:rPr b="0" lang="en-US" sz="2100" spc="-1" strike="noStrike">
                <a:solidFill>
                  <a:srgbClr val="000000"/>
                </a:solidFill>
                <a:latin typeface="Arial"/>
              </a:rPr>
              <a:t>  will rely on his own judgment rather than to take the beliefs of his leaders as automatically true.   Therefore, free will is exercis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otifs</a:t>
            </a:r>
            <a:endParaRPr b="0" lang="en-US" sz="4200" spc="-1" strike="noStrike">
              <a:solidFill>
                <a:srgbClr val="006633"/>
              </a:solidFill>
              <a:latin typeface="Garamond"/>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motif is a recurrent device, formula, or situation that often serves as a signal for the appearance of a character or event. The following motifs are present in </a:t>
            </a:r>
            <a:r>
              <a:rPr b="0" i="1" lang="en-US" sz="3000" spc="-1" strike="noStrike">
                <a:solidFill>
                  <a:srgbClr val="000000"/>
                </a:solidFill>
                <a:latin typeface="Arial"/>
              </a:rPr>
              <a:t>Anthem</a:t>
            </a:r>
            <a:r>
              <a:rPr b="0" lang="en-US" sz="3000" spc="-1" strike="noStrike">
                <a:solidFill>
                  <a:srgbClr val="000000"/>
                </a:solidFill>
                <a:latin typeface="Arial"/>
              </a:rPr>
              <a:t>.</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use of darkness and light</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esence of ignorance and knowledg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dea of transgression and damn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otifs (cont’d)</a:t>
            </a:r>
            <a:endParaRPr b="0" lang="en-US" sz="4200" spc="-1" strike="noStrike">
              <a:solidFill>
                <a:srgbClr val="006633"/>
              </a:solidFill>
              <a:latin typeface="Garamond"/>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ar</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ear in </a:t>
            </a:r>
            <a:r>
              <a:rPr b="0" i="1" lang="en-US" sz="2200" spc="-1" strike="noStrike">
                <a:solidFill>
                  <a:srgbClr val="000000"/>
                </a:solidFill>
                <a:latin typeface="Arial"/>
              </a:rPr>
              <a:t>Anthem</a:t>
            </a:r>
            <a:r>
              <a:rPr b="0" lang="en-US" sz="2200" spc="-1" strike="noStrike">
                <a:solidFill>
                  <a:srgbClr val="000000"/>
                </a:solidFill>
                <a:latin typeface="Arial"/>
              </a:rPr>
              <a:t> characterizes those social lepers who do not have enough sense of themselves to understand that each individual is the center of his or her universe.</a:t>
            </a:r>
            <a:endParaRPr b="0" lang="en-US" sz="22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ming </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e society in </a:t>
            </a:r>
            <a:r>
              <a:rPr b="0" i="1" lang="en-US" sz="2200" spc="-1" strike="noStrike">
                <a:solidFill>
                  <a:srgbClr val="000000"/>
                </a:solidFill>
                <a:latin typeface="Arial"/>
              </a:rPr>
              <a:t>Anthem,</a:t>
            </a:r>
            <a:r>
              <a:rPr b="0" lang="en-US" sz="2200" spc="-1" strike="noStrike">
                <a:solidFill>
                  <a:srgbClr val="000000"/>
                </a:solidFill>
                <a:latin typeface="Arial"/>
              </a:rPr>
              <a:t> naming is a form of identifying one’s possessions as one’s own. For this reason, Equality 7-2521 names the Golden One on two separate occasions, names himself, and searches relentlessly for the word “I.”</a:t>
            </a:r>
            <a:endParaRPr b="0" lang="en-US" sz="22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apelessness</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ke fear, shapelessness in </a:t>
            </a:r>
            <a:r>
              <a:rPr b="0" i="1" lang="en-US" sz="2200" spc="-1" strike="noStrike">
                <a:solidFill>
                  <a:srgbClr val="000000"/>
                </a:solidFill>
                <a:latin typeface="Arial"/>
              </a:rPr>
              <a:t>Anthem</a:t>
            </a:r>
            <a:r>
              <a:rPr b="0" lang="en-US" sz="2200" spc="-1" strike="noStrike">
                <a:solidFill>
                  <a:srgbClr val="000000"/>
                </a:solidFill>
                <a:latin typeface="Arial"/>
              </a:rPr>
              <a:t> connotes evil because it illustrates a lack of willingness or ability to believe in something and to stand behind i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laces of Importance</a:t>
            </a:r>
            <a:endParaRPr b="0" lang="en-US" sz="4200" spc="-1" strike="noStrike">
              <a:solidFill>
                <a:srgbClr val="006633"/>
              </a:solidFill>
              <a:latin typeface="Garamond"/>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 of Infant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 of Student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lace of Mating</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 of Street Sweepers, Scholars, Leaders . . .</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 of Peasant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 of the Useles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lace of Corrective Detention</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ity Cesspool</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ity Theater</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charted Forest</a:t>
            </a:r>
            <a:br>
              <a:rPr sz="2600"/>
            </a:b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Key Characters &amp; Organizations</a:t>
            </a:r>
            <a:endParaRPr b="0" lang="en-US" sz="4200" spc="-1" strike="noStrike">
              <a:solidFill>
                <a:srgbClr val="006633"/>
              </a:solidFill>
              <a:latin typeface="Garamond"/>
            </a:endParaRPr>
          </a:p>
        </p:txBody>
      </p:sp>
      <p:sp>
        <p:nvSpPr>
          <p:cNvPr id="127"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quality 7-2521 &gt; The Unconquered &gt;Prometheu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berty 5-3000 &gt; The Golden One &gt; Gaea</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aternity 2-5503</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national 4-8818</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lidarity 9-6347</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ion 5-3992</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ransgressor of the Unspeakable Word</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aint of the Pyre</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Key Organizations:</a:t>
            </a:r>
            <a:endParaRPr b="0" lang="en-US" sz="22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cil of Eugenics</a:t>
            </a:r>
            <a:endParaRPr b="0" lang="en-US" sz="20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cil of Vocations</a:t>
            </a:r>
            <a:endParaRPr b="0" lang="en-US" sz="20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ld Council of Schola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quality 7-2521’s New Name</a:t>
            </a:r>
            <a:endParaRPr b="0" lang="en-US" sz="4200" spc="-1" strike="noStrike">
              <a:solidFill>
                <a:srgbClr val="006633"/>
              </a:solidFill>
              <a:latin typeface="Garamond"/>
            </a:endParaRPr>
          </a:p>
        </p:txBody>
      </p:sp>
      <p:sp>
        <p:nvSpPr>
          <p:cNvPr id="12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quality 7-2521</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Unconquered</a:t>
            </a:r>
            <a:endParaRPr b="0" lang="en-US" sz="22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etheus</a:t>
            </a:r>
            <a:endParaRPr b="0" lang="en-US" sz="2000" spc="-1" strike="noStrike">
              <a:solidFill>
                <a:srgbClr val="000000"/>
              </a:solidFill>
              <a:latin typeface="Arial"/>
            </a:endParaRPr>
          </a:p>
          <a:p>
            <a:pPr lvl="3" marL="1339920" indent="-31608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Greek mythology, Prometheus surpassed all in cunning and deceit.  He held no awe for the gods, and he ridiculed Zeus.  Prometheus was the creator of man.  He stole fire from heaven and gave it to his human creations.</a:t>
            </a:r>
            <a:endParaRPr b="0" lang="en-US" sz="1800" spc="-1" strike="noStrike">
              <a:solidFill>
                <a:srgbClr val="000000"/>
              </a:solidFill>
              <a:latin typeface="Arial"/>
            </a:endParaRPr>
          </a:p>
        </p:txBody>
      </p:sp>
      <p:pic>
        <p:nvPicPr>
          <p:cNvPr id="130" name="Picture 5" descr="Prometheus_--_Elsie_Russell"/>
          <p:cNvPicPr/>
          <p:nvPr/>
        </p:nvPicPr>
        <p:blipFill>
          <a:blip r:embed="rId1"/>
          <a:stretch/>
        </p:blipFill>
        <p:spPr>
          <a:xfrm>
            <a:off x="4876920" y="2057400"/>
            <a:ext cx="3581280" cy="2997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Liberty 5-3000’s New Name</a:t>
            </a:r>
            <a:br>
              <a:rPr sz="3800"/>
            </a:br>
            <a:endParaRPr b="0" lang="en-US" sz="3800" spc="-1" strike="noStrike">
              <a:solidFill>
                <a:srgbClr val="006633"/>
              </a:solidFill>
              <a:latin typeface="Garamond"/>
            </a:endParaRPr>
          </a:p>
        </p:txBody>
      </p:sp>
      <p:sp>
        <p:nvSpPr>
          <p:cNvPr id="132" name="PlaceHolder 2"/>
          <p:cNvSpPr>
            <a:spLocks noGrp="1"/>
          </p:cNvSpPr>
          <p:nvPr>
            <p:ph/>
          </p:nvPr>
        </p:nvSpPr>
        <p:spPr>
          <a:xfrm>
            <a:off x="457200" y="914400"/>
            <a:ext cx="8229600" cy="52164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berty 5-3000</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olden One</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aea</a:t>
            </a:r>
            <a:endParaRPr b="0" lang="en-US" sz="2200" spc="-1" strike="noStrike">
              <a:solidFill>
                <a:srgbClr val="000000"/>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reek mythology, Gaea is known as Earth or Mother Earth. She is considered the primeval divinity of earth, one of the primal elements who first emerged at the dawn of creation, along with air, sea, and sky. She was the great mother of all.</a:t>
            </a:r>
            <a:endParaRPr b="0" lang="en-US" sz="2000" spc="-1" strike="noStrike">
              <a:solidFill>
                <a:srgbClr val="000000"/>
              </a:solidFill>
              <a:latin typeface="Arial"/>
            </a:endParaRPr>
          </a:p>
        </p:txBody>
      </p:sp>
      <p:pic>
        <p:nvPicPr>
          <p:cNvPr id="133" name="Picture 5" descr="madonna15"/>
          <p:cNvPicPr/>
          <p:nvPr/>
        </p:nvPicPr>
        <p:blipFill>
          <a:blip r:embed="rId1"/>
          <a:stretch/>
        </p:blipFill>
        <p:spPr>
          <a:xfrm>
            <a:off x="2819520" y="4038480"/>
            <a:ext cx="3809880" cy="234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Ayn Rand Institute (ARI)</a:t>
            </a:r>
            <a:endParaRPr b="0" lang="en-US" sz="4200" spc="-1" strike="noStrike">
              <a:solidFill>
                <a:srgbClr val="006633"/>
              </a:solidFill>
              <a:latin typeface="Garamond"/>
            </a:endParaRPr>
          </a:p>
        </p:txBody>
      </p:sp>
      <p:sp>
        <p:nvSpPr>
          <p:cNvPr id="135"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yn Rand Institute (ARI) is a nonprofit organization that works to introduce young people to Ayn Rand's novels, to support scholarship and research based on her ideas, and to promote the principles of reason, rational self-interest, individual rights and laissez-faire capitalism to the widest possible audience.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major ARI objective is to cultivate a generation of intellectuals who will be effective advocates for the fundamentals of reason, rational self-interest, individual rights and capitalism. These professionals will be capable of articulating those ideas, at the highest level, to peers and students through publishing and teaching.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RI gives </a:t>
            </a:r>
            <a:r>
              <a:rPr b="0" lang="en-US" sz="2100" spc="-1" strike="noStrike" u="sng">
                <a:solidFill>
                  <a:srgbClr val="000000"/>
                </a:solidFill>
                <a:uFillTx/>
                <a:latin typeface="Arial"/>
              </a:rPr>
              <a:t>free</a:t>
            </a:r>
            <a:r>
              <a:rPr b="0" lang="en-US" sz="2100" spc="-1" strike="noStrike">
                <a:solidFill>
                  <a:srgbClr val="000000"/>
                </a:solidFill>
                <a:latin typeface="Arial"/>
              </a:rPr>
              <a:t> copies of Ayn Rand’s novels to teachers and classrooms all over the world.</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RI also gives out thousands of dollars each year through its essay contests.</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996600"/>
                </a:solidFill>
                <a:uFillTx/>
                <a:latin typeface="Arial"/>
                <a:hlinkClick r:id="rId1"/>
              </a:rPr>
              <a:t>http://www.aynrand.org</a:t>
            </a:r>
            <a:r>
              <a:rPr b="0" lang="en-US" sz="2100" spc="-1" strike="noStrike">
                <a:solidFill>
                  <a:srgbClr val="000000"/>
                </a:solidFill>
                <a:latin typeface="Arial"/>
              </a:rPr>
              <a:t>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yn Rand</a:t>
            </a:r>
            <a:endParaRPr b="0" lang="en-US" sz="4200" spc="-1" strike="noStrike">
              <a:solidFill>
                <a:srgbClr val="006633"/>
              </a:solidFill>
              <a:latin typeface="Garamond"/>
            </a:endParaRPr>
          </a:p>
        </p:txBody>
      </p:sp>
      <p:sp>
        <p:nvSpPr>
          <p:cNvPr id="98" name="PlaceHolder 2"/>
          <p:cNvSpPr>
            <a:spLocks noGrp="1"/>
          </p:cNvSpPr>
          <p:nvPr>
            <p:ph/>
          </p:nvPr>
        </p:nvSpPr>
        <p:spPr>
          <a:xfrm>
            <a:off x="457200" y="990720"/>
            <a:ext cx="5486400" cy="5140080"/>
          </a:xfrm>
          <a:prstGeom prst="rect">
            <a:avLst/>
          </a:prstGeom>
          <a:noFill/>
          <a:ln w="0">
            <a:noFill/>
          </a:ln>
        </p:spPr>
        <p:txBody>
          <a:bodyPr anchor="t">
            <a:normAutofit/>
          </a:bodyPr>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he was born in St. Petersburg, Russia, on February 2, 1905.</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he opposed the mysticism and collectivism of Russian culture.</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he witnessed both the Kerensky and Bolshevik Revolutions during her teenage years in Russia.</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communist victory in Russia resulted in the confiscation of her father's pharmacy and periods of near-starvation for her family.</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hen introduced to American history in her last year of high school, she immediately took America as her model of what a nation of free men could be.</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 late 1925 she obtained permission to leave Soviet Russia for a visit to relatives in the United States.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lthough she told Soviet authorities that her visit would be short, she was determined never to return to Russia, and she never did.</a:t>
            </a:r>
            <a:endParaRPr b="0" lang="en-US" sz="1900" spc="-1" strike="noStrike">
              <a:solidFill>
                <a:srgbClr val="000000"/>
              </a:solidFill>
              <a:latin typeface="Arial"/>
            </a:endParaRPr>
          </a:p>
        </p:txBody>
      </p:sp>
      <p:pic>
        <p:nvPicPr>
          <p:cNvPr id="99" name="Picture 5" descr="25936"/>
          <p:cNvPicPr/>
          <p:nvPr/>
        </p:nvPicPr>
        <p:blipFill>
          <a:blip r:embed="rId1"/>
          <a:stretch/>
        </p:blipFill>
        <p:spPr>
          <a:xfrm>
            <a:off x="6248520" y="1066680"/>
            <a:ext cx="2492280" cy="3886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Key Facts</a:t>
            </a:r>
            <a:endParaRPr b="0" lang="en-US" sz="4200" spc="-1" strike="noStrike">
              <a:solidFill>
                <a:srgbClr val="006633"/>
              </a:solidFill>
              <a:latin typeface="Garamond"/>
            </a:endParaRPr>
          </a:p>
        </p:txBody>
      </p:sp>
      <p:sp>
        <p:nvSpPr>
          <p:cNvPr id="101"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ype of work</a:t>
            </a:r>
            <a:r>
              <a:rPr b="0" lang="en-US" sz="2200" spc="-1" strike="noStrike">
                <a:solidFill>
                  <a:srgbClr val="000000"/>
                </a:solidFill>
                <a:latin typeface="Arial"/>
              </a:rPr>
              <a:t> · Novella</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enre</a:t>
            </a:r>
            <a:r>
              <a:rPr b="0" lang="en-US" sz="2200" spc="-1" strike="noStrike">
                <a:solidFill>
                  <a:srgbClr val="000000"/>
                </a:solidFill>
                <a:latin typeface="Arial"/>
              </a:rPr>
              <a:t> · </a:t>
            </a:r>
            <a:r>
              <a:rPr b="0" lang="en-US" sz="2200" spc="-1" strike="noStrike" u="sng">
                <a:solidFill>
                  <a:srgbClr val="000000"/>
                </a:solidFill>
                <a:uFillTx/>
                <a:latin typeface="Arial"/>
              </a:rPr>
              <a:t>Anti</a:t>
            </a:r>
            <a:r>
              <a:rPr b="0" lang="en-US" sz="2200" spc="-1" strike="noStrike">
                <a:solidFill>
                  <a:srgbClr val="000000"/>
                </a:solidFill>
                <a:latin typeface="Arial"/>
              </a:rPr>
              <a:t>-Utopian (The world presented is the world as it should NOT be.)</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ime and place written</a:t>
            </a:r>
            <a:r>
              <a:rPr b="0" lang="en-US" sz="2200" spc="-1" strike="noStrike">
                <a:solidFill>
                  <a:srgbClr val="000000"/>
                </a:solidFill>
                <a:latin typeface="Arial"/>
              </a:rPr>
              <a:t> · The United States, 1937</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arrator</a:t>
            </a:r>
            <a:r>
              <a:rPr b="0" lang="en-US" sz="2200" spc="-1" strike="noStrike">
                <a:solidFill>
                  <a:srgbClr val="000000"/>
                </a:solidFill>
                <a:latin typeface="Arial"/>
              </a:rPr>
              <a:t> · Equality 7-2521 writes the journal of the events as they transpire over the course of several months.</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 of view</a:t>
            </a:r>
            <a:r>
              <a:rPr b="0" lang="en-US" sz="2200" spc="-1" strike="noStrike">
                <a:solidFill>
                  <a:srgbClr val="000000"/>
                </a:solidFill>
                <a:latin typeface="Arial"/>
              </a:rPr>
              <a:t> · Equality 7-2521 speaks in the first person (plural) He will refer to himself as “we” instead of “I.”</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ne</a:t>
            </a:r>
            <a:r>
              <a:rPr b="0" lang="en-US" sz="2200" spc="-1" strike="noStrike">
                <a:solidFill>
                  <a:srgbClr val="000000"/>
                </a:solidFill>
                <a:latin typeface="Arial"/>
              </a:rPr>
              <a:t> · Equality 7-2521 records his thoughts and actions in a straightforward manner, with no trace of irony.</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ense</a:t>
            </a:r>
            <a:r>
              <a:rPr b="0" lang="en-US" sz="2200" spc="-1" strike="noStrike">
                <a:solidFill>
                  <a:srgbClr val="000000"/>
                </a:solidFill>
                <a:latin typeface="Arial"/>
              </a:rPr>
              <a:t> · Present, with some past-tense narration</a:t>
            </a:r>
            <a:endParaRPr b="0" lang="en-US" sz="2200" spc="-1" strike="noStrike">
              <a:solidFill>
                <a:srgbClr val="000000"/>
              </a:solidFill>
              <a:latin typeface="Arial"/>
            </a:endParaRPr>
          </a:p>
        </p:txBody>
      </p:sp>
      <p:pic>
        <p:nvPicPr>
          <p:cNvPr id="102" name="Picture 4" descr=""/>
          <p:cNvPicPr/>
          <p:nvPr/>
        </p:nvPicPr>
        <p:blipFill>
          <a:blip r:embed="rId1"/>
          <a:stretch/>
        </p:blipFill>
        <p:spPr>
          <a:xfrm>
            <a:off x="533520" y="228600"/>
            <a:ext cx="709560" cy="106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Key Facts</a:t>
            </a:r>
            <a:endParaRPr b="0" lang="en-US" sz="4200" spc="-1" strike="noStrike">
              <a:solidFill>
                <a:srgbClr val="006633"/>
              </a:solidFill>
              <a:latin typeface="Garamond"/>
            </a:endParaRPr>
          </a:p>
        </p:txBody>
      </p:sp>
      <p:sp>
        <p:nvSpPr>
          <p:cNvPr id="104" name="PlaceHolder 2"/>
          <p:cNvSpPr>
            <a:spLocks noGrp="1"/>
          </p:cNvSpPr>
          <p:nvPr>
            <p:ph/>
          </p:nvPr>
        </p:nvSpPr>
        <p:spPr>
          <a:xfrm>
            <a:off x="456840" y="1600200"/>
            <a:ext cx="7924680" cy="464832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tting</a:t>
            </a:r>
            <a:r>
              <a:rPr b="0" lang="en-US" sz="2600" spc="-1" strike="noStrike">
                <a:solidFill>
                  <a:srgbClr val="000000"/>
                </a:solidFill>
                <a:latin typeface="Arial"/>
              </a:rPr>
              <a:t> (time) · Sometime in the distant future, after the collapse of the social order because of the common acceptance of collectivist valu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tting</a:t>
            </a:r>
            <a:r>
              <a:rPr b="0" lang="en-US" sz="2600" spc="-1" strike="noStrike">
                <a:solidFill>
                  <a:srgbClr val="000000"/>
                </a:solidFill>
                <a:latin typeface="Arial"/>
              </a:rPr>
              <a:t> (place) · An unidentified city; much of the first half of </a:t>
            </a:r>
            <a:r>
              <a:rPr b="0" i="1" lang="en-US" sz="2600" spc="-1" strike="noStrike">
                <a:solidFill>
                  <a:srgbClr val="000000"/>
                </a:solidFill>
                <a:latin typeface="Arial"/>
              </a:rPr>
              <a:t>Anthem </a:t>
            </a:r>
            <a:r>
              <a:rPr b="0" lang="en-US" sz="2600" spc="-1" strike="noStrike">
                <a:solidFill>
                  <a:srgbClr val="000000"/>
                </a:solidFill>
                <a:latin typeface="Arial"/>
              </a:rPr>
              <a:t> is narrated from a tunnel underground where Equality 7-2521 is hiding, and the second half is narrated from a forest where he has taken refuge from a society that hates him.</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tagonist</a:t>
            </a:r>
            <a:r>
              <a:rPr b="0" lang="en-US" sz="2600" spc="-1" strike="noStrike">
                <a:solidFill>
                  <a:srgbClr val="000000"/>
                </a:solidFill>
                <a:latin typeface="Arial"/>
              </a:rPr>
              <a:t> · Equality 7-2521</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ymbols</a:t>
            </a:r>
            <a:r>
              <a:rPr b="0" lang="en-US" sz="2600" spc="-1" strike="noStrike">
                <a:solidFill>
                  <a:srgbClr val="000000"/>
                </a:solidFill>
                <a:latin typeface="Arial"/>
              </a:rPr>
              <a:t> · Light; the forest; manuscripts</a:t>
            </a:r>
            <a:endParaRPr b="0" lang="en-US" sz="2600" spc="-1" strike="noStrike">
              <a:solidFill>
                <a:srgbClr val="000000"/>
              </a:solidFill>
              <a:latin typeface="Arial"/>
            </a:endParaRPr>
          </a:p>
        </p:txBody>
      </p:sp>
      <p:pic>
        <p:nvPicPr>
          <p:cNvPr id="105" name="Picture 4" descr=""/>
          <p:cNvPicPr/>
          <p:nvPr/>
        </p:nvPicPr>
        <p:blipFill>
          <a:blip r:embed="rId1"/>
          <a:stretch/>
        </p:blipFill>
        <p:spPr>
          <a:xfrm>
            <a:off x="533520" y="228600"/>
            <a:ext cx="70956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Key Literary Terms</a:t>
            </a:r>
            <a:endParaRPr b="0" lang="en-US" sz="4200" spc="-1" strike="noStrike">
              <a:solidFill>
                <a:srgbClr val="006633"/>
              </a:solidFill>
              <a:latin typeface="Garamond"/>
            </a:endParaRPr>
          </a:p>
        </p:txBody>
      </p:sp>
      <p:sp>
        <p:nvSpPr>
          <p:cNvPr id="107"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lnSpc>
                <a:spcPct val="80000"/>
              </a:lnSpc>
              <a:spcBef>
                <a:spcPts val="6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Theme: </a:t>
            </a:r>
            <a:endParaRPr b="0" lang="en-US" sz="2600" spc="-1" strike="noStrike">
              <a:solidFill>
                <a:srgbClr val="000000"/>
              </a:solidFill>
              <a:latin typeface="Arial"/>
            </a:endParaRPr>
          </a:p>
          <a:p>
            <a:pPr lvl="1" marL="669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central or dominant idea behind the story; the most important aspect that emerges from how the book treats the subject</a:t>
            </a:r>
            <a:endParaRPr b="0" lang="en-US" sz="2200" spc="-1" strike="noStrike">
              <a:solidFill>
                <a:srgbClr val="000000"/>
              </a:solidFill>
              <a:latin typeface="Arial"/>
            </a:endParaRPr>
          </a:p>
          <a:p>
            <a:pPr marL="343080" indent="-343080">
              <a:lnSpc>
                <a:spcPct val="80000"/>
              </a:lnSpc>
              <a:spcBef>
                <a:spcPts val="6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 of View:</a:t>
            </a:r>
            <a:endParaRPr b="0" lang="en-US" sz="2600" spc="-1" strike="noStrike">
              <a:solidFill>
                <a:srgbClr val="000000"/>
              </a:solidFill>
              <a:latin typeface="Arial"/>
            </a:endParaRPr>
          </a:p>
          <a:p>
            <a:pPr lvl="1" marL="669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position or vantage point from which the events of a story seem to come and are presented to the reader</a:t>
            </a:r>
            <a:endParaRPr b="0" lang="en-US" sz="2200" spc="-1" strike="noStrike">
              <a:solidFill>
                <a:srgbClr val="000000"/>
              </a:solidFill>
              <a:latin typeface="Arial"/>
            </a:endParaRPr>
          </a:p>
          <a:p>
            <a:pPr marL="343080" indent="-343080">
              <a:lnSpc>
                <a:spcPct val="80000"/>
              </a:lnSpc>
              <a:spcBef>
                <a:spcPts val="6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Setting:</a:t>
            </a:r>
            <a:endParaRPr b="0" lang="en-US" sz="2600" spc="-1" strike="noStrike">
              <a:solidFill>
                <a:srgbClr val="000000"/>
              </a:solidFill>
              <a:latin typeface="Arial"/>
            </a:endParaRPr>
          </a:p>
          <a:p>
            <a:pPr lvl="1" marL="669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hen and where the short story, play, or novel takes place</a:t>
            </a:r>
            <a:endParaRPr b="0" lang="en-US" sz="2200" spc="-1" strike="noStrike">
              <a:solidFill>
                <a:srgbClr val="000000"/>
              </a:solidFill>
              <a:latin typeface="Arial"/>
            </a:endParaRPr>
          </a:p>
          <a:p>
            <a:pPr marL="343080" indent="-343080">
              <a:lnSpc>
                <a:spcPct val="80000"/>
              </a:lnSpc>
              <a:spcBef>
                <a:spcPts val="6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Narrator:</a:t>
            </a:r>
            <a:endParaRPr b="0" lang="en-US" sz="2600" spc="-1" strike="noStrike">
              <a:solidFill>
                <a:srgbClr val="000000"/>
              </a:solidFill>
              <a:latin typeface="Arial"/>
            </a:endParaRPr>
          </a:p>
          <a:p>
            <a:pPr lvl="1" marL="669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one who tells the story</a:t>
            </a:r>
            <a:endParaRPr b="0" lang="en-US" sz="2200" spc="-1" strike="noStrike">
              <a:solidFill>
                <a:srgbClr val="000000"/>
              </a:solidFill>
              <a:latin typeface="Arial"/>
            </a:endParaRPr>
          </a:p>
          <a:p>
            <a:pPr marL="343080" indent="-343080">
              <a:lnSpc>
                <a:spcPct val="80000"/>
              </a:lnSpc>
              <a:spcBef>
                <a:spcPts val="6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Motif:</a:t>
            </a:r>
            <a:endParaRPr b="0" lang="en-US" sz="2600" spc="-1" strike="noStrike">
              <a:solidFill>
                <a:srgbClr val="000000"/>
              </a:solidFill>
              <a:latin typeface="Arial"/>
            </a:endParaRPr>
          </a:p>
          <a:p>
            <a:pPr lvl="1" marL="669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recurrent device, formula, or situation that often serves  as a signal for the appearance of a character or ev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llectivism vs. Individualism</a:t>
            </a:r>
            <a:endParaRPr b="0" lang="en-US" sz="4200" spc="-1" strike="noStrike">
              <a:solidFill>
                <a:srgbClr val="006633"/>
              </a:solidFill>
              <a:latin typeface="Garamond"/>
            </a:endParaRPr>
          </a:p>
        </p:txBody>
      </p:sp>
      <p:sp>
        <p:nvSpPr>
          <p:cNvPr id="109"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Collectivism</a:t>
            </a:r>
            <a:r>
              <a:rPr b="0" lang="en-US" sz="2600" spc="-1" strike="noStrike">
                <a:solidFill>
                  <a:srgbClr val="000000"/>
                </a:solidFill>
                <a:latin typeface="Arial"/>
              </a:rPr>
              <a:t> – the subjugation of the individual to the group – whether to a race, class, or state does not matter.  In </a:t>
            </a:r>
            <a:r>
              <a:rPr b="0" i="1" lang="en-US" sz="2600" spc="-1" strike="noStrike">
                <a:solidFill>
                  <a:srgbClr val="000000"/>
                </a:solidFill>
                <a:latin typeface="Arial"/>
              </a:rPr>
              <a:t>Anthem</a:t>
            </a:r>
            <a:r>
              <a:rPr b="0" lang="en-US" sz="2600" spc="-1" strike="noStrike">
                <a:solidFill>
                  <a:srgbClr val="000000"/>
                </a:solidFill>
                <a:latin typeface="Arial"/>
              </a:rPr>
              <a:t>, Ayn Rand will present a collectivist society that is stagnant and primitive, and the word "I" is obsolet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he individual . . .</a:t>
            </a:r>
            <a:endParaRPr b="0" lang="en-US" sz="2600" spc="-1" strike="noStrike">
              <a:solidFill>
                <a:srgbClr val="000000"/>
              </a:solidFill>
              <a:latin typeface="Arial"/>
            </a:endParaRPr>
          </a:p>
          <a:p>
            <a:pPr lvl="1" marL="669960" indent="-325440">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owned by the group</a:t>
            </a:r>
            <a:endParaRPr b="0" lang="en-US" sz="2200" spc="-1" strike="noStrike">
              <a:solidFill>
                <a:srgbClr val="000000"/>
              </a:solidFill>
              <a:latin typeface="Arial"/>
            </a:endParaRPr>
          </a:p>
          <a:p>
            <a:pPr lvl="1" marL="669960" indent="-325440">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s no right to a private existence</a:t>
            </a:r>
            <a:endParaRPr b="0" lang="en-US" sz="2200" spc="-1" strike="noStrike">
              <a:solidFill>
                <a:srgbClr val="000000"/>
              </a:solidFill>
              <a:latin typeface="Arial"/>
            </a:endParaRPr>
          </a:p>
          <a:p>
            <a:pPr lvl="1" marL="669960" indent="-325440">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s no right to lead his own life, pursue his own happiness, or use his own property</a:t>
            </a:r>
            <a:endParaRPr b="0" lang="en-US" sz="2200" spc="-1" strike="noStrike">
              <a:solidFill>
                <a:srgbClr val="000000"/>
              </a:solidFill>
              <a:latin typeface="Arial"/>
            </a:endParaRPr>
          </a:p>
          <a:p>
            <a:pPr lvl="1" marL="669960" indent="-325440">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ists</a:t>
            </a:r>
            <a:r>
              <a:rPr b="0" lang="en-US" sz="2200" spc="-1" strike="noStrike" u="sng">
                <a:solidFill>
                  <a:srgbClr val="000000"/>
                </a:solidFill>
                <a:uFillTx/>
                <a:latin typeface="Arial"/>
              </a:rPr>
              <a:t> only </a:t>
            </a:r>
            <a:r>
              <a:rPr b="0" lang="en-US" sz="2200" spc="-1" strike="noStrike">
                <a:solidFill>
                  <a:srgbClr val="000000"/>
                </a:solidFill>
                <a:latin typeface="Arial"/>
              </a:rPr>
              <a:t>as part of the group</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llectivism vs. Individualism</a:t>
            </a:r>
            <a:endParaRPr b="0" lang="en-US" sz="4200" spc="-1" strike="noStrike">
              <a:solidFill>
                <a:srgbClr val="006633"/>
              </a:solidFill>
              <a:latin typeface="Garamond"/>
            </a:endParaRPr>
          </a:p>
        </p:txBody>
      </p:sp>
      <p:sp>
        <p:nvSpPr>
          <p:cNvPr id="111"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dividualism/Objectivism</a:t>
            </a:r>
            <a:r>
              <a:rPr b="0" lang="en-US" sz="2600" spc="-1" strike="noStrike">
                <a:solidFill>
                  <a:srgbClr val="000000"/>
                </a:solidFill>
                <a:latin typeface="Arial"/>
              </a:rPr>
              <a:t> – regards every man as an independent, sovereign entity who possesses an inalienable right to his own life, a right derived from his nature as a rational being.  Individualism does not mean that one can do whatever he feels like doing; it means that every man or woman is an individual and has the same rights.</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he individual . . .</a:t>
            </a:r>
            <a:endParaRPr b="0" lang="en-US" sz="2600" spc="-1" strike="noStrike">
              <a:solidFill>
                <a:srgbClr val="000000"/>
              </a:solidFill>
              <a:latin typeface="Arial"/>
            </a:endParaRPr>
          </a:p>
          <a:p>
            <a:pPr lvl="1" marL="669960" indent="-325440">
              <a:lnSpc>
                <a:spcPct val="80000"/>
              </a:lnSpc>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s rights</a:t>
            </a:r>
            <a:endParaRPr b="0" lang="en-US" sz="2200" spc="-1" strike="noStrike">
              <a:solidFill>
                <a:srgbClr val="000000"/>
              </a:solidFill>
              <a:latin typeface="Arial"/>
            </a:endParaRPr>
          </a:p>
          <a:p>
            <a:pPr lvl="1" marL="669960" indent="-325440">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ll not run anyone else’s life, nor let anyone run theirs</a:t>
            </a:r>
            <a:endParaRPr b="0" lang="en-US" sz="2200" spc="-1" strike="noStrike">
              <a:solidFill>
                <a:srgbClr val="000000"/>
              </a:solidFill>
              <a:latin typeface="Arial"/>
            </a:endParaRPr>
          </a:p>
          <a:p>
            <a:pPr lvl="1" marL="669960" indent="-325440">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ll not rule or be ruled</a:t>
            </a:r>
            <a:endParaRPr b="0" lang="en-US" sz="2200" spc="-1" strike="noStrike">
              <a:solidFill>
                <a:srgbClr val="000000"/>
              </a:solidFill>
              <a:latin typeface="Arial"/>
            </a:endParaRPr>
          </a:p>
          <a:p>
            <a:pPr lvl="1" marL="669960" indent="-325440">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ll not be a master nor a slave</a:t>
            </a:r>
            <a:endParaRPr b="0" lang="en-US" sz="2200" spc="-1" strike="noStrike">
              <a:solidFill>
                <a:srgbClr val="000000"/>
              </a:solidFill>
              <a:latin typeface="Arial"/>
            </a:endParaRPr>
          </a:p>
          <a:p>
            <a:pPr lvl="1" marL="669960" indent="-325440">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ll not sacrifice themselves to anyone, nor sacrifice anyone to themselve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lflessness</a:t>
            </a:r>
            <a:endParaRPr b="0" lang="en-US" sz="4200" spc="-1" strike="noStrike">
              <a:solidFill>
                <a:srgbClr val="006633"/>
              </a:solidFill>
              <a:latin typeface="Garamond"/>
            </a:endParaRPr>
          </a:p>
        </p:txBody>
      </p:sp>
      <p:sp>
        <p:nvSpPr>
          <p:cNvPr id="113"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Anthem</a:t>
            </a:r>
            <a:r>
              <a:rPr b="0" lang="en-US" sz="2100" spc="-1" strike="noStrike">
                <a:solidFill>
                  <a:srgbClr val="000000"/>
                </a:solidFill>
                <a:latin typeface="Arial"/>
              </a:rPr>
              <a:t> dramatizes the view that the self is destroyed in a collectivist society.</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lflessness is shown in the following ways:</a:t>
            </a:r>
            <a:endParaRPr b="0" lang="en-US" sz="21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one has a personal name because under collectivism, individuals are interchangeable.</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refer one person over another (as a friend or romantic partner) is committing the cardinal sin known as the “Transgression of Preference.”</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wrong to disagree, to have independent thoughts, or to ask questions because these things will set you apart from others.</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assertion is forbidden.</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decisions are made by the “Council” in the name of the whole.</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s have no rights.</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thing which is not permitted by the law is forbidd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lflessness (cont’d)</a:t>
            </a:r>
            <a:endParaRPr b="0" lang="en-US" sz="4200" spc="-1" strike="noStrike">
              <a:solidFill>
                <a:srgbClr val="006633"/>
              </a:solidFill>
              <a:latin typeface="Garamond"/>
            </a:endParaRPr>
          </a:p>
        </p:txBody>
      </p:sp>
      <p:sp>
        <p:nvSpPr>
          <p:cNvPr id="115" name="PlaceHolder 2"/>
          <p:cNvSpPr>
            <a:spLocks noGrp="1"/>
          </p:cNvSpPr>
          <p:nvPr>
            <p:ph/>
          </p:nvPr>
        </p:nvSpPr>
        <p:spPr>
          <a:xfrm>
            <a:off x="457200" y="1142640"/>
            <a:ext cx="5105520" cy="4987800"/>
          </a:xfrm>
          <a:prstGeom prst="rect">
            <a:avLst/>
          </a:prstGeom>
          <a:noFill/>
          <a:ln w="0">
            <a:noFill/>
          </a:ln>
        </p:spPr>
        <p:txBody>
          <a:bodyPr anchor="t">
            <a:normAutofit/>
          </a:bodyPr>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nthem</a:t>
            </a:r>
            <a:r>
              <a:rPr b="0" lang="en-US" sz="2400" spc="-1" strike="noStrike">
                <a:solidFill>
                  <a:srgbClr val="000000"/>
                </a:solidFill>
                <a:latin typeface="Arial"/>
              </a:rPr>
              <a:t>  depicts what happens to a society that implements selflessness.  The result is what Ayn Rand believes is a subhuman society; what makes human beings human is having a self, which means having a mind.</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lfless individual is a mindless individual.</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actice selflessness, one must abstain from thinking and obey one’s masters.  One must merge himself into the group and obliterate the individual identity.  The result is a society of mindless robots as found in </a:t>
            </a:r>
            <a:r>
              <a:rPr b="0" i="1" lang="en-US" sz="2400" spc="-1" strike="noStrike">
                <a:solidFill>
                  <a:srgbClr val="000000"/>
                </a:solidFill>
                <a:latin typeface="Arial"/>
              </a:rPr>
              <a:t>Anthem.</a:t>
            </a:r>
            <a:endParaRPr b="0" lang="en-US" sz="2400" spc="-1" strike="noStrike">
              <a:solidFill>
                <a:srgbClr val="000000"/>
              </a:solidFill>
              <a:latin typeface="Arial"/>
            </a:endParaRPr>
          </a:p>
        </p:txBody>
      </p:sp>
      <p:pic>
        <p:nvPicPr>
          <p:cNvPr id="116" name="Picture 4" descr=""/>
          <p:cNvPicPr/>
          <p:nvPr/>
        </p:nvPicPr>
        <p:blipFill>
          <a:blip r:embed="rId1"/>
          <a:stretch/>
        </p:blipFill>
        <p:spPr>
          <a:xfrm>
            <a:off x="6553080" y="3733920"/>
            <a:ext cx="1457280" cy="2189160"/>
          </a:xfrm>
          <a:prstGeom prst="rect">
            <a:avLst/>
          </a:prstGeom>
          <a:ln w="0">
            <a:noFill/>
          </a:ln>
        </p:spPr>
      </p:pic>
      <p:pic>
        <p:nvPicPr>
          <p:cNvPr id="117" name="Picture 7" descr="aar_index_6"/>
          <p:cNvPicPr/>
          <p:nvPr/>
        </p:nvPicPr>
        <p:blipFill>
          <a:blip r:embed="rId2"/>
          <a:stretch/>
        </p:blipFill>
        <p:spPr>
          <a:xfrm>
            <a:off x="5867280" y="1447920"/>
            <a:ext cx="2867040" cy="174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3T00:39:22Z</dcterms:created>
  <dc:creator>Lisa LeAnn Ward</dc:creator>
  <dc:description/>
  <dc:language>en-US</dc:language>
  <cp:lastModifiedBy>RomaK</cp:lastModifiedBy>
  <dcterms:modified xsi:type="dcterms:W3CDTF">2015-09-04T10:35:19Z</dcterms:modified>
  <cp:revision>29</cp:revision>
  <dc:subject/>
  <dc:title> Anthem</dc:title>
</cp:coreProperties>
</file>