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04F4-E012-4659-BE3F-E58A2029A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Ring: Limb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 Warm. Neither sinned nor believed in Chr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en does not claim them, Hell does not wan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GOD: Must lie facing upward toward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NATURE: Must run for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ART: Forced to crouch over moneyba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DUC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iven by horned dem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TTER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wallow in a floor of ex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ONISTS (Those who attempt to purchase the power of the holy spiri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ied head down and burned on the soles of thei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TUNE TELLERS/ SOOTHSAY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distorted so that the head is twisted around to only view his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F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ped into boiling tar. Demon holds down the sinners with a pitchf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R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always walk at a steady 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kes coil and bind these sin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d in f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D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ked to pieces, put back together, and hacked up a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Ring: Lus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wn about in dark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th Ring: Fraudu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insane; plagued with all types of illnesses and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th Ring: Treac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MILY, COUNTRY, AND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zen in a sheet of ice with only their face exposed to show the p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of 9th Ring: Luci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Ring: Glutto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ived of individuality. Each is alone, cold, and mise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Ring: Avaric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roll their wealth back and forth fore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Ring: Wrathful and Su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thful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dy figures attack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k beneath the surface in filthy sl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h of Sty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Ring: Her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ned in tom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OTH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rsed in a river of boiling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th Ring: Viol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ST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sted plants that canno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787-5C2F-4DB3-9557-E43D9681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878B-FAA0-43FC-A873-32BF9F4D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8CA-DC9F-4118-BCE6-E947B866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DDC-091D-4666-9755-1C90632E7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049C-4EB2-4275-BAAB-E16918D5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E9BB-7E35-47BC-AB00-BF08B8BE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C654-A36C-41B8-8469-C5C889B4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92B6-6538-4457-A4B7-9B9B8A49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7DC5-F915-4556-B4E9-E9481A1B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C841-68F5-4609-AE26-809CE4B3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475A-AF50-4A2B-B186-6ADB23F5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72D7-643B-4D57-95C8-FC97D514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AAB8-93AD-4A4A-9BD2-A9BB73B3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AE7-1C39-48F7-AF49-90E813D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A3EA-53D2-4F8D-9B40-E1B5B91D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FF92-0D91-4560-B31D-E726A866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311C-96BC-4DDA-823B-A64AD814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BE5-DFDF-4AAE-AA8C-850186E4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D68-E118-4062-AC6A-22328B60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846-2922-45AE-AA39-F1922391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5E9-1758-4062-BDBF-55B26ACC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DF9-6674-4E67-BABC-B41D9016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4C1-F403-484A-BA39-54271BFF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D91-11A4-4E73-BD3D-07837A51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5F22-425A-431A-A447-2860001D84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EEB6-0E5D-4271-BEC1-FC24409526C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imb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ke Warm. Neither sinned nor believed in Chri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ven does not claim them, Hell does not want th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Picture 11" descr="thumbnail of the harrowing of hell by Flaxsmith"/>
          <p:cNvPicPr/>
          <p:nvPr/>
        </p:nvPicPr>
        <p:blipFill>
          <a:blip r:embed="rId1"/>
          <a:stretch/>
        </p:blipFill>
        <p:spPr>
          <a:xfrm>
            <a:off x="4876920" y="2209680"/>
            <a:ext cx="380988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OD: Must lie facing upward toward heav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NATURE: Must run forev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ART: Forced to crouch over moneybag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7" descr="Violent by Dore"/>
          <p:cNvPicPr/>
          <p:nvPr/>
        </p:nvPicPr>
        <p:blipFill>
          <a:blip r:embed="rId1"/>
          <a:stretch/>
        </p:blipFill>
        <p:spPr>
          <a:xfrm>
            <a:off x="4572000" y="1905120"/>
            <a:ext cx="42670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DUC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iven by horned dem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3" name="Picture 8" descr="Panderers and Seducers by Boticelli"/>
          <p:cNvPicPr/>
          <p:nvPr/>
        </p:nvPicPr>
        <p:blipFill>
          <a:blip r:embed="rId1"/>
          <a:stretch/>
        </p:blipFill>
        <p:spPr>
          <a:xfrm>
            <a:off x="3962520" y="2133720"/>
            <a:ext cx="47242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ATTER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d to wallow in a floor of exc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7" name="Picture 8" descr="thumbnail of Falsifiers by Flaxman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MONISTS (Those who attempt to purchase the power of the holy spiri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head down and burned on the soles of their fee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1" name="Picture 8" descr="Simoniacs by Boticelli"/>
          <p:cNvPicPr/>
          <p:nvPr/>
        </p:nvPicPr>
        <p:blipFill>
          <a:blip r:embed="rId1"/>
          <a:stretch/>
        </p:blipFill>
        <p:spPr>
          <a:xfrm>
            <a:off x="4800600" y="1523880"/>
            <a:ext cx="3809880" cy="232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0" descr="Dante addresses Nicholas III by Dore"/>
          <p:cNvPicPr/>
          <p:nvPr/>
        </p:nvPicPr>
        <p:blipFill>
          <a:blip r:embed="rId2"/>
          <a:stretch/>
        </p:blipFill>
        <p:spPr>
          <a:xfrm>
            <a:off x="5562720" y="403848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TUNE TELLERS/ SOOTHSAY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ies distorted so that the head is twisted around to only view his b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8" descr="1119"/>
          <p:cNvPicPr/>
          <p:nvPr/>
        </p:nvPicPr>
        <p:blipFill>
          <a:blip r:embed="rId1"/>
          <a:stretch/>
        </p:blipFill>
        <p:spPr>
          <a:xfrm>
            <a:off x="4876920" y="1447920"/>
            <a:ext cx="3481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F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pped into boiling tar. Demon holds down the sinners with a pitchf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0" name="Picture 8" descr="1217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CR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always walk at a steady 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4" name="Picture 8" descr="Hypocrites by Boticelli"/>
          <p:cNvPicPr/>
          <p:nvPr/>
        </p:nvPicPr>
        <p:blipFill>
          <a:blip r:embed="rId1"/>
          <a:stretch/>
        </p:blipFill>
        <p:spPr>
          <a:xfrm>
            <a:off x="4572000" y="2133720"/>
            <a:ext cx="4343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IV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nakes coil and bind these s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8" descr="Agnello turns into a serpent by Dore"/>
          <p:cNvPicPr/>
          <p:nvPr/>
        </p:nvPicPr>
        <p:blipFill>
          <a:blip r:embed="rId1"/>
          <a:stretch/>
        </p:blipFill>
        <p:spPr>
          <a:xfrm>
            <a:off x="5019840" y="1523880"/>
            <a:ext cx="32050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EV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pped in f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1" name="Picture 8" descr="The Blasphemers"/>
          <p:cNvPicPr/>
          <p:nvPr/>
        </p:nvPicPr>
        <p:blipFill>
          <a:blip r:embed="rId1"/>
          <a:stretch/>
        </p:blipFill>
        <p:spPr>
          <a:xfrm>
            <a:off x="4724280" y="1371600"/>
            <a:ext cx="39625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ND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cked to pieces, put back together, and hacked up ag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5" name="Picture 7" descr="Vigril reproves of Dante's Curiosity by Dore"/>
          <p:cNvPicPr/>
          <p:nvPr/>
        </p:nvPicPr>
        <p:blipFill>
          <a:blip r:embed="rId1"/>
          <a:stretch/>
        </p:blipFill>
        <p:spPr>
          <a:xfrm>
            <a:off x="4876920" y="1371600"/>
            <a:ext cx="36147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n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stfu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wn about in dark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Picture 13" descr="thumbnail of Dante faints by Blake"/>
          <p:cNvPicPr/>
          <p:nvPr/>
        </p:nvPicPr>
        <p:blipFill>
          <a:blip r:embed="rId1"/>
          <a:stretch/>
        </p:blipFill>
        <p:spPr>
          <a:xfrm>
            <a:off x="3733920" y="1447920"/>
            <a:ext cx="5105160" cy="35780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Fraudu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SIFI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de insane; plagued with all types of illnesses and diseas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Picture 8" descr="0710"/>
          <p:cNvPicPr/>
          <p:nvPr/>
        </p:nvPicPr>
        <p:blipFill>
          <a:blip r:embed="rId1"/>
          <a:stretch/>
        </p:blipFill>
        <p:spPr>
          <a:xfrm>
            <a:off x="4724280" y="1828800"/>
            <a:ext cx="41626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Treache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FAMILY, COUNTRY, AND 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zen in a sheet of ice with only their face exposed to show the pa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3" name="Picture 7" descr="1215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enter of 9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Lucif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7" name="Picture 8" descr="Satan by Dore"/>
          <p:cNvPicPr/>
          <p:nvPr/>
        </p:nvPicPr>
        <p:blipFill>
          <a:blip r:embed="rId1"/>
          <a:stretch/>
        </p:blipFill>
        <p:spPr>
          <a:xfrm>
            <a:off x="1676520" y="1447920"/>
            <a:ext cx="609588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Glutton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prived of individuality. Each is alone, cold, and misera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10" descr="0503ciacco"/>
          <p:cNvPicPr/>
          <p:nvPr/>
        </p:nvPicPr>
        <p:blipFill>
          <a:blip r:embed="rId1"/>
          <a:stretch/>
        </p:blipFill>
        <p:spPr>
          <a:xfrm>
            <a:off x="4114800" y="1905120"/>
            <a:ext cx="4648320" cy="32860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19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Avariciou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t roll their wealth back and forth forev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Picture 14" descr="thumbnail of the avaricious by Dore"/>
          <p:cNvPicPr/>
          <p:nvPr/>
        </p:nvPicPr>
        <p:blipFill>
          <a:blip r:embed="rId1"/>
          <a:stretch/>
        </p:blipFill>
        <p:spPr>
          <a:xfrm>
            <a:off x="4572000" y="2057400"/>
            <a:ext cx="4191120" cy="31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Wrathful and Sull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athfu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dy figures attack one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lle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 beneath the surface in filthy sl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9" name="Picture 12" descr="0703filippo"/>
          <p:cNvPicPr/>
          <p:nvPr/>
        </p:nvPicPr>
        <p:blipFill>
          <a:blip r:embed="rId1"/>
          <a:stretch/>
        </p:blipFill>
        <p:spPr>
          <a:xfrm>
            <a:off x="4267080" y="1981080"/>
            <a:ext cx="46008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rsh of Styx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2" name="Picture 5" descr="0712"/>
          <p:cNvPicPr/>
          <p:nvPr/>
        </p:nvPicPr>
        <p:blipFill>
          <a:blip r:embed="rId1"/>
          <a:stretch/>
        </p:blipFill>
        <p:spPr>
          <a:xfrm>
            <a:off x="1143000" y="1523880"/>
            <a:ext cx="655308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Here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ned in tomb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8" descr="Heretics by Botticelli"/>
          <p:cNvPicPr/>
          <p:nvPr/>
        </p:nvPicPr>
        <p:blipFill>
          <a:blip r:embed="rId1"/>
          <a:stretch/>
        </p:blipFill>
        <p:spPr>
          <a:xfrm>
            <a:off x="4114800" y="1676520"/>
            <a:ext cx="47242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OTH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mersed in a river of boiling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0" name="Picture 10" descr="04800393"/>
          <p:cNvPicPr/>
          <p:nvPr/>
        </p:nvPicPr>
        <p:blipFill>
          <a:blip r:embed="rId1"/>
          <a:stretch/>
        </p:blipFill>
        <p:spPr>
          <a:xfrm>
            <a:off x="3657600" y="327672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Ring: Viol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isted plants that cannot mo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4" name="Picture 8" descr="Harpies in forest of suicides By Dore"/>
          <p:cNvPicPr/>
          <p:nvPr/>
        </p:nvPicPr>
        <p:blipFill>
          <a:blip r:embed="rId1"/>
          <a:stretch/>
        </p:blipFill>
        <p:spPr>
          <a:xfrm>
            <a:off x="5410080" y="1752480"/>
            <a:ext cx="2889360" cy="38102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0920suicides"/>
          <p:cNvPicPr/>
          <p:nvPr/>
        </p:nvPicPr>
        <p:blipFill>
          <a:blip r:embed="rId2"/>
          <a:stretch/>
        </p:blipFill>
        <p:spPr>
          <a:xfrm>
            <a:off x="380880" y="3657600"/>
            <a:ext cx="38959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20:29:05Z</dcterms:created>
  <dc:creator>CCSD</dc:creator>
  <dc:description/>
  <dc:language>en-US</dc:language>
  <cp:lastModifiedBy>RomaK</cp:lastModifiedBy>
  <dcterms:modified xsi:type="dcterms:W3CDTF">2015-09-04T10:35:35Z</dcterms:modified>
  <cp:revision>12</cp:revision>
  <dc:subject/>
  <dc:title>Dante's Inferno</dc:title>
</cp:coreProperties>
</file>