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ACA2-4E74-400D-87B4-649EBAD749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st Ring: Limb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uke Warm. Neither sinned nor believed in Chris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ven does not claim them, Hell does not want the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Ring: Limb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ke Warm. Neither sinned nor believed in Chr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ven does not claim them, Hell does not want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AINST GOD: Must lie facing upward toward heav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AINST NATURE: Must run forev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AINST ART: Forced to crouch over moneybag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GOD: Must lie facing upward toward hea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NATURE: Must run for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ART: Forced to crouch over moneyba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DUCER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iven by horned dem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UC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ven by horned dem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TTERER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ced to wallow in a floor of excre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TTER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d to wallow in a floor of exc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ONISTS (Those who attempt to purchase the power of the holy spirit)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ried head down and burned on the soles of their fee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ONISTS (Those who attempt to purchase the power of the holy spiri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ied head down and burned on the soles of their fe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TUNE TELLERS/ SOOTHSAY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ies distorted so that the head is twisted around to only view his back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TUNE TELLERS/ SOOTHS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ies distorted so that the head is twisted around to only view his 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F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pped into boiling tar. Demon holds down the sinners with a pitchfork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F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pped into boiling tar. Demon holds down the sinners with a pitchf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OCRIT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t always walk at a steady pa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R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always walk at a steady 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IV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nakes coil and bind these sinn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akes coil and bind these si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IEV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apped in fi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E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d in 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ANDA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cked to pieces, put back together, and hacked up agai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ND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cked to pieces, put back together, and hacked up ag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nd Ring: Lustfu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own about in darknes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Ring: Lust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wn about in dark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LSIFI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insane; plagued with all types of illnesses and diseas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IF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insane; plagued with all types of illnesses and dise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th Ring: Treache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FAMILY, COUNTRY, AND FRIEN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zen in a sheet of ice with only their face exposed to show the pai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th Ring: Treach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MILY, COUNTRY, AND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zen in a sheet of ice with only their face exposed to show the p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ter of 9th Ring: Lucif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 of 9th Ring: Luci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rd Ring: Gluttono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rived of individuality. Each is alone, cold, and miserab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Ring: Glutto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ived of individuality. Each is alone, cold, and miser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th Ring: Avaricio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d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t roll their wealth back and forth forev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th Ring: Avaric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roll their wealth back and forth forev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th Ring: Wrathful and Sull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athful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ddy figures attack one anoth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llen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k beneath the surface in filthy sli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th Ring: Wrathful and Su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thful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ddy figures attack one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k beneath the surface in filthy sl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rsh of Styx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sh of Sty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th Ring: Heretic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fined in tomb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th Ring: Her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ned in tomb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AINST OTHER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mersed in a river of boiling bloo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OTH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ersed in a river of boiling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AINST SELF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isted plants that cannot mo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sted plants that cannot 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67AA-B737-45F3-9EA8-22BFA5CF1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2B6F-34CC-44CB-BFB5-CFF5F245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23DE-85CA-4CA2-849A-651C3698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4734-3BC8-4F97-A419-7627DAFB2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0603-1484-4F71-B7BD-6212970F3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1312-65D8-4251-A29B-EC6FE024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3D7F-1FE2-4553-BAB9-F69146A8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3B35-73E2-4BBA-BF8E-8ABB0AE7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081F-27A4-41D5-82CA-556C171F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47A8-B195-424F-9091-F041CC55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B811-FB56-4107-BF09-89DA4643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DE72-4B31-4B72-BFDF-817B4910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9220-337D-479C-B43F-CC189C39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DE8E-F3C5-4166-93EC-16383C69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3849-6274-4DBF-896B-2723F5B3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678E-0122-49E8-A860-67D04B525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8FC4-A2CA-471D-B425-68BA49887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19F6-EB18-44C6-ACC1-06194200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5327-25DE-4710-BA03-076EAAC7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954D-7AE1-46C5-B274-8DDFBC6F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B098-133A-40F2-BC8C-A63ABF78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A45E-4EEC-42D9-AA79-1BA532D6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2DAA-C2C3-4DA4-A680-DA0B3173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9A15-80D4-42B7-B4D2-DF8651D9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7B36-2296-4438-9B0C-61D2F67C3E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3F5C-38DC-45D4-9D8F-7DE52586338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st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Limb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ke Warm. Neither sinned nor believed in Chris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aven does not claim them, Hell does not want th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Picture 11" descr="thumbnail of the harrowing of hell by Flaxsmith"/>
          <p:cNvPicPr/>
          <p:nvPr/>
        </p:nvPicPr>
        <p:blipFill>
          <a:blip r:embed="rId1"/>
          <a:stretch/>
        </p:blipFill>
        <p:spPr>
          <a:xfrm>
            <a:off x="4876920" y="2209680"/>
            <a:ext cx="380988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7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Vio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GOD: Must lie facing upward toward heav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NATURE: Must run fore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ART: Forced to crouch over moneyba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9" name="Picture 7" descr="Violent by Dore"/>
          <p:cNvPicPr/>
          <p:nvPr/>
        </p:nvPicPr>
        <p:blipFill>
          <a:blip r:embed="rId1"/>
          <a:stretch/>
        </p:blipFill>
        <p:spPr>
          <a:xfrm>
            <a:off x="4572000" y="1905120"/>
            <a:ext cx="426708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DUC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iven by horned dem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3" name="Picture 8" descr="Panderers and Seducers by Boticelli"/>
          <p:cNvPicPr/>
          <p:nvPr/>
        </p:nvPicPr>
        <p:blipFill>
          <a:blip r:embed="rId1"/>
          <a:stretch/>
        </p:blipFill>
        <p:spPr>
          <a:xfrm>
            <a:off x="3962520" y="2133720"/>
            <a:ext cx="47242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ATTER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ced to wallow in a floor of excr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7" name="Picture 8" descr="thumbnail of Falsifiers by Flaxman"/>
          <p:cNvPicPr/>
          <p:nvPr/>
        </p:nvPicPr>
        <p:blipFill>
          <a:blip r:embed="rId1"/>
          <a:stretch/>
        </p:blipFill>
        <p:spPr>
          <a:xfrm>
            <a:off x="4343400" y="2209680"/>
            <a:ext cx="44197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MONISTS (Those who attempt to purchase the power of the holy spirit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ried head down and burned on the soles of their fee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1" name="Picture 8" descr="Simoniacs by Boticelli"/>
          <p:cNvPicPr/>
          <p:nvPr/>
        </p:nvPicPr>
        <p:blipFill>
          <a:blip r:embed="rId1"/>
          <a:stretch/>
        </p:blipFill>
        <p:spPr>
          <a:xfrm>
            <a:off x="4800600" y="1523880"/>
            <a:ext cx="3809880" cy="23241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0" descr="Dante addresses Nicholas III by Dore"/>
          <p:cNvPicPr/>
          <p:nvPr/>
        </p:nvPicPr>
        <p:blipFill>
          <a:blip r:embed="rId2"/>
          <a:stretch/>
        </p:blipFill>
        <p:spPr>
          <a:xfrm>
            <a:off x="5562720" y="4038480"/>
            <a:ext cx="2190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TUNE TELLERS/ SOOTHSAY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dies distorted so that the head is twisted around to only view his bac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6" name="Picture 8" descr="1119"/>
          <p:cNvPicPr/>
          <p:nvPr/>
        </p:nvPicPr>
        <p:blipFill>
          <a:blip r:embed="rId1"/>
          <a:stretch/>
        </p:blipFill>
        <p:spPr>
          <a:xfrm>
            <a:off x="4876920" y="1447920"/>
            <a:ext cx="3481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F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pped into boiling tar. Demon holds down the sinners with a pitchf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0" name="Picture 8" descr="1217"/>
          <p:cNvPicPr/>
          <p:nvPr/>
        </p:nvPicPr>
        <p:blipFill>
          <a:blip r:embed="rId1"/>
          <a:stretch/>
        </p:blipFill>
        <p:spPr>
          <a:xfrm>
            <a:off x="4800600" y="2057400"/>
            <a:ext cx="40384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POCRI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t always walk at a steady p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4" name="Picture 8" descr="Hypocrites by Boticelli"/>
          <p:cNvPicPr/>
          <p:nvPr/>
        </p:nvPicPr>
        <p:blipFill>
          <a:blip r:embed="rId1"/>
          <a:stretch/>
        </p:blipFill>
        <p:spPr>
          <a:xfrm>
            <a:off x="4572000" y="2133720"/>
            <a:ext cx="43434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IV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nakes coil and bind these sinn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7" name="Picture 8" descr="Agnello turns into a serpent by Dore"/>
          <p:cNvPicPr/>
          <p:nvPr/>
        </p:nvPicPr>
        <p:blipFill>
          <a:blip r:embed="rId1"/>
          <a:stretch/>
        </p:blipFill>
        <p:spPr>
          <a:xfrm>
            <a:off x="5019840" y="1523880"/>
            <a:ext cx="3205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IEV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apped in f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1" name="Picture 8" descr="The Blasphemers"/>
          <p:cNvPicPr/>
          <p:nvPr/>
        </p:nvPicPr>
        <p:blipFill>
          <a:blip r:embed="rId1"/>
          <a:stretch/>
        </p:blipFill>
        <p:spPr>
          <a:xfrm>
            <a:off x="4724280" y="1371600"/>
            <a:ext cx="39625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AND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cked to pieces, put back together, and hacked up aga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5" name="Picture 7" descr="Vigril reproves of Dante's Curiosity by Dore"/>
          <p:cNvPicPr/>
          <p:nvPr/>
        </p:nvPicPr>
        <p:blipFill>
          <a:blip r:embed="rId1"/>
          <a:stretch/>
        </p:blipFill>
        <p:spPr>
          <a:xfrm>
            <a:off x="4876920" y="1371600"/>
            <a:ext cx="36147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nd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Lustfu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wn about in darkne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Picture 13" descr="thumbnail of Dante faints by Blake"/>
          <p:cNvPicPr/>
          <p:nvPr/>
        </p:nvPicPr>
        <p:blipFill>
          <a:blip r:embed="rId1"/>
          <a:stretch/>
        </p:blipFill>
        <p:spPr>
          <a:xfrm>
            <a:off x="3733920" y="1447920"/>
            <a:ext cx="5105160" cy="35780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1940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LSIFI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de insane; plagued with all types of illnesses and diseas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9" name="Picture 8" descr="0710"/>
          <p:cNvPicPr/>
          <p:nvPr/>
        </p:nvPicPr>
        <p:blipFill>
          <a:blip r:embed="rId1"/>
          <a:stretch/>
        </p:blipFill>
        <p:spPr>
          <a:xfrm>
            <a:off x="4724280" y="1828800"/>
            <a:ext cx="416268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9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Treache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FAMILY, COUNTRY, AND FRIE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zen in a sheet of ice with only their face exposed to show the pa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3" name="Picture 7" descr="1215"/>
          <p:cNvPicPr/>
          <p:nvPr/>
        </p:nvPicPr>
        <p:blipFill>
          <a:blip r:embed="rId1"/>
          <a:stretch/>
        </p:blipFill>
        <p:spPr>
          <a:xfrm>
            <a:off x="4648320" y="2057400"/>
            <a:ext cx="41148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enter of 9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Lucif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7" name="Picture 8" descr="Satan by Dore"/>
          <p:cNvPicPr/>
          <p:nvPr/>
        </p:nvPicPr>
        <p:blipFill>
          <a:blip r:embed="rId1"/>
          <a:stretch/>
        </p:blipFill>
        <p:spPr>
          <a:xfrm>
            <a:off x="1676520" y="1447920"/>
            <a:ext cx="6095880" cy="48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3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rd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Gluttonou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rived of individuality. Each is alone, cold, and misera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Picture 10" descr="0503ciacco"/>
          <p:cNvPicPr/>
          <p:nvPr/>
        </p:nvPicPr>
        <p:blipFill>
          <a:blip r:embed="rId1"/>
          <a:stretch/>
        </p:blipFill>
        <p:spPr>
          <a:xfrm>
            <a:off x="4114800" y="1905120"/>
            <a:ext cx="4648320" cy="328608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1940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4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Avariciou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ee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t roll their wealth back and forth forev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5" name="Picture 14" descr="thumbnail of the avaricious by Dore"/>
          <p:cNvPicPr/>
          <p:nvPr/>
        </p:nvPicPr>
        <p:blipFill>
          <a:blip r:embed="rId1"/>
          <a:stretch/>
        </p:blipFill>
        <p:spPr>
          <a:xfrm>
            <a:off x="4572000" y="2057400"/>
            <a:ext cx="419112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5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Wrathful and Sulle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athful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ddy figures attack one ano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lle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k beneath the surface in filthy sl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9" name="Picture 12" descr="0703filippo"/>
          <p:cNvPicPr/>
          <p:nvPr/>
        </p:nvPicPr>
        <p:blipFill>
          <a:blip r:embed="rId1"/>
          <a:stretch/>
        </p:blipFill>
        <p:spPr>
          <a:xfrm>
            <a:off x="4267080" y="1981080"/>
            <a:ext cx="460080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rsh of Styx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Picture 5" descr="0712"/>
          <p:cNvPicPr/>
          <p:nvPr/>
        </p:nvPicPr>
        <p:blipFill>
          <a:blip r:embed="rId1"/>
          <a:stretch/>
        </p:blipFill>
        <p:spPr>
          <a:xfrm>
            <a:off x="1143000" y="1523880"/>
            <a:ext cx="655308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6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Heret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fined in tomb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6" name="Picture 8" descr="Heretics by Botticelli"/>
          <p:cNvPicPr/>
          <p:nvPr/>
        </p:nvPicPr>
        <p:blipFill>
          <a:blip r:embed="rId1"/>
          <a:stretch/>
        </p:blipFill>
        <p:spPr>
          <a:xfrm>
            <a:off x="4114800" y="1676520"/>
            <a:ext cx="47242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7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Vio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OTH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mersed in a river of boiling blo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0" name="Picture 10" descr="04800393"/>
          <p:cNvPicPr/>
          <p:nvPr/>
        </p:nvPicPr>
        <p:blipFill>
          <a:blip r:embed="rId1"/>
          <a:stretch/>
        </p:blipFill>
        <p:spPr>
          <a:xfrm>
            <a:off x="3657600" y="3276720"/>
            <a:ext cx="4762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7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Vio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S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isted plants that cannot mo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4" name="Picture 8" descr="Harpies in forest of suicides By Dore"/>
          <p:cNvPicPr/>
          <p:nvPr/>
        </p:nvPicPr>
        <p:blipFill>
          <a:blip r:embed="rId1"/>
          <a:stretch/>
        </p:blipFill>
        <p:spPr>
          <a:xfrm>
            <a:off x="5410080" y="1752480"/>
            <a:ext cx="2889360" cy="38102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0" descr="0920suicides"/>
          <p:cNvPicPr/>
          <p:nvPr/>
        </p:nvPicPr>
        <p:blipFill>
          <a:blip r:embed="rId2"/>
          <a:stretch/>
        </p:blipFill>
        <p:spPr>
          <a:xfrm>
            <a:off x="380880" y="3657600"/>
            <a:ext cx="389592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7T20:29:05Z</dcterms:created>
  <dc:creator>CCSD</dc:creator>
  <dc:description/>
  <dc:language>en-US</dc:language>
  <cp:lastModifiedBy>RomaK</cp:lastModifiedBy>
  <dcterms:modified xsi:type="dcterms:W3CDTF">2015-09-04T10:35:35Z</dcterms:modified>
  <cp:revision>12</cp:revision>
  <dc:subject/>
  <dc:title>Dante's Inferno</dc:title>
</cp:coreProperties>
</file>