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F660-AF0D-4C1C-966F-2BDDF01FA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D4B-0117-425F-AECD-20AFEF95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B41-5853-47C3-8AAC-03BB781A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222-4AA0-417B-ABCD-B4442A8C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939-1CAF-447C-B0A0-5044257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AA6-208C-46D5-AA59-DFDBA9A0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97F-86FA-4C47-BF21-E78DAB0D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0F8-EF6B-4B6B-B17B-ED408CA2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7C5-F4D1-470D-97B3-12D9133F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E60-5566-4ADD-9357-0B3047E0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D58-D953-489D-A06D-DF049DA6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903-4C1F-41FB-AA92-B8C6C5C4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9FA-7EA2-476B-B374-2FECB278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B400-BABB-44D7-9308-535CE677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E674-BCD2-4EB8-8128-82B6E3B7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F2DA-8133-40FA-A80C-6412DA0A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8427-FF13-40C6-9E46-09898229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A3B1-AD7F-4B91-A180-DB80F9D8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6599-4F57-4E63-9CCD-CB46FE82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D579-5B74-43A7-896A-174541F2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1236-88D8-4EA7-9F0F-46E172C4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CE17-D486-444E-8214-01E9EC3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B1B4-3D5B-4113-AA9F-D7015AE6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7D8B-FE59-4E52-BFA0-D149780A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D3AC-3683-49F3-ABBD-CF24C8DF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file:///D:/07%20EOL%20PowerNotes%20G10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D33C-ABE9-486B-9361-D989858BA5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2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utoShape 15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D44D-FB8C-44C7-BCE7-BA32C53A20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Storybook"/>
              </a:rPr>
              <a:t>Drama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6" descr="MCEN00120_0000[1]"/>
          <p:cNvPicPr/>
          <p:nvPr/>
        </p:nvPicPr>
        <p:blipFill>
          <a:blip r:embed="rId1"/>
          <a:stretch/>
        </p:blipFill>
        <p:spPr>
          <a:xfrm>
            <a:off x="2901960" y="2138400"/>
            <a:ext cx="3908520" cy="34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9" descr="76160.JPG"/>
          <p:cNvPicPr/>
          <p:nvPr/>
        </p:nvPicPr>
        <p:blipFill>
          <a:blip r:embed="rId1"/>
          <a:srcRect l="0" t="11942" r="0" b="44751"/>
          <a:stretch/>
        </p:blipFill>
        <p:spPr>
          <a:xfrm>
            <a:off x="852480" y="3429000"/>
            <a:ext cx="3089160" cy="2023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28480" y="13701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mic complications always occur before the conflic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625840" y="2327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84023.JPG"/>
          <p:cNvPicPr/>
          <p:nvPr/>
        </p:nvPicPr>
        <p:blipFill>
          <a:blip r:embed="rId3"/>
          <a:stretch/>
        </p:blipFill>
        <p:spPr>
          <a:xfrm>
            <a:off x="5483160" y="1455840"/>
            <a:ext cx="2968560" cy="1960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0"/>
          <p:cNvSpPr/>
          <p:nvPr/>
        </p:nvSpPr>
        <p:spPr>
          <a:xfrm>
            <a:off x="4040280" y="3808440"/>
            <a:ext cx="46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n most cases, the play ends with a wed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odern Come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 modern comedies, the genders in this romantic plot pattern sometimes are rever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odern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28480" y="338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is about ordinary peop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28480" y="192240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ay be tragedy, comedy, or a mixture of th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528480" y="283212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focuses on pers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0" descr="girl3"/>
          <p:cNvPicPr/>
          <p:nvPr/>
        </p:nvPicPr>
        <p:blipFill>
          <a:blip r:embed="rId1"/>
          <a:stretch/>
        </p:blipFill>
        <p:spPr>
          <a:xfrm>
            <a:off x="3778200" y="4267080"/>
            <a:ext cx="2540160" cy="174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ANT0080E.JPG"/>
          <p:cNvPicPr/>
          <p:nvPr/>
        </p:nvPicPr>
        <p:blipFill>
          <a:blip r:embed="rId2"/>
          <a:stretch/>
        </p:blipFill>
        <p:spPr>
          <a:xfrm>
            <a:off x="5410080" y="2292480"/>
            <a:ext cx="2336760" cy="1560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47304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dern playwrights often experiment with unconventional plot struc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6" descr="ANT0011E.JPG"/>
          <p:cNvPicPr/>
          <p:nvPr/>
        </p:nvPicPr>
        <p:blipFill>
          <a:blip r:embed="rId3"/>
          <a:stretch/>
        </p:blipFill>
        <p:spPr>
          <a:xfrm>
            <a:off x="2297160" y="2286000"/>
            <a:ext cx="234792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523800" y="2762280"/>
            <a:ext cx="2286000" cy="1092240"/>
          </a:xfrm>
          <a:prstGeom prst="leftArrow">
            <a:avLst>
              <a:gd name="adj1" fmla="val 50000"/>
              <a:gd name="adj2" fmla="val 52324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ng flashb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5"/>
          <p:cNvSpPr/>
          <p:nvPr/>
        </p:nvSpPr>
        <p:spPr>
          <a:xfrm>
            <a:off x="7051680" y="3206880"/>
            <a:ext cx="1281240" cy="635040"/>
          </a:xfrm>
          <a:custGeom>
            <a:avLst/>
            <a:gdLst>
              <a:gd name="textAreaLeft" fmla="*/ 0 w 1281240"/>
              <a:gd name="textAreaRight" fmla="*/ 1281240 w 1281240"/>
              <a:gd name="textAreaTop" fmla="*/ 82080 h 635040"/>
              <a:gd name="textAreaBottom" fmla="*/ 5529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6"/>
          <p:cNvSpPr/>
          <p:nvPr/>
        </p:nvSpPr>
        <p:spPr>
          <a:xfrm flipH="1">
            <a:off x="1065240" y="4194000"/>
            <a:ext cx="2844720" cy="1036800"/>
          </a:xfrm>
          <a:prstGeom prst="wedgeRoundRectCallout">
            <a:avLst>
              <a:gd name="adj1" fmla="val -64625"/>
              <a:gd name="adj2" fmla="val 40504"/>
              <a:gd name="adj3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ual projections of a character’s private thou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49360" y="13032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When you read a play, remember that it is meant to be performed for an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23800" y="2274840"/>
          <a:ext cx="3675240" cy="33591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tage Dire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laywright describes setting and characters’ actions and mann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[Wyona is sitting on the couch. She sees Paul and jumps to her feet.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Wyona.</a:t>
                      </a: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[Angrily.] What do you wan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0" name="Line 115"/>
          <p:cNvSpPr/>
          <p:nvPr/>
        </p:nvSpPr>
        <p:spPr>
          <a:xfrm>
            <a:off x="4284720" y="24685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1800" y="2260440"/>
          <a:ext cx="3568680" cy="2697480"/>
        </p:xfrm>
        <a:graphic>
          <a:graphicData uri="http://schemas.openxmlformats.org/drawingml/2006/table">
            <a:tbl>
              <a:tblPr/>
              <a:tblGrid>
                <a:gridCol w="3568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erform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2277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ater artists bring the playwright’s vision to life on the s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 audience responds to the play and shares the experie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153"/>
          <p:cNvSpPr/>
          <p:nvPr/>
        </p:nvSpPr>
        <p:spPr>
          <a:xfrm>
            <a:off x="5407200" y="2746440"/>
            <a:ext cx="2199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ater artists</a:t>
            </a:r>
            <a:r>
              <a:rPr b="1" lang="en-US" sz="2800" spc="-1" strike="noStrike">
                <a:solidFill>
                  <a:srgbClr val="ffffa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Lighting tech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Stage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c10ele134"/>
          <p:cNvPicPr/>
          <p:nvPr/>
        </p:nvPicPr>
        <p:blipFill>
          <a:blip r:embed="rId1"/>
          <a:stretch/>
        </p:blipFill>
        <p:spPr>
          <a:xfrm>
            <a:off x="4344840" y="2171880"/>
            <a:ext cx="4065840" cy="29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9" descr="c10ele116"/>
          <p:cNvPicPr/>
          <p:nvPr/>
        </p:nvPicPr>
        <p:blipFill>
          <a:blip r:embed="rId1"/>
          <a:stretch/>
        </p:blipFill>
        <p:spPr>
          <a:xfrm>
            <a:off x="5103720" y="232740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528480" y="1370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ges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an have many different sizes and layou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28480" y="22892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Thrust”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23800" y="2835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stage extends into the viewing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528480" y="37432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audience surrounds the stage on three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the round” st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urrounded by an audience on all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6" name="Picture 23" descr="c10ele117"/>
          <p:cNvPicPr/>
          <p:nvPr/>
        </p:nvPicPr>
        <p:blipFill>
          <a:blip r:embed="rId1"/>
          <a:stretch/>
        </p:blipFill>
        <p:spPr>
          <a:xfrm>
            <a:off x="3130560" y="259380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1" descr="c10ele118"/>
          <p:cNvPicPr/>
          <p:nvPr/>
        </p:nvPicPr>
        <p:blipFill>
          <a:blip r:embed="rId1"/>
          <a:srcRect l="0" t="11018" r="0" b="30432"/>
          <a:stretch/>
        </p:blipFill>
        <p:spPr>
          <a:xfrm>
            <a:off x="3354480" y="3500280"/>
            <a:ext cx="2543040" cy="2041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roscenium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aying area extends behind an opening called a “proscenium arch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28480" y="2830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dience sits on one side looking in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33640" y="4159080"/>
            <a:ext cx="15908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up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33640" y="547524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own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27800" y="4616280"/>
            <a:ext cx="16160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le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136600" y="461628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9920" y="2822400"/>
            <a:ext cx="43257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ages in Shakespeare’s time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were thrust s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4" descr="c10ele133"/>
          <p:cNvPicPr/>
          <p:nvPr/>
        </p:nvPicPr>
        <p:blipFill>
          <a:blip r:embed="rId1"/>
          <a:stretch/>
        </p:blipFill>
        <p:spPr>
          <a:xfrm>
            <a:off x="4495680" y="1379520"/>
            <a:ext cx="33181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6" descr="c10ele101"/>
          <p:cNvPicPr/>
          <p:nvPr/>
        </p:nvPicPr>
        <p:blipFill>
          <a:blip r:embed="rId1"/>
          <a:stretch/>
        </p:blipFill>
        <p:spPr>
          <a:xfrm>
            <a:off x="630360" y="2443320"/>
            <a:ext cx="3485880" cy="25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c10ele102"/>
          <p:cNvPicPr/>
          <p:nvPr/>
        </p:nvPicPr>
        <p:blipFill>
          <a:blip r:embed="rId2"/>
          <a:stretch/>
        </p:blipFill>
        <p:spPr>
          <a:xfrm>
            <a:off x="5103720" y="24433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story enacted onstage for a live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cene design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ransforms a bare stage into the world of the play. Scene design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528480" y="392904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28480" y="22906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28480" y="337968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stu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528480" y="2828880"/>
            <a:ext cx="27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6" name="Picture 36" descr="c10ele119"/>
          <p:cNvPicPr/>
          <p:nvPr/>
        </p:nvPicPr>
        <p:blipFill>
          <a:blip r:embed="rId1"/>
          <a:stretch/>
        </p:blipFill>
        <p:spPr>
          <a:xfrm>
            <a:off x="4572000" y="23670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4" descr="c10ele120"/>
          <p:cNvPicPr/>
          <p:nvPr/>
        </p:nvPicPr>
        <p:blipFill>
          <a:blip r:embed="rId1"/>
          <a:stretch/>
        </p:blipFill>
        <p:spPr>
          <a:xfrm>
            <a:off x="473040" y="214308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5" descr="c10ele121"/>
          <p:cNvPicPr/>
          <p:nvPr/>
        </p:nvPicPr>
        <p:blipFill>
          <a:blip r:embed="rId2"/>
          <a:stretch/>
        </p:blipFill>
        <p:spPr>
          <a:xfrm>
            <a:off x="4799160" y="206532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stage’s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t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might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238480" y="2360520"/>
            <a:ext cx="19699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listic and 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637320" y="2370240"/>
            <a:ext cx="19573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bstract and 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23800" y="1370160"/>
            <a:ext cx="80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ight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rector skillfully uses light to change the mood and appearance of the 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85" name="Picture 13" descr="c10ele122"/>
          <p:cNvPicPr/>
          <p:nvPr/>
        </p:nvPicPr>
        <p:blipFill>
          <a:blip r:embed="rId1"/>
          <a:stretch/>
        </p:blipFill>
        <p:spPr>
          <a:xfrm>
            <a:off x="3243240" y="229536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c10ele123"/>
          <p:cNvPicPr/>
          <p:nvPr/>
        </p:nvPicPr>
        <p:blipFill>
          <a:blip r:embed="rId2"/>
          <a:stretch/>
        </p:blipFill>
        <p:spPr>
          <a:xfrm>
            <a:off x="3235320" y="2295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4" descr="c10ele125"/>
          <p:cNvPicPr/>
          <p:nvPr/>
        </p:nvPicPr>
        <p:blipFill>
          <a:blip r:embed="rId1"/>
          <a:stretch/>
        </p:blipFill>
        <p:spPr>
          <a:xfrm>
            <a:off x="6545160" y="3276720"/>
            <a:ext cx="1743120" cy="25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3WkLU0-67K-15Ezl2-Bdg-v1-p"/>
          <p:cNvPicPr/>
          <p:nvPr/>
        </p:nvPicPr>
        <p:blipFill>
          <a:blip r:embed="rId2"/>
          <a:stretch/>
        </p:blipFill>
        <p:spPr>
          <a:xfrm>
            <a:off x="990720" y="3333600"/>
            <a:ext cx="1744560" cy="261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stume director works with the director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o design the actors’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stu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23800" y="2284560"/>
            <a:ext cx="80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ke sets, costum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2502000" y="3166920"/>
            <a:ext cx="13636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6829560" y="24066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291280" y="3162240"/>
            <a:ext cx="136656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Ba2ES-4mc-1A89q4-3kp-v1-p"/>
          <p:cNvPicPr/>
          <p:nvPr/>
        </p:nvPicPr>
        <p:blipFill>
          <a:blip r:embed="rId1"/>
          <a:srcRect l="5446" t="0" r="16470" b="0"/>
          <a:stretch/>
        </p:blipFill>
        <p:spPr>
          <a:xfrm>
            <a:off x="6537240" y="2568600"/>
            <a:ext cx="1757520" cy="176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Ba2ES-Ct-1ADiIA-BlP-v1-p"/>
          <p:cNvPicPr/>
          <p:nvPr/>
        </p:nvPicPr>
        <p:blipFill>
          <a:blip r:embed="rId2"/>
          <a:srcRect l="0" t="0" r="3084" b="0"/>
          <a:stretch/>
        </p:blipFill>
        <p:spPr>
          <a:xfrm>
            <a:off x="4551480" y="2568600"/>
            <a:ext cx="17334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528480" y="13701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p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(short for </a:t>
            </a:r>
            <a:r>
              <a:rPr b="0" i="1" lang="en-US" sz="2400" spc="-1" strike="noStrike">
                <a:solidFill>
                  <a:srgbClr val="ffffa3"/>
                </a:solidFill>
                <a:latin typeface="Verdana"/>
              </a:rPr>
              <a:t>propertie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) are items that the characters carry or handle ons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23800" y="4527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72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3" descr="Ba2ES-3EW-1A8p7Y-1q3-v1-p"/>
          <p:cNvPicPr/>
          <p:nvPr/>
        </p:nvPicPr>
        <p:blipFill>
          <a:blip r:embed="rId3"/>
          <a:stretch/>
        </p:blipFill>
        <p:spPr>
          <a:xfrm>
            <a:off x="523800" y="2568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Ba2ES-1Bb-1ADiJ6-Bhn-v1-p"/>
          <p:cNvPicPr/>
          <p:nvPr/>
        </p:nvPicPr>
        <p:blipFill>
          <a:blip r:embed="rId4"/>
          <a:stretch/>
        </p:blipFill>
        <p:spPr>
          <a:xfrm>
            <a:off x="2576520" y="2568600"/>
            <a:ext cx="1689120" cy="1752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characters’ speech may take any of the following 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8600" y="2282760"/>
          <a:ext cx="8111880" cy="2378160"/>
        </p:xfrm>
        <a:graphic>
          <a:graphicData uri="http://schemas.openxmlformats.org/drawingml/2006/table">
            <a:tbl>
              <a:tblPr/>
              <a:tblGrid>
                <a:gridCol w="8111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Dia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conversations of characters on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o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long speech given by one character to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liloquy: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speech by a character alone onstage to himself or herself or to the aud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sides: 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emarks made to the audience or to one character; the other characters onstage do not hear an 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haract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c10ele130"/>
          <p:cNvPicPr/>
          <p:nvPr/>
        </p:nvPicPr>
        <p:blipFill>
          <a:blip r:embed="rId1"/>
          <a:stretch/>
        </p:blipFill>
        <p:spPr>
          <a:xfrm>
            <a:off x="5823000" y="247968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33520" y="13701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Finally, a play needs an audienc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990720" y="2127240"/>
            <a:ext cx="477360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erience th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23800" y="3454560"/>
            <a:ext cx="4765680" cy="4597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rstand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846000" y="4894200"/>
            <a:ext cx="47959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pond to th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Audi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839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920" y="1455480"/>
            <a:ext cx="510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Origins of D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word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comes from the Greek verb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ch means “to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3"/>
                </a:solidFill>
                <a:latin typeface="Times New Roman"/>
              </a:rPr>
              <a:t>The earliest known plays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ere written around the fifth century B.C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produced for festivals to honor Dionysus, the god of wine and fer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c10ele131"/>
          <p:cNvPicPr/>
          <p:nvPr/>
        </p:nvPicPr>
        <p:blipFill>
          <a:blip r:embed="rId1"/>
          <a:stretch/>
        </p:blipFill>
        <p:spPr>
          <a:xfrm>
            <a:off x="5396040" y="1531800"/>
            <a:ext cx="2973240" cy="407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the plot of a story, the plot of a play involves characters who face a problem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92640" y="2281320"/>
            <a:ext cx="38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int of highest tension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 determines how the conflict will be re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161760" y="4557600"/>
            <a:ext cx="24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nflict is resol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ay 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21880" y="33638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nsion bui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698400" y="4894200"/>
            <a:ext cx="914400" cy="1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1574640" y="3705120"/>
            <a:ext cx="4483440" cy="11937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58080" y="3713040"/>
            <a:ext cx="912600" cy="7732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981760" y="3619440"/>
            <a:ext cx="1522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988320" y="4475160"/>
            <a:ext cx="914400" cy="14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6902280" y="4408560"/>
            <a:ext cx="15264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079640" y="4815000"/>
            <a:ext cx="1522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3800" y="4970520"/>
            <a:ext cx="32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Exposit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aracters and </a:t>
            </a:r>
            <a:r>
              <a:rPr b="0" lang="en-US" sz="2000" spc="-1" strike="noStrike">
                <a:solidFill>
                  <a:srgbClr val="ffffa3"/>
                </a:solidFill>
                <a:latin typeface="Verdana"/>
              </a:rPr>
              <a:t>conflict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599840"/>
            <a:ext cx="47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i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truggle or clash between opposing characters or forces. A conflict may develop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characters who want different things or the same 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a character and his or her circum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ithin a character who is torn by competing 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c10ele132"/>
          <p:cNvPicPr/>
          <p:nvPr/>
        </p:nvPicPr>
        <p:blipFill>
          <a:blip r:embed="rId1"/>
          <a:stretch/>
        </p:blipFill>
        <p:spPr>
          <a:xfrm>
            <a:off x="5103720" y="2593800"/>
            <a:ext cx="3291120" cy="22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528480" y="137016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unhappi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28480" y="5008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ragedies pit human limitations against the larger forces of destin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5640" y="281628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right and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995640" y="339552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justice and in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3995640" y="3978360"/>
            <a:ext cx="42991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fe and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625320" y="183528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2640" indent="-39816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st classic Greek tragedies deal with serious, universal theme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wr?wodata=1_310026510_vx"/>
          <p:cNvPicPr/>
          <p:nvPr/>
        </p:nvPicPr>
        <p:blipFill>
          <a:blip r:embed="rId1"/>
          <a:srcRect l="0" t="43038" r="0" b="0"/>
          <a:stretch/>
        </p:blipFill>
        <p:spPr>
          <a:xfrm>
            <a:off x="990720" y="2798640"/>
            <a:ext cx="264132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8" descr="OCH0100D"/>
          <p:cNvPicPr/>
          <p:nvPr/>
        </p:nvPicPr>
        <p:blipFill>
          <a:blip r:embed="rId1"/>
          <a:stretch/>
        </p:blipFill>
        <p:spPr>
          <a:xfrm>
            <a:off x="6581880" y="2355840"/>
            <a:ext cx="2028600" cy="270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28480" y="1370160"/>
            <a:ext cx="80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rotagonist of most classical tragedies is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ic hero.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his h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49360" y="2367000"/>
            <a:ext cx="45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s noble and in many ways admi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8480" y="3206880"/>
            <a:ext cx="44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has a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ragic flaw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, a personal failing that leads to a tragic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903920" y="3197160"/>
            <a:ext cx="20224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bell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70480" y="4264200"/>
            <a:ext cx="13492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ealous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6273720" y="2130480"/>
            <a:ext cx="94320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49360" y="122868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happily. The plot usually centers on a romantic 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7640" y="2362320"/>
            <a:ext cx="217476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530520" y="2349360"/>
            <a:ext cx="21751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lose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426360" y="2324160"/>
            <a:ext cx="217476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win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94624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82948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6" descr="PIL0041D.jpg"/>
          <p:cNvPicPr/>
          <p:nvPr/>
        </p:nvPicPr>
        <p:blipFill>
          <a:blip r:embed="rId1"/>
          <a:stretch/>
        </p:blipFill>
        <p:spPr>
          <a:xfrm>
            <a:off x="758880" y="2890800"/>
            <a:ext cx="1940040" cy="24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8" descr="PIL0064E.jpg"/>
          <p:cNvPicPr/>
          <p:nvPr/>
        </p:nvPicPr>
        <p:blipFill>
          <a:blip r:embed="rId2"/>
          <a:stretch/>
        </p:blipFill>
        <p:spPr>
          <a:xfrm>
            <a:off x="3387600" y="3041640"/>
            <a:ext cx="256536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PIL0024D.jpg"/>
          <p:cNvPicPr/>
          <p:nvPr/>
        </p:nvPicPr>
        <p:blipFill>
          <a:blip r:embed="rId3"/>
          <a:stretch/>
        </p:blipFill>
        <p:spPr>
          <a:xfrm>
            <a:off x="6673680" y="2855880"/>
            <a:ext cx="1632240" cy="244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0" descr="c10ele110"/>
          <p:cNvPicPr/>
          <p:nvPr/>
        </p:nvPicPr>
        <p:blipFill>
          <a:blip r:embed="rId1"/>
          <a:stretch/>
        </p:blipFill>
        <p:spPr>
          <a:xfrm>
            <a:off x="640404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c10ele109"/>
          <p:cNvPicPr/>
          <p:nvPr/>
        </p:nvPicPr>
        <p:blipFill>
          <a:blip r:embed="rId2"/>
          <a:stretch/>
        </p:blipFill>
        <p:spPr>
          <a:xfrm>
            <a:off x="343368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8" descr="c10ele108"/>
          <p:cNvPicPr/>
          <p:nvPr/>
        </p:nvPicPr>
        <p:blipFill>
          <a:blip r:embed="rId3"/>
          <a:stretch/>
        </p:blipFill>
        <p:spPr>
          <a:xfrm>
            <a:off x="436680" y="2293920"/>
            <a:ext cx="2266920" cy="3108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473040" y="130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main characters in a comedy could be any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736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62292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4644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wns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Lisa LeAnn Ward</dc:creator>
  <dc:description/>
  <dc:language>en-US</dc:language>
  <cp:lastModifiedBy>RomaK</cp:lastModifiedBy>
  <cp:lastPrinted>2004-11-19T20:17:12Z</cp:lastPrinted>
  <dcterms:modified xsi:type="dcterms:W3CDTF">2015-09-04T10:35:41Z</dcterms:modified>
  <cp:revision>1118</cp:revision>
  <dc:subject/>
  <dc:title>Elements of Drama</dc:title>
</cp:coreProperties>
</file>