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1.jpeg" ContentType="image/jpeg"/>
  <Override PartName="/ppt/media/image2.wmf" ContentType="image/x-wmf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F9737-060B-4ECD-965D-5143C8FC5B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ram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Dram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ic complications always occur before the conflict is resolv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most cases, the play ends with a wedd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ic complications always occur before the conflict is resolv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most cases, the play ends with a wedd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ern Com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ern Comed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modern comedies, the genders in this romantic plot pattern sometimes are revers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ern Com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ern Comed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modern comedies, the genders in this romantic plot pattern sometimes are revers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modern pla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ually is about ordinary people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y be tragedy, comedy, or a mixture of the tw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ually focuses on personal issu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ern Dram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modern pla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ually is about ordinary people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y be tragedy, comedy, or a mixture of the tw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ually focuses on personal issu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ern Dram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ern playwrights often experiment with unconventional plot structur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ern Dram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ng flashback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usic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isual projections of a character’s private though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ern playwrights often experiment with unconventional plot structur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ern Dram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ng flashback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usic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isual projections of a character’s private though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you read a play, remember that it is meant to be performed for an audience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formance of a Pla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you read a play, remember that it is meant to be performed for an audience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formance of a Pla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formance of a Pla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ater artists includ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cto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irecto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ghting technicia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ge crew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formance of a Pla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ater artists includ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cto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irecto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ghting technicia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ge crew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ges can have many different sizes and layou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ust”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stage extends into the viewing area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udience surrounds the stage on three sid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ges can have many different sizes and layou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ust”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stage extends into the viewing area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udience surrounds the stage on three sid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the round” stage is surrounded by an audience on all sid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the round” stage is surrounded by an audience on all sid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scenium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playing area extends behind an opening called a “proscenium arch.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udience sits on one side looking into the acti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p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own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ge lef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ge righ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scenium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playing area extends behind an opening called a “proscenium arch.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udience sits on one side looking into the acti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p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own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ge lef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ge righ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ges in Shakespeare’s time were thrust stag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ges in Shakespeare’s time were thrust stag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drama is a story enacted onstage for a live audience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Is Drama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drama is a story enacted onstage for a live audience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Is Drama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cene design transforms a bare stage into the world of the play. Scene design consists of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p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stum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ght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cene design transforms a bare stage into the world of the play. Scene design consists of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p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stum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ght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stage’s set might b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alistic and detail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bstract and minim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stage’s set might b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alistic and detail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bstract and minim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lighting director skillfully uses light to change the mood and appearance of the se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lighting director skillfully uses light to change the mood and appearance of the se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ostume director works with the director to design the actors’ costum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ke sets, costumes can b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tail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inim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ostume director works with the director to design the actors’ costum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ke sets, costumes can b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tail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inim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ps (short for properties) are items that the characters carry or handle onstag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person in charge of props must make sure that the right props are available to the actors at the right mo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ps (short for properties) are items that the characters carry or handle onstag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person in charge of props must make sure that the right props are available to the actors at the right mo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haracters’ speech may take any of the following form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haract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haracters’ speech may take any of the following form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haract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ally, a play needs an audience t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perience the performan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nderstand the stor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pond to the charact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udien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ally, a play needs an audience t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perience the performan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nderstand the stor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pond to the charact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udien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Is Drama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rigins of Dram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word drama comes from the Greek verb dran, which means “to do.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earliest known plays . . 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ere written around the fifth century B.C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duced for festivals to honor Dionysus, the god of wine and fertilit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Is Drama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rigins of Dram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word drama comes from the Greek verb dran, which means “to do.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earliest known plays . . 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ere written around the fifth century B.C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duced for festivals to honor Dionysus, the god of wine and fertilit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ke the plot of a story, the plot of a play involves characters who face a problem or conflic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max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int of highest tension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ction determines how the conflict will be resolv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olu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flict is resolved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ay en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icati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ension buil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posi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aracters and conflict are introduc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ramatic Structu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ke the plot of a story, the plot of a play involves characters who face a problem or conflic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max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int of highest tension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ction determines how the conflict will be resolv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olu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flict is resolved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ay en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icati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ension buil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posi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aracters and conflict are introduc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ramatic Structu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ramatic Structu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flict is a struggle or clash between opposing characters or forces. A conflict may develop . . 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tween characters who want different things or the same t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tween a character and his or her circumstanc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ithin a character who is torn by competing desir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ramatic Structu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flict is a struggle or clash between opposing characters or forces. A conflict may develop . . 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tween characters who want different things or the same t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tween a character and his or her circumstanc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ithin a character who is torn by competing desir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tragedy is a play that ends unhappily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ragedies pit human limitations against the larger forces of destin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ight and wro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justice and injusti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fe and death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rag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st classic Greek tragedies deal with serious, universal themes such a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tragedy is a play that ends unhappily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ragedies pit human limitations against the larger forces of destin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ight and wro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justice and injusti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fe and death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rag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st classic Greek tragedies deal with serious, universal themes such a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protagonist of most classical tragedies is a tragic hero. This her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s noble and in many ways admirab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a tragic flaw, a personal failing that leads to a tragic en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belliousnes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jealous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id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rag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protagonist of most classical tragedies is a tragic hero. This her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s noble and in many ways admirab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a tragic flaw, a personal failing that leads to a tragic en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belliousnes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jealous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id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rag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comedy is a play that ends happily. The plot usually centers on a romantic conflic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y meets gir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y loses gir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y wins gir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comedy is a play that ends happily. The plot usually centers on a romantic conflic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y meets gir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y loses gir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y wins gir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main characters in a comedy could be anyon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bilit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a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wnspeop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main characters in a comedy could be anyon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bilit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a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wnspeop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C59E-5417-4E30-A418-59242504E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57E3-3326-42C4-9F51-19087C800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0C85-E13C-45C4-8B1A-997884C52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AD90-1F2B-4F35-A1CF-4F028AC69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9269-C1E7-4811-B693-1457641B1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AEA0-1C7B-4021-B269-AC3A4BD9A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165D-CC7C-48EA-9B81-1268AC95F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B898-953B-42DF-8142-DBCDBF558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F512-D747-4F25-BEE2-3840843F1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C79A-587F-499E-9AEC-B216CC3F3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BAF9-D80F-4BF7-B8A9-9C0F5688F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E52D-27DD-4CA8-8FB8-5F1C98EF2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477EE-BA28-412B-A68C-1321FE5FF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FB7D4-911E-4F29-BBD4-507364A8D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0D3BF-3CFC-42FF-BEED-25E39E710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D895F-C84A-4746-862C-885E79B9C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D0B45-4B2B-41AA-8330-298E21336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1BF78-CDF6-4E9C-A0D9-124AF0ABF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376ED-1464-4EB0-92BD-2CFEC4168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F9EC1-2642-4FC6-A46C-1F9D3FE7F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72C70-BCBB-40EB-BAC2-26CEF13C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22566-889C-4A15-B741-44A5FE1D3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6A2CB-6234-4E67-B398-6B539A9F0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2AEAE-3106-4086-96E6-3BE52487C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" Target="slide2.xml"/><Relationship Id="rId4" Type="http://schemas.openxmlformats.org/officeDocument/2006/relationships/hyperlink" Target="file:///D:/07%20EOL%20PowerNotes%20G10/Credits.ppt" TargetMode="External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a3"/>
                </a:solidFill>
                <a:latin typeface="Verdana"/>
              </a:rPr>
              <a:t>Click to edit the title text format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1" name="AutoShape 3">
            <a:hlinkClick r:id="rId3" action="ppaction://hlinksldjump"/>
          </p:cNvPr>
          <p:cNvSpPr/>
          <p:nvPr/>
        </p:nvSpPr>
        <p:spPr>
          <a:xfrm>
            <a:off x="7620120" y="6019920"/>
            <a:ext cx="609480" cy="8380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838080"/>
              <a:gd name="textAreaBottom" fmla="*/ 798840 h 838080"/>
            </a:gdLst>
            <a:ahLst/>
            <a:rect l="textAreaLeft" t="textAreaTop" r="textAreaRight" b="textAreaBottom"/>
            <a:pathLst>
              <a:path w="21600" h="29697">
                <a:moveTo>
                  <a:pt x="0" y="0"/>
                </a:moveTo>
                <a:lnTo>
                  <a:pt x="21600" y="0"/>
                </a:lnTo>
                <a:lnTo>
                  <a:pt x="21600" y="29697"/>
                </a:lnTo>
                <a:lnTo>
                  <a:pt x="0" y="29697"/>
                </a:lnTo>
                <a:close/>
              </a:path>
              <a:path fill="lightenLess" w="21600" h="296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697">
                <a:moveTo>
                  <a:pt x="21600" y="0"/>
                </a:moveTo>
                <a:lnTo>
                  <a:pt x="21600" y="29697"/>
                </a:lnTo>
                <a:lnTo>
                  <a:pt x="20200" y="28297"/>
                </a:lnTo>
                <a:lnTo>
                  <a:pt x="20200" y="1400"/>
                </a:lnTo>
                <a:close/>
              </a:path>
              <a:path fill="darkenLess" w="21600" h="29697">
                <a:moveTo>
                  <a:pt x="21600" y="29697"/>
                </a:moveTo>
                <a:lnTo>
                  <a:pt x="0" y="29697"/>
                </a:lnTo>
                <a:lnTo>
                  <a:pt x="1400" y="28297"/>
                </a:lnTo>
                <a:lnTo>
                  <a:pt x="20200" y="28297"/>
                </a:lnTo>
                <a:close/>
              </a:path>
              <a:path fill="lighten" w="21600" h="29697">
                <a:moveTo>
                  <a:pt x="0" y="296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297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>
            <a:hlinkClick r:id="" action="ppaction://hlinkshowjump?jump=previousslide"/>
          </p:cNvPr>
          <p:cNvSpPr/>
          <p:nvPr/>
        </p:nvSpPr>
        <p:spPr>
          <a:xfrm>
            <a:off x="617220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AutoShape 5">
            <a:hlinkClick r:id="" action="ppaction://hlinkshowjump?jump=nextslide"/>
          </p:cNvPr>
          <p:cNvSpPr/>
          <p:nvPr/>
        </p:nvSpPr>
        <p:spPr>
          <a:xfrm>
            <a:off x="693432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AutoShape 6">
            <a:hlinkClick r:id="" action="ppaction://hlinkshowjump?jump=endshow"/>
          </p:cNvPr>
          <p:cNvSpPr/>
          <p:nvPr/>
        </p:nvSpPr>
        <p:spPr>
          <a:xfrm>
            <a:off x="8381880" y="6019920"/>
            <a:ext cx="533520" cy="8380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838080"/>
              <a:gd name="textAreaBottom" fmla="*/ 803520 h 838080"/>
            </a:gdLst>
            <a:ahLst/>
            <a:rect l="textAreaLeft" t="textAreaTop" r="textAreaRight" b="textAreaBottom"/>
            <a:pathLst>
              <a:path w="21600" h="33922">
                <a:moveTo>
                  <a:pt x="0" y="0"/>
                </a:moveTo>
                <a:lnTo>
                  <a:pt x="21600" y="0"/>
                </a:lnTo>
                <a:lnTo>
                  <a:pt x="21600" y="33922"/>
                </a:lnTo>
                <a:lnTo>
                  <a:pt x="0" y="33922"/>
                </a:lnTo>
                <a:close/>
              </a:path>
              <a:path fill="lightenLess" w="21600" h="339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3922">
                <a:moveTo>
                  <a:pt x="21600" y="0"/>
                </a:moveTo>
                <a:lnTo>
                  <a:pt x="21600" y="33922"/>
                </a:lnTo>
                <a:lnTo>
                  <a:pt x="20200" y="32522"/>
                </a:lnTo>
                <a:lnTo>
                  <a:pt x="20200" y="1400"/>
                </a:lnTo>
                <a:close/>
              </a:path>
              <a:path fill="darkenLess" w="21600" h="33922">
                <a:moveTo>
                  <a:pt x="21600" y="33922"/>
                </a:moveTo>
                <a:lnTo>
                  <a:pt x="0" y="33922"/>
                </a:lnTo>
                <a:lnTo>
                  <a:pt x="1400" y="32522"/>
                </a:lnTo>
                <a:lnTo>
                  <a:pt x="20200" y="32522"/>
                </a:lnTo>
                <a:close/>
              </a:path>
              <a:path fill="lighten" w="21600" h="33922">
                <a:moveTo>
                  <a:pt x="0" y="33922"/>
                </a:moveTo>
                <a:lnTo>
                  <a:pt x="0" y="0"/>
                </a:lnTo>
                <a:lnTo>
                  <a:pt x="1400" y="1400"/>
                </a:lnTo>
                <a:lnTo>
                  <a:pt x="1400" y="3252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>
            <a:hlinkClick r:id="rId4"/>
          </p:cNvPr>
          <p:cNvSpPr/>
          <p:nvPr/>
        </p:nvSpPr>
        <p:spPr>
          <a:xfrm>
            <a:off x="4952880" y="662940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3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467BF-D70E-4D26-B336-629500B274F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15">
            <a:hlinkClick r:id="rId2" action="ppaction://hlinksldjump"/>
          </p:cNvPr>
          <p:cNvSpPr/>
          <p:nvPr/>
        </p:nvSpPr>
        <p:spPr>
          <a:xfrm>
            <a:off x="7620120" y="6019920"/>
            <a:ext cx="609480" cy="8380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838080"/>
              <a:gd name="textAreaBottom" fmla="*/ 798840 h 838080"/>
            </a:gdLst>
            <a:ahLst/>
            <a:rect l="textAreaLeft" t="textAreaTop" r="textAreaRight" b="textAreaBottom"/>
            <a:pathLst>
              <a:path w="21600" h="29697">
                <a:moveTo>
                  <a:pt x="0" y="0"/>
                </a:moveTo>
                <a:lnTo>
                  <a:pt x="21600" y="0"/>
                </a:lnTo>
                <a:lnTo>
                  <a:pt x="21600" y="29697"/>
                </a:lnTo>
                <a:lnTo>
                  <a:pt x="0" y="29697"/>
                </a:lnTo>
                <a:close/>
              </a:path>
              <a:path fill="lightenLess" w="21600" h="296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697">
                <a:moveTo>
                  <a:pt x="21600" y="0"/>
                </a:moveTo>
                <a:lnTo>
                  <a:pt x="21600" y="29697"/>
                </a:lnTo>
                <a:lnTo>
                  <a:pt x="20200" y="28297"/>
                </a:lnTo>
                <a:lnTo>
                  <a:pt x="20200" y="1400"/>
                </a:lnTo>
                <a:close/>
              </a:path>
              <a:path fill="darkenLess" w="21600" h="29697">
                <a:moveTo>
                  <a:pt x="21600" y="29697"/>
                </a:moveTo>
                <a:lnTo>
                  <a:pt x="0" y="29697"/>
                </a:lnTo>
                <a:lnTo>
                  <a:pt x="1400" y="28297"/>
                </a:lnTo>
                <a:lnTo>
                  <a:pt x="20200" y="28297"/>
                </a:lnTo>
                <a:close/>
              </a:path>
              <a:path fill="lighten" w="21600" h="29697">
                <a:moveTo>
                  <a:pt x="0" y="296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297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AutoShape 16">
            <a:hlinkClick r:id="" action="ppaction://hlinkshowjump?jump=previousslide"/>
          </p:cNvPr>
          <p:cNvSpPr/>
          <p:nvPr/>
        </p:nvSpPr>
        <p:spPr>
          <a:xfrm>
            <a:off x="617220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AutoShape 17">
            <a:hlinkClick r:id="" action="ppaction://hlinkshowjump?jump=nextslide"/>
          </p:cNvPr>
          <p:cNvSpPr/>
          <p:nvPr/>
        </p:nvSpPr>
        <p:spPr>
          <a:xfrm>
            <a:off x="693432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AutoShape 18">
            <a:hlinkClick r:id="" action="ppaction://hlinkshowjump?jump=endshow"/>
          </p:cNvPr>
          <p:cNvSpPr/>
          <p:nvPr/>
        </p:nvSpPr>
        <p:spPr>
          <a:xfrm>
            <a:off x="8381880" y="6019920"/>
            <a:ext cx="533520" cy="8380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838080"/>
              <a:gd name="textAreaBottom" fmla="*/ 803520 h 838080"/>
            </a:gdLst>
            <a:ahLst/>
            <a:rect l="textAreaLeft" t="textAreaTop" r="textAreaRight" b="textAreaBottom"/>
            <a:pathLst>
              <a:path w="21600" h="33922">
                <a:moveTo>
                  <a:pt x="0" y="0"/>
                </a:moveTo>
                <a:lnTo>
                  <a:pt x="21600" y="0"/>
                </a:lnTo>
                <a:lnTo>
                  <a:pt x="21600" y="33922"/>
                </a:lnTo>
                <a:lnTo>
                  <a:pt x="0" y="33922"/>
                </a:lnTo>
                <a:close/>
              </a:path>
              <a:path fill="lightenLess" w="21600" h="339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3922">
                <a:moveTo>
                  <a:pt x="21600" y="0"/>
                </a:moveTo>
                <a:lnTo>
                  <a:pt x="21600" y="33922"/>
                </a:lnTo>
                <a:lnTo>
                  <a:pt x="20200" y="32522"/>
                </a:lnTo>
                <a:lnTo>
                  <a:pt x="20200" y="1400"/>
                </a:lnTo>
                <a:close/>
              </a:path>
              <a:path fill="darkenLess" w="21600" h="33922">
                <a:moveTo>
                  <a:pt x="21600" y="33922"/>
                </a:moveTo>
                <a:lnTo>
                  <a:pt x="0" y="33922"/>
                </a:lnTo>
                <a:lnTo>
                  <a:pt x="1400" y="32522"/>
                </a:lnTo>
                <a:lnTo>
                  <a:pt x="20200" y="32522"/>
                </a:lnTo>
                <a:close/>
              </a:path>
              <a:path fill="lighten" w="21600" h="33922">
                <a:moveTo>
                  <a:pt x="0" y="33922"/>
                </a:moveTo>
                <a:lnTo>
                  <a:pt x="0" y="0"/>
                </a:lnTo>
                <a:lnTo>
                  <a:pt x="1400" y="1400"/>
                </a:lnTo>
                <a:lnTo>
                  <a:pt x="1400" y="3252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Rectangle 19"/>
          <p:cNvSpPr/>
          <p:nvPr/>
        </p:nvSpPr>
        <p:spPr>
          <a:xfrm>
            <a:off x="4952880" y="662940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97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4" name="AutoShape 15"/>
          <p:cNvSpPr/>
          <p:nvPr/>
        </p:nvSpPr>
        <p:spPr>
          <a:xfrm>
            <a:off x="7620120" y="6019920"/>
            <a:ext cx="609480" cy="8380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838080"/>
              <a:gd name="textAreaBottom" fmla="*/ 798840 h 838080"/>
            </a:gdLst>
            <a:ahLst/>
            <a:rect l="textAreaLeft" t="textAreaTop" r="textAreaRight" b="textAreaBottom"/>
            <a:pathLst>
              <a:path w="21600" h="29697">
                <a:moveTo>
                  <a:pt x="0" y="0"/>
                </a:moveTo>
                <a:lnTo>
                  <a:pt x="21600" y="0"/>
                </a:lnTo>
                <a:lnTo>
                  <a:pt x="21600" y="29697"/>
                </a:lnTo>
                <a:lnTo>
                  <a:pt x="0" y="29697"/>
                </a:lnTo>
                <a:close/>
              </a:path>
              <a:path fill="lightenLess" w="21600" h="296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697">
                <a:moveTo>
                  <a:pt x="21600" y="0"/>
                </a:moveTo>
                <a:lnTo>
                  <a:pt x="21600" y="29697"/>
                </a:lnTo>
                <a:lnTo>
                  <a:pt x="20200" y="28297"/>
                </a:lnTo>
                <a:lnTo>
                  <a:pt x="20200" y="1400"/>
                </a:lnTo>
                <a:close/>
              </a:path>
              <a:path fill="darkenLess" w="21600" h="29697">
                <a:moveTo>
                  <a:pt x="21600" y="29697"/>
                </a:moveTo>
                <a:lnTo>
                  <a:pt x="0" y="29697"/>
                </a:lnTo>
                <a:lnTo>
                  <a:pt x="1400" y="28297"/>
                </a:lnTo>
                <a:lnTo>
                  <a:pt x="20200" y="28297"/>
                </a:lnTo>
                <a:close/>
              </a:path>
              <a:path fill="lighten" w="21600" h="29697">
                <a:moveTo>
                  <a:pt x="0" y="296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297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AutoShape 16">
            <a:hlinkClick r:id="" action="ppaction://hlinkshowjump?jump=previousslide"/>
          </p:cNvPr>
          <p:cNvSpPr/>
          <p:nvPr/>
        </p:nvSpPr>
        <p:spPr>
          <a:xfrm>
            <a:off x="617220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AutoShape 17">
            <a:hlinkClick r:id="" action="ppaction://hlinkshowjump?jump=nextslide"/>
          </p:cNvPr>
          <p:cNvSpPr/>
          <p:nvPr/>
        </p:nvSpPr>
        <p:spPr>
          <a:xfrm>
            <a:off x="693432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AutoShape 18">
            <a:hlinkClick r:id="" action="ppaction://hlinkshowjump?jump=endshow"/>
          </p:cNvPr>
          <p:cNvSpPr/>
          <p:nvPr/>
        </p:nvSpPr>
        <p:spPr>
          <a:xfrm>
            <a:off x="8381880" y="6019920"/>
            <a:ext cx="533520" cy="8380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838080"/>
              <a:gd name="textAreaBottom" fmla="*/ 803520 h 838080"/>
            </a:gdLst>
            <a:ahLst/>
            <a:rect l="textAreaLeft" t="textAreaTop" r="textAreaRight" b="textAreaBottom"/>
            <a:pathLst>
              <a:path w="21600" h="33922">
                <a:moveTo>
                  <a:pt x="0" y="0"/>
                </a:moveTo>
                <a:lnTo>
                  <a:pt x="21600" y="0"/>
                </a:lnTo>
                <a:lnTo>
                  <a:pt x="21600" y="33922"/>
                </a:lnTo>
                <a:lnTo>
                  <a:pt x="0" y="33922"/>
                </a:lnTo>
                <a:close/>
              </a:path>
              <a:path fill="lightenLess" w="21600" h="339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3922">
                <a:moveTo>
                  <a:pt x="21600" y="0"/>
                </a:moveTo>
                <a:lnTo>
                  <a:pt x="21600" y="33922"/>
                </a:lnTo>
                <a:lnTo>
                  <a:pt x="20200" y="32522"/>
                </a:lnTo>
                <a:lnTo>
                  <a:pt x="20200" y="1400"/>
                </a:lnTo>
                <a:close/>
              </a:path>
              <a:path fill="darkenLess" w="21600" h="33922">
                <a:moveTo>
                  <a:pt x="21600" y="33922"/>
                </a:moveTo>
                <a:lnTo>
                  <a:pt x="0" y="33922"/>
                </a:lnTo>
                <a:lnTo>
                  <a:pt x="1400" y="32522"/>
                </a:lnTo>
                <a:lnTo>
                  <a:pt x="20200" y="32522"/>
                </a:lnTo>
                <a:close/>
              </a:path>
              <a:path fill="lighten" w="21600" h="33922">
                <a:moveTo>
                  <a:pt x="0" y="33922"/>
                </a:moveTo>
                <a:lnTo>
                  <a:pt x="0" y="0"/>
                </a:lnTo>
                <a:lnTo>
                  <a:pt x="1400" y="1400"/>
                </a:lnTo>
                <a:lnTo>
                  <a:pt x="1400" y="3252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Rectangle 19"/>
          <p:cNvSpPr/>
          <p:nvPr/>
        </p:nvSpPr>
        <p:spPr>
          <a:xfrm>
            <a:off x="4952880" y="662940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9887C-6C19-41A6-8B94-C4FE3E77671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96960"/>
            <a:ext cx="7772400" cy="1441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99"/>
                </a:solidFill>
                <a:latin typeface="Storybook"/>
              </a:rPr>
              <a:t>Drama</a:t>
            </a:r>
            <a:endParaRPr b="0" lang="en-US" sz="88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58" name="Picture 6" descr="MCEN00120_0000[1]"/>
          <p:cNvPicPr/>
          <p:nvPr/>
        </p:nvPicPr>
        <p:blipFill>
          <a:blip r:embed="rId1"/>
          <a:stretch/>
        </p:blipFill>
        <p:spPr>
          <a:xfrm>
            <a:off x="2901960" y="2138400"/>
            <a:ext cx="3908520" cy="3468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69" descr="76160.JPG"/>
          <p:cNvPicPr/>
          <p:nvPr/>
        </p:nvPicPr>
        <p:blipFill>
          <a:blip r:embed="rId1"/>
          <a:srcRect l="0" t="11942" r="0" b="44751"/>
          <a:stretch/>
        </p:blipFill>
        <p:spPr>
          <a:xfrm>
            <a:off x="852480" y="3429000"/>
            <a:ext cx="3089160" cy="202392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4"/>
          <p:cNvSpPr/>
          <p:nvPr/>
        </p:nvSpPr>
        <p:spPr>
          <a:xfrm>
            <a:off x="528480" y="1370160"/>
            <a:ext cx="554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Comic complications always occur before the conflict is resolv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8" name="Picture 3" descr=""/>
          <p:cNvPicPr/>
          <p:nvPr/>
        </p:nvPicPr>
        <p:blipFill>
          <a:blip r:embed="rId2"/>
          <a:stretch/>
        </p:blipFill>
        <p:spPr>
          <a:xfrm>
            <a:off x="2625840" y="232740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5" descr="84023.JPG"/>
          <p:cNvPicPr/>
          <p:nvPr/>
        </p:nvPicPr>
        <p:blipFill>
          <a:blip r:embed="rId3"/>
          <a:stretch/>
        </p:blipFill>
        <p:spPr>
          <a:xfrm>
            <a:off x="5483160" y="1455840"/>
            <a:ext cx="2968560" cy="196056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60"/>
          <p:cNvSpPr/>
          <p:nvPr/>
        </p:nvSpPr>
        <p:spPr>
          <a:xfrm>
            <a:off x="4040280" y="3808440"/>
            <a:ext cx="461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In most cases, the play ends with a weddin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omedy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Modern Comedy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Modern Comed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a3"/>
                </a:solidFill>
                <a:latin typeface="Times New Roman"/>
              </a:rPr>
              <a:t>In modern comedies, the genders in this romantic plot pattern sometimes are revers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4"/>
          <p:cNvSpPr/>
          <p:nvPr/>
        </p:nvSpPr>
        <p:spPr>
          <a:xfrm>
            <a:off x="528480" y="137016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 modern pla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528480" y="3381480"/>
            <a:ext cx="808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usually is about ordinary peopl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Text Box 27"/>
          <p:cNvSpPr/>
          <p:nvPr/>
        </p:nvSpPr>
        <p:spPr>
          <a:xfrm>
            <a:off x="528480" y="1922400"/>
            <a:ext cx="808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may be tragedy, comedy, or a mixture of the tw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Text Box 29"/>
          <p:cNvSpPr/>
          <p:nvPr/>
        </p:nvSpPr>
        <p:spPr>
          <a:xfrm>
            <a:off x="528480" y="2832120"/>
            <a:ext cx="808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usually focuses on personal iss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Modern Drama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29" name="AutoShape 42"/>
          <p:cNvSpPr/>
          <p:nvPr/>
        </p:nvSpPr>
        <p:spPr>
          <a:xfrm>
            <a:off x="617220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70" descr="girl3"/>
          <p:cNvPicPr/>
          <p:nvPr/>
        </p:nvPicPr>
        <p:blipFill>
          <a:blip r:embed="rId1"/>
          <a:stretch/>
        </p:blipFill>
        <p:spPr>
          <a:xfrm>
            <a:off x="3778200" y="4267080"/>
            <a:ext cx="2540160" cy="17416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0" descr="ANT0080E.JPG"/>
          <p:cNvPicPr/>
          <p:nvPr/>
        </p:nvPicPr>
        <p:blipFill>
          <a:blip r:embed="rId2"/>
          <a:stretch/>
        </p:blipFill>
        <p:spPr>
          <a:xfrm>
            <a:off x="5410080" y="2292480"/>
            <a:ext cx="2336760" cy="156024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2"/>
          <p:cNvSpPr/>
          <p:nvPr/>
        </p:nvSpPr>
        <p:spPr>
          <a:xfrm>
            <a:off x="473040" y="12286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Modern playwrights often experiment with unconventional plot structur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Picture 46" descr="ANT0011E.JPG"/>
          <p:cNvPicPr/>
          <p:nvPr/>
        </p:nvPicPr>
        <p:blipFill>
          <a:blip r:embed="rId3"/>
          <a:stretch/>
        </p:blipFill>
        <p:spPr>
          <a:xfrm>
            <a:off x="2297160" y="2286000"/>
            <a:ext cx="2347920" cy="156672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Modern Drama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5" name="AutoShape 33"/>
          <p:cNvSpPr/>
          <p:nvPr/>
        </p:nvSpPr>
        <p:spPr>
          <a:xfrm>
            <a:off x="523800" y="2762280"/>
            <a:ext cx="2286000" cy="1092240"/>
          </a:xfrm>
          <a:prstGeom prst="leftArrow">
            <a:avLst>
              <a:gd name="adj1" fmla="val 50000"/>
              <a:gd name="adj2" fmla="val 52324"/>
            </a:avLst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long flashback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AutoShape 65"/>
          <p:cNvSpPr/>
          <p:nvPr/>
        </p:nvSpPr>
        <p:spPr>
          <a:xfrm>
            <a:off x="7051680" y="3206880"/>
            <a:ext cx="1281240" cy="635040"/>
          </a:xfrm>
          <a:custGeom>
            <a:avLst/>
            <a:gdLst>
              <a:gd name="textAreaLeft" fmla="*/ 0 w 1281240"/>
              <a:gd name="textAreaRight" fmla="*/ 1281240 w 1281240"/>
              <a:gd name="textAreaTop" fmla="*/ 82080 h 635040"/>
              <a:gd name="textAreaBottom" fmla="*/ 552960 h 6350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mus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AutoShape 66"/>
          <p:cNvSpPr/>
          <p:nvPr/>
        </p:nvSpPr>
        <p:spPr>
          <a:xfrm flipH="1">
            <a:off x="1065240" y="4194000"/>
            <a:ext cx="2844720" cy="1036800"/>
          </a:xfrm>
          <a:prstGeom prst="wedgeRoundRectCallout">
            <a:avLst>
              <a:gd name="adj1" fmla="val -64625"/>
              <a:gd name="adj2" fmla="val 40504"/>
              <a:gd name="adj3" fmla="val 16667"/>
            </a:avLst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visual projections of a character’s private though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>
            <a:off x="549360" y="1303200"/>
            <a:ext cx="785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When you read a play, remember that it is meant to be performed for an audienc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523800" y="2274840"/>
          <a:ext cx="3675240" cy="3359160"/>
        </p:xfrm>
        <a:graphic>
          <a:graphicData uri="http://schemas.openxmlformats.org/drawingml/2006/table">
            <a:tbl>
              <a:tblPr/>
              <a:tblGrid>
                <a:gridCol w="3675240"/>
              </a:tblGrid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Stage Direc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3300"/>
                    </a:solidFill>
                  </a:tcPr>
                </a:tc>
              </a:tr>
              <a:tr h="1097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Playwright describes setting and characters’ actions and manner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33"/>
                    </a:solidFill>
                  </a:tcPr>
                </a:tc>
              </a:tr>
              <a:tr h="1837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[Wyona is sitting on the couch. She sees Paul and jumps to her feet.]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Wyona.</a:t>
                      </a:r>
                      <a:r>
                        <a:rPr b="0" lang="en-US" sz="22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 [Angrily.] What do you want?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40" name="Line 115"/>
          <p:cNvSpPr/>
          <p:nvPr/>
        </p:nvSpPr>
        <p:spPr>
          <a:xfrm>
            <a:off x="4284720" y="2468520"/>
            <a:ext cx="68580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Performance of a Play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5041800" y="2260440"/>
          <a:ext cx="3568680" cy="2697480"/>
        </p:xfrm>
        <a:graphic>
          <a:graphicData uri="http://schemas.openxmlformats.org/drawingml/2006/table">
            <a:tbl>
              <a:tblPr/>
              <a:tblGrid>
                <a:gridCol w="3568680"/>
              </a:tblGrid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Performanc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3300"/>
                    </a:solidFill>
                  </a:tcPr>
                </a:tc>
              </a:tr>
              <a:tr h="227736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375"/>
                        </a:spcBef>
                        <a:buClr>
                          <a:srgbClr val="00ffff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Theater artists bring the playwright’s vision to life on the stage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375"/>
                        </a:spcBef>
                        <a:buClr>
                          <a:srgbClr val="00ffff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The audience responds to the play and shares the experience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33"/>
                    </a:solidFill>
                  </a:tcPr>
                </a:tc>
              </a:tr>
            </a:tbl>
          </a:graphicData>
        </a:graphic>
      </p:graphicFrame>
      <p:sp>
        <p:nvSpPr>
          <p:cNvPr id="243" name="Rectangle 153"/>
          <p:cNvSpPr/>
          <p:nvPr/>
        </p:nvSpPr>
        <p:spPr>
          <a:xfrm>
            <a:off x="5407200" y="2746440"/>
            <a:ext cx="21999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Performance of a Play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Theater artists</a:t>
            </a:r>
            <a:r>
              <a:rPr b="1" lang="en-US" sz="2800" spc="-1" strike="noStrike">
                <a:solidFill>
                  <a:srgbClr val="ffffa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a3"/>
                </a:solidFill>
                <a:latin typeface="Times New Roman"/>
              </a:rPr>
              <a:t>inclu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ffff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Times New Roman"/>
              </a:rPr>
              <a:t>Ac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ffff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Times New Roman"/>
              </a:rPr>
              <a:t>Direc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ffff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Times New Roman"/>
              </a:rPr>
              <a:t>Lighting technicia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ffff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Times New Roman"/>
              </a:rPr>
              <a:t>Stage cr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Picture 4" descr="c10ele134"/>
          <p:cNvPicPr/>
          <p:nvPr/>
        </p:nvPicPr>
        <p:blipFill>
          <a:blip r:embed="rId1"/>
          <a:stretch/>
        </p:blipFill>
        <p:spPr>
          <a:xfrm>
            <a:off x="4344840" y="2171880"/>
            <a:ext cx="4065840" cy="2965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39" descr="c10ele116"/>
          <p:cNvPicPr/>
          <p:nvPr/>
        </p:nvPicPr>
        <p:blipFill>
          <a:blip r:embed="rId1"/>
          <a:stretch/>
        </p:blipFill>
        <p:spPr>
          <a:xfrm>
            <a:off x="5103720" y="2327400"/>
            <a:ext cx="3486240" cy="254304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2"/>
          <p:cNvSpPr/>
          <p:nvPr/>
        </p:nvSpPr>
        <p:spPr>
          <a:xfrm>
            <a:off x="528480" y="137016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Stages </a:t>
            </a: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can have many different sizes and layou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Text Box 30"/>
          <p:cNvSpPr/>
          <p:nvPr/>
        </p:nvSpPr>
        <p:spPr>
          <a:xfrm>
            <a:off x="528480" y="228924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a3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ffffa3"/>
                </a:solidFill>
                <a:latin typeface="Verdana"/>
              </a:rPr>
              <a:t>Thrust” st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Setting the Stag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1" name="Text Box 35"/>
          <p:cNvSpPr/>
          <p:nvPr/>
        </p:nvSpPr>
        <p:spPr>
          <a:xfrm>
            <a:off x="523800" y="2835360"/>
            <a:ext cx="402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The stage extends into the viewing are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Text Box 36"/>
          <p:cNvSpPr/>
          <p:nvPr/>
        </p:nvSpPr>
        <p:spPr>
          <a:xfrm>
            <a:off x="528480" y="3743280"/>
            <a:ext cx="402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The audience surrounds the stage on three sid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13"/>
          <p:cNvSpPr/>
          <p:nvPr/>
        </p:nvSpPr>
        <p:spPr>
          <a:xfrm>
            <a:off x="528480" y="1370160"/>
            <a:ext cx="808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In the round” stage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is surrounded by an audience on all sid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Text Box 14"/>
          <p:cNvSpPr/>
          <p:nvPr/>
        </p:nvSpPr>
        <p:spPr>
          <a:xfrm>
            <a:off x="4581360" y="2038320"/>
            <a:ext cx="402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Setting the Stag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256" name="Picture 23" descr="c10ele117"/>
          <p:cNvPicPr/>
          <p:nvPr/>
        </p:nvPicPr>
        <p:blipFill>
          <a:blip r:embed="rId1"/>
          <a:stretch/>
        </p:blipFill>
        <p:spPr>
          <a:xfrm>
            <a:off x="3130560" y="2593800"/>
            <a:ext cx="3486240" cy="2543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1" descr="c10ele118"/>
          <p:cNvPicPr/>
          <p:nvPr/>
        </p:nvPicPr>
        <p:blipFill>
          <a:blip r:embed="rId1"/>
          <a:srcRect l="0" t="11018" r="0" b="30432"/>
          <a:stretch/>
        </p:blipFill>
        <p:spPr>
          <a:xfrm>
            <a:off x="3354480" y="3500280"/>
            <a:ext cx="2543040" cy="204156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7"/>
          <p:cNvSpPr/>
          <p:nvPr/>
        </p:nvSpPr>
        <p:spPr>
          <a:xfrm>
            <a:off x="528480" y="1370160"/>
            <a:ext cx="808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Proscenium st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Text Box 9"/>
          <p:cNvSpPr/>
          <p:nvPr/>
        </p:nvSpPr>
        <p:spPr>
          <a:xfrm>
            <a:off x="4581360" y="2038320"/>
            <a:ext cx="402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Setting the Stag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61" name="Text Box 15"/>
          <p:cNvSpPr/>
          <p:nvPr/>
        </p:nvSpPr>
        <p:spPr>
          <a:xfrm>
            <a:off x="528480" y="1922400"/>
            <a:ext cx="808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he playing area extends behind an opening called a “proscenium arch.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Text Box 16"/>
          <p:cNvSpPr/>
          <p:nvPr/>
        </p:nvSpPr>
        <p:spPr>
          <a:xfrm>
            <a:off x="528480" y="2830680"/>
            <a:ext cx="808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he audience sits on one side looking into the a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3833640" y="4159080"/>
            <a:ext cx="1590840" cy="398880"/>
          </a:xfrm>
          <a:prstGeom prst="rect">
            <a:avLst/>
          </a:prstGeom>
          <a:solidFill>
            <a:srgbClr val="66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upst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33640" y="5475240"/>
            <a:ext cx="1616400" cy="398880"/>
          </a:xfrm>
          <a:prstGeom prst="rect">
            <a:avLst/>
          </a:prstGeom>
          <a:solidFill>
            <a:srgbClr val="66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downst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5527800" y="4616280"/>
            <a:ext cx="1616040" cy="398880"/>
          </a:xfrm>
          <a:prstGeom prst="rect">
            <a:avLst/>
          </a:prstGeom>
          <a:solidFill>
            <a:srgbClr val="66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stage lef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Text Box 6"/>
          <p:cNvSpPr/>
          <p:nvPr/>
        </p:nvSpPr>
        <p:spPr>
          <a:xfrm>
            <a:off x="2136600" y="4616280"/>
            <a:ext cx="1616400" cy="398880"/>
          </a:xfrm>
          <a:prstGeom prst="rect">
            <a:avLst/>
          </a:prstGeom>
          <a:solidFill>
            <a:srgbClr val="66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stage righ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Setting the Stag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69920" y="2822400"/>
            <a:ext cx="4325760" cy="33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Stages in Shakespeare’s time </a:t>
            </a:r>
            <a:r>
              <a:rPr b="0" lang="en-US" sz="2800" spc="-1" strike="noStrike">
                <a:solidFill>
                  <a:srgbClr val="ffffa3"/>
                </a:solidFill>
                <a:latin typeface="Times New Roman"/>
              </a:rPr>
              <a:t>were thrust stag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Picture 4" descr="c10ele133"/>
          <p:cNvPicPr/>
          <p:nvPr/>
        </p:nvPicPr>
        <p:blipFill>
          <a:blip r:embed="rId1"/>
          <a:stretch/>
        </p:blipFill>
        <p:spPr>
          <a:xfrm>
            <a:off x="4495680" y="1379520"/>
            <a:ext cx="3318120" cy="4548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36" descr="c10ele101"/>
          <p:cNvPicPr/>
          <p:nvPr/>
        </p:nvPicPr>
        <p:blipFill>
          <a:blip r:embed="rId1"/>
          <a:stretch/>
        </p:blipFill>
        <p:spPr>
          <a:xfrm>
            <a:off x="630360" y="2443320"/>
            <a:ext cx="3485880" cy="25430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7" descr="c10ele102"/>
          <p:cNvPicPr/>
          <p:nvPr/>
        </p:nvPicPr>
        <p:blipFill>
          <a:blip r:embed="rId2"/>
          <a:stretch/>
        </p:blipFill>
        <p:spPr>
          <a:xfrm>
            <a:off x="5103720" y="2443320"/>
            <a:ext cx="3486240" cy="254304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3"/>
          <p:cNvSpPr/>
          <p:nvPr/>
        </p:nvSpPr>
        <p:spPr>
          <a:xfrm>
            <a:off x="533520" y="137016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 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drama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is a story enacted onstage for a live audienc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What Is Drama?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2"/>
          <p:cNvSpPr/>
          <p:nvPr/>
        </p:nvSpPr>
        <p:spPr>
          <a:xfrm>
            <a:off x="533520" y="137016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Scene design</a:t>
            </a: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 transforms a bare stage into the world of the play. Scene design consists o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Text Box 24"/>
          <p:cNvSpPr/>
          <p:nvPr/>
        </p:nvSpPr>
        <p:spPr>
          <a:xfrm>
            <a:off x="528480" y="3929040"/>
            <a:ext cx="290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pro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Text Box 26"/>
          <p:cNvSpPr/>
          <p:nvPr/>
        </p:nvSpPr>
        <p:spPr>
          <a:xfrm>
            <a:off x="528480" y="2290680"/>
            <a:ext cx="24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s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Text Box 28"/>
          <p:cNvSpPr/>
          <p:nvPr/>
        </p:nvSpPr>
        <p:spPr>
          <a:xfrm>
            <a:off x="528480" y="3379680"/>
            <a:ext cx="256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costum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Text Box 30"/>
          <p:cNvSpPr/>
          <p:nvPr/>
        </p:nvSpPr>
        <p:spPr>
          <a:xfrm>
            <a:off x="528480" y="2828880"/>
            <a:ext cx="270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ligh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Setting the Stag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276" name="Picture 36" descr="c10ele119"/>
          <p:cNvPicPr/>
          <p:nvPr/>
        </p:nvPicPr>
        <p:blipFill>
          <a:blip r:embed="rId1"/>
          <a:stretch/>
        </p:blipFill>
        <p:spPr>
          <a:xfrm>
            <a:off x="4572000" y="2367000"/>
            <a:ext cx="3486240" cy="2543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34" descr="c10ele120"/>
          <p:cNvPicPr/>
          <p:nvPr/>
        </p:nvPicPr>
        <p:blipFill>
          <a:blip r:embed="rId1"/>
          <a:stretch/>
        </p:blipFill>
        <p:spPr>
          <a:xfrm>
            <a:off x="473040" y="2143080"/>
            <a:ext cx="2543040" cy="34862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5" descr="c10ele121"/>
          <p:cNvPicPr/>
          <p:nvPr/>
        </p:nvPicPr>
        <p:blipFill>
          <a:blip r:embed="rId2"/>
          <a:stretch/>
        </p:blipFill>
        <p:spPr>
          <a:xfrm>
            <a:off x="4799160" y="2065320"/>
            <a:ext cx="2543040" cy="348624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2"/>
          <p:cNvSpPr/>
          <p:nvPr/>
        </p:nvSpPr>
        <p:spPr>
          <a:xfrm>
            <a:off x="533520" y="137016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A stage’s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set</a:t>
            </a: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 might b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2238480" y="2360520"/>
            <a:ext cx="1969920" cy="703800"/>
          </a:xfrm>
          <a:prstGeom prst="rect">
            <a:avLst/>
          </a:prstGeom>
          <a:solidFill>
            <a:srgbClr val="fff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realistic and detail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Setting the Stag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82" name="Text Box 16"/>
          <p:cNvSpPr/>
          <p:nvPr/>
        </p:nvSpPr>
        <p:spPr>
          <a:xfrm>
            <a:off x="6637320" y="2370240"/>
            <a:ext cx="1957320" cy="703800"/>
          </a:xfrm>
          <a:prstGeom prst="rect">
            <a:avLst/>
          </a:prstGeom>
          <a:solidFill>
            <a:srgbClr val="fff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abstract and minim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2"/>
          <p:cNvSpPr/>
          <p:nvPr/>
        </p:nvSpPr>
        <p:spPr>
          <a:xfrm>
            <a:off x="523800" y="1370160"/>
            <a:ext cx="808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lighting 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director skillfully uses light to change the mood and appearance of the se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Setting the Stag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285" name="Picture 13" descr="c10ele122"/>
          <p:cNvPicPr/>
          <p:nvPr/>
        </p:nvPicPr>
        <p:blipFill>
          <a:blip r:embed="rId1"/>
          <a:stretch/>
        </p:blipFill>
        <p:spPr>
          <a:xfrm>
            <a:off x="3243240" y="2295360"/>
            <a:ext cx="2543040" cy="34862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4" descr="c10ele123"/>
          <p:cNvPicPr/>
          <p:nvPr/>
        </p:nvPicPr>
        <p:blipFill>
          <a:blip r:embed="rId2"/>
          <a:stretch/>
        </p:blipFill>
        <p:spPr>
          <a:xfrm>
            <a:off x="3235320" y="2295360"/>
            <a:ext cx="2543040" cy="3486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44" descr="c10ele125"/>
          <p:cNvPicPr/>
          <p:nvPr/>
        </p:nvPicPr>
        <p:blipFill>
          <a:blip r:embed="rId1"/>
          <a:stretch/>
        </p:blipFill>
        <p:spPr>
          <a:xfrm>
            <a:off x="6545160" y="3276720"/>
            <a:ext cx="1743120" cy="25430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6" descr="3WkLU0-67K-15Ezl2-Bdg-v1-p"/>
          <p:cNvPicPr/>
          <p:nvPr/>
        </p:nvPicPr>
        <p:blipFill>
          <a:blip r:embed="rId2"/>
          <a:stretch/>
        </p:blipFill>
        <p:spPr>
          <a:xfrm>
            <a:off x="990720" y="3333600"/>
            <a:ext cx="1744560" cy="261144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5"/>
          <p:cNvSpPr/>
          <p:nvPr/>
        </p:nvSpPr>
        <p:spPr>
          <a:xfrm>
            <a:off x="528480" y="1370160"/>
            <a:ext cx="808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he costume director works with the director </a:t>
            </a: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to design the actors’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costum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Text Box 20"/>
          <p:cNvSpPr/>
          <p:nvPr/>
        </p:nvSpPr>
        <p:spPr>
          <a:xfrm>
            <a:off x="523800" y="2284560"/>
            <a:ext cx="808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Like sets, costumes can b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Text Box 24"/>
          <p:cNvSpPr/>
          <p:nvPr/>
        </p:nvSpPr>
        <p:spPr>
          <a:xfrm>
            <a:off x="2502000" y="3166920"/>
            <a:ext cx="1363680" cy="398880"/>
          </a:xfrm>
          <a:prstGeom prst="rect">
            <a:avLst/>
          </a:prstGeom>
          <a:solidFill>
            <a:srgbClr val="fff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detail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Text Box 28"/>
          <p:cNvSpPr/>
          <p:nvPr/>
        </p:nvSpPr>
        <p:spPr>
          <a:xfrm>
            <a:off x="6829560" y="2406600"/>
            <a:ext cx="1780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Text Box 25"/>
          <p:cNvSpPr/>
          <p:nvPr/>
        </p:nvSpPr>
        <p:spPr>
          <a:xfrm>
            <a:off x="5291280" y="3162240"/>
            <a:ext cx="1366560" cy="398880"/>
          </a:xfrm>
          <a:prstGeom prst="rect">
            <a:avLst/>
          </a:prstGeom>
          <a:solidFill>
            <a:srgbClr val="fff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minim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Setting the Stag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14" descr="Ba2ES-4mc-1A89q4-3kp-v1-p"/>
          <p:cNvPicPr/>
          <p:nvPr/>
        </p:nvPicPr>
        <p:blipFill>
          <a:blip r:embed="rId1"/>
          <a:srcRect l="5446" t="0" r="16470" b="0"/>
          <a:stretch/>
        </p:blipFill>
        <p:spPr>
          <a:xfrm>
            <a:off x="6537240" y="2568600"/>
            <a:ext cx="1757520" cy="17622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2" descr="Ba2ES-Ct-1ADiIA-BlP-v1-p"/>
          <p:cNvPicPr/>
          <p:nvPr/>
        </p:nvPicPr>
        <p:blipFill>
          <a:blip r:embed="rId2"/>
          <a:srcRect l="0" t="0" r="3084" b="0"/>
          <a:stretch/>
        </p:blipFill>
        <p:spPr>
          <a:xfrm>
            <a:off x="4551480" y="2568600"/>
            <a:ext cx="1733400" cy="176220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3"/>
          <p:cNvSpPr/>
          <p:nvPr/>
        </p:nvSpPr>
        <p:spPr>
          <a:xfrm>
            <a:off x="528480" y="1370160"/>
            <a:ext cx="831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Props</a:t>
            </a: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 (short for </a:t>
            </a:r>
            <a:r>
              <a:rPr b="0" i="1" lang="en-US" sz="2400" spc="-1" strike="noStrike">
                <a:solidFill>
                  <a:srgbClr val="ffffa3"/>
                </a:solidFill>
                <a:latin typeface="Verdana"/>
              </a:rPr>
              <a:t>properties</a:t>
            </a: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) are items that the characters carry or handle onstag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523800" y="4527720"/>
            <a:ext cx="808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01760" indent="-28728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The person in charge of props must make sure that the right props are available to the actors at the right mo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9" name="Picture 13" descr="Ba2ES-3EW-1A8p7Y-1q3-v1-p"/>
          <p:cNvPicPr/>
          <p:nvPr/>
        </p:nvPicPr>
        <p:blipFill>
          <a:blip r:embed="rId3"/>
          <a:stretch/>
        </p:blipFill>
        <p:spPr>
          <a:xfrm>
            <a:off x="523800" y="2568600"/>
            <a:ext cx="1752840" cy="175248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1" descr="Ba2ES-1Bb-1ADiJ6-Bhn-v1-p"/>
          <p:cNvPicPr/>
          <p:nvPr/>
        </p:nvPicPr>
        <p:blipFill>
          <a:blip r:embed="rId4"/>
          <a:stretch/>
        </p:blipFill>
        <p:spPr>
          <a:xfrm>
            <a:off x="2576520" y="2568600"/>
            <a:ext cx="1689120" cy="17524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Setting the Stag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2"/>
          <p:cNvSpPr/>
          <p:nvPr/>
        </p:nvSpPr>
        <p:spPr>
          <a:xfrm>
            <a:off x="533520" y="137016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The characters’ speech may take any of the following for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498600" y="2282760"/>
          <a:ext cx="8111880" cy="2378160"/>
        </p:xfrm>
        <a:graphic>
          <a:graphicData uri="http://schemas.openxmlformats.org/drawingml/2006/table">
            <a:tbl>
              <a:tblPr/>
              <a:tblGrid>
                <a:gridCol w="8111880"/>
              </a:tblGrid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Dialogue:</a:t>
                      </a:r>
                      <a:r>
                        <a:rPr b="0" lang="en-US" sz="22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 conversations of characters onstag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336633"/>
                    </a:solidFill>
                  </a:tcPr>
                </a:tc>
              </a:tr>
              <a:tr h="427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Monologue:</a:t>
                      </a:r>
                      <a:r>
                        <a:rPr b="0" lang="en-US" sz="22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ffffa3"/>
                          </a:solidFill>
                          <a:latin typeface="Times New Roman"/>
                        </a:rPr>
                        <a:t>long speech given by one character to oth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9966"/>
                    </a:solidFill>
                  </a:tcPr>
                </a:tc>
              </a:tr>
              <a:tr h="761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Soliloquy: </a:t>
                      </a:r>
                      <a:r>
                        <a:rPr b="0" lang="en-US" sz="2200" spc="-1" strike="noStrike">
                          <a:solidFill>
                            <a:srgbClr val="ffffa3"/>
                          </a:solidFill>
                          <a:latin typeface="Times New Roman"/>
                        </a:rPr>
                        <a:t>speech by a character alone onstage to himself or herself or to the audienc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33"/>
                    </a:solidFill>
                  </a:tcPr>
                </a:tc>
              </a:tr>
              <a:tr h="762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Asides: </a:t>
                      </a:r>
                      <a:r>
                        <a:rPr b="0" lang="en-US" sz="22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remarks made to the audience or to one character; the other characters onstage do not hear an asi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66"/>
                    </a:solidFill>
                  </a:tcPr>
                </a:tc>
              </a:tr>
            </a:tbl>
          </a:graphicData>
        </a:graphic>
      </p:graphicFrame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The Characters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42" descr="c10ele130"/>
          <p:cNvPicPr/>
          <p:nvPr/>
        </p:nvPicPr>
        <p:blipFill>
          <a:blip r:embed="rId1"/>
          <a:stretch/>
        </p:blipFill>
        <p:spPr>
          <a:xfrm>
            <a:off x="5823000" y="2479680"/>
            <a:ext cx="2543040" cy="254304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2"/>
          <p:cNvSpPr/>
          <p:nvPr/>
        </p:nvSpPr>
        <p:spPr>
          <a:xfrm>
            <a:off x="533520" y="1370160"/>
            <a:ext cx="82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Finally, a play needs an audience 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Text Box 28"/>
          <p:cNvSpPr/>
          <p:nvPr/>
        </p:nvSpPr>
        <p:spPr>
          <a:xfrm>
            <a:off x="990720" y="2127240"/>
            <a:ext cx="4773600" cy="45972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experience the perform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Text Box 29"/>
          <p:cNvSpPr/>
          <p:nvPr/>
        </p:nvSpPr>
        <p:spPr>
          <a:xfrm>
            <a:off x="523800" y="3454560"/>
            <a:ext cx="4765680" cy="459720"/>
          </a:xfrm>
          <a:prstGeom prst="rect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understand the s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Text Box 30"/>
          <p:cNvSpPr/>
          <p:nvPr/>
        </p:nvSpPr>
        <p:spPr>
          <a:xfrm>
            <a:off x="846000" y="4894200"/>
            <a:ext cx="4795920" cy="45972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respond to the charac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The Audienc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1" name="AutoShape 40"/>
          <p:cNvSpPr/>
          <p:nvPr/>
        </p:nvSpPr>
        <p:spPr>
          <a:xfrm>
            <a:off x="617220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88396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The End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What Is Drama?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69920" y="1455480"/>
            <a:ext cx="5100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Origins of Dra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The word 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drama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comes from the Greek verb 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dran,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which means “to do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a3"/>
                </a:solidFill>
                <a:latin typeface="Times New Roman"/>
              </a:rPr>
              <a:t>The earliest known plays . .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a3"/>
                </a:solidFill>
                <a:latin typeface="Times New Roman"/>
              </a:rPr>
              <a:t>were written around the fifth century B.C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a3"/>
                </a:solidFill>
                <a:latin typeface="Times New Roman"/>
              </a:rPr>
              <a:t>produced for festivals to honor Dionysus, the god of wine and fertil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Picture 8" descr="c10ele131"/>
          <p:cNvPicPr/>
          <p:nvPr/>
        </p:nvPicPr>
        <p:blipFill>
          <a:blip r:embed="rId1"/>
          <a:stretch/>
        </p:blipFill>
        <p:spPr>
          <a:xfrm>
            <a:off x="5396040" y="1531800"/>
            <a:ext cx="2973240" cy="4077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3"/>
          <p:cNvSpPr/>
          <p:nvPr/>
        </p:nvSpPr>
        <p:spPr>
          <a:xfrm>
            <a:off x="533520" y="137016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Like the plot of a story, the plot of a play involves characters who face a problem or 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conflic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Text Box 13"/>
          <p:cNvSpPr/>
          <p:nvPr/>
        </p:nvSpPr>
        <p:spPr>
          <a:xfrm>
            <a:off x="4292640" y="2281320"/>
            <a:ext cx="3846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Verdana"/>
              </a:rPr>
              <a:t>Clima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point of highest tension;</a:t>
            </a:r>
            <a:br>
              <a:rPr sz="2000"/>
            </a:b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action determines how the conflict will be resolv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Text Box 14"/>
          <p:cNvSpPr/>
          <p:nvPr/>
        </p:nvSpPr>
        <p:spPr>
          <a:xfrm>
            <a:off x="6161760" y="4557600"/>
            <a:ext cx="2453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Verdana"/>
              </a:rPr>
              <a:t>Resolu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conflict is resolve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play en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Text Box 15"/>
          <p:cNvSpPr/>
          <p:nvPr/>
        </p:nvSpPr>
        <p:spPr>
          <a:xfrm>
            <a:off x="1721880" y="3363840"/>
            <a:ext cx="198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Verdana"/>
              </a:rPr>
              <a:t>Complic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tension buil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Line 24"/>
          <p:cNvSpPr/>
          <p:nvPr/>
        </p:nvSpPr>
        <p:spPr>
          <a:xfrm>
            <a:off x="698400" y="4894200"/>
            <a:ext cx="914400" cy="180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Line 10"/>
          <p:cNvSpPr/>
          <p:nvPr/>
        </p:nvSpPr>
        <p:spPr>
          <a:xfrm flipV="1">
            <a:off x="1574640" y="3705120"/>
            <a:ext cx="4483440" cy="119376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Line 11"/>
          <p:cNvSpPr/>
          <p:nvPr/>
        </p:nvSpPr>
        <p:spPr>
          <a:xfrm>
            <a:off x="6058080" y="3713040"/>
            <a:ext cx="912600" cy="77328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Oval 12"/>
          <p:cNvSpPr/>
          <p:nvPr/>
        </p:nvSpPr>
        <p:spPr>
          <a:xfrm>
            <a:off x="5981760" y="3619440"/>
            <a:ext cx="152280" cy="152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Line 19"/>
          <p:cNvSpPr/>
          <p:nvPr/>
        </p:nvSpPr>
        <p:spPr>
          <a:xfrm>
            <a:off x="6988320" y="4475160"/>
            <a:ext cx="914400" cy="144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Oval 20"/>
          <p:cNvSpPr/>
          <p:nvPr/>
        </p:nvSpPr>
        <p:spPr>
          <a:xfrm>
            <a:off x="6902280" y="4408560"/>
            <a:ext cx="152640" cy="15228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Oval 22"/>
          <p:cNvSpPr/>
          <p:nvPr/>
        </p:nvSpPr>
        <p:spPr>
          <a:xfrm>
            <a:off x="1079640" y="4815000"/>
            <a:ext cx="152280" cy="15228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Text Box 23"/>
          <p:cNvSpPr/>
          <p:nvPr/>
        </p:nvSpPr>
        <p:spPr>
          <a:xfrm>
            <a:off x="523800" y="4970520"/>
            <a:ext cx="3211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Verdana"/>
              </a:rPr>
              <a:t>Exposition</a:t>
            </a:r>
            <a:br>
              <a:rPr sz="2000"/>
            </a:b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characters and </a:t>
            </a:r>
            <a:r>
              <a:rPr b="0" lang="en-US" sz="2000" spc="-1" strike="noStrike">
                <a:solidFill>
                  <a:srgbClr val="ffffa3"/>
                </a:solidFill>
                <a:latin typeface="Verdana"/>
              </a:rPr>
              <a:t>conflict</a:t>
            </a:r>
            <a:r>
              <a:rPr b="1" lang="en-US" sz="20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are introduc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Dramatic Structur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Dramatic Structur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21840" y="1599840"/>
            <a:ext cx="47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Conflict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is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a struggle or clash between opposing characters or forces. A conflict may develop . .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1125"/>
              </a:spcBef>
              <a:buClr>
                <a:srgbClr val="ffffa3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a3"/>
                </a:solidFill>
                <a:latin typeface="Times New Roman"/>
              </a:rPr>
              <a:t>between characters who want different things or the same th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1125"/>
              </a:spcBef>
              <a:buClr>
                <a:srgbClr val="ffffa3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a3"/>
                </a:solidFill>
                <a:latin typeface="Times New Roman"/>
              </a:rPr>
              <a:t>between a character and his or her circumstan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1125"/>
              </a:spcBef>
              <a:buClr>
                <a:srgbClr val="ffffa3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a3"/>
                </a:solidFill>
                <a:latin typeface="Times New Roman"/>
              </a:rPr>
              <a:t>within a character who is torn by competing desi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Picture 6" descr="c10ele132"/>
          <p:cNvPicPr/>
          <p:nvPr/>
        </p:nvPicPr>
        <p:blipFill>
          <a:blip r:embed="rId1"/>
          <a:stretch/>
        </p:blipFill>
        <p:spPr>
          <a:xfrm>
            <a:off x="5103720" y="2593800"/>
            <a:ext cx="3291120" cy="2256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5"/>
          <p:cNvSpPr/>
          <p:nvPr/>
        </p:nvSpPr>
        <p:spPr>
          <a:xfrm>
            <a:off x="528480" y="1370160"/>
            <a:ext cx="808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A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tragedy</a:t>
            </a: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 is a play that ends unhappily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Text Box 21"/>
          <p:cNvSpPr/>
          <p:nvPr/>
        </p:nvSpPr>
        <p:spPr>
          <a:xfrm>
            <a:off x="528480" y="5008680"/>
            <a:ext cx="808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Tragedies pit human limitations against the larger forces of destin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Text Box 23"/>
          <p:cNvSpPr/>
          <p:nvPr/>
        </p:nvSpPr>
        <p:spPr>
          <a:xfrm>
            <a:off x="3995640" y="2816280"/>
            <a:ext cx="4310280" cy="45972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right and wro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Text Box 24"/>
          <p:cNvSpPr/>
          <p:nvPr/>
        </p:nvSpPr>
        <p:spPr>
          <a:xfrm>
            <a:off x="3995640" y="3395520"/>
            <a:ext cx="4310280" cy="45972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justice and injust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Text Box 25"/>
          <p:cNvSpPr/>
          <p:nvPr/>
        </p:nvSpPr>
        <p:spPr>
          <a:xfrm>
            <a:off x="3995640" y="3978360"/>
            <a:ext cx="4299120" cy="45972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life and dea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Tragedy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88" name="Text Box 36"/>
          <p:cNvSpPr/>
          <p:nvPr/>
        </p:nvSpPr>
        <p:spPr>
          <a:xfrm>
            <a:off x="625320" y="1835280"/>
            <a:ext cx="770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12640" indent="-39816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Most classic Greek tragedies deal with serious, universal themes such 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9" name="Picture 38" descr="wr?wodata=1_310026510_vx"/>
          <p:cNvPicPr/>
          <p:nvPr/>
        </p:nvPicPr>
        <p:blipFill>
          <a:blip r:embed="rId1"/>
          <a:srcRect l="0" t="43038" r="0" b="0"/>
          <a:stretch/>
        </p:blipFill>
        <p:spPr>
          <a:xfrm>
            <a:off x="990720" y="2798640"/>
            <a:ext cx="2641320" cy="2089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18" descr="OCH0100D"/>
          <p:cNvPicPr/>
          <p:nvPr/>
        </p:nvPicPr>
        <p:blipFill>
          <a:blip r:embed="rId1"/>
          <a:stretch/>
        </p:blipFill>
        <p:spPr>
          <a:xfrm>
            <a:off x="6581880" y="2355840"/>
            <a:ext cx="2028600" cy="270504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3"/>
          <p:cNvSpPr/>
          <p:nvPr/>
        </p:nvSpPr>
        <p:spPr>
          <a:xfrm>
            <a:off x="528480" y="1370160"/>
            <a:ext cx="808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The protagonist of most classical tragedies is a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tragic hero.</a:t>
            </a: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 This her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Text Box 13"/>
          <p:cNvSpPr/>
          <p:nvPr/>
        </p:nvSpPr>
        <p:spPr>
          <a:xfrm>
            <a:off x="549360" y="2367000"/>
            <a:ext cx="450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is noble and in many ways admir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Text Box 14"/>
          <p:cNvSpPr/>
          <p:nvPr/>
        </p:nvSpPr>
        <p:spPr>
          <a:xfrm>
            <a:off x="528480" y="3206880"/>
            <a:ext cx="449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has a </a:t>
            </a: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tragic flaw</a:t>
            </a: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, a personal failing that leads to a tragic e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Text Box 20"/>
          <p:cNvSpPr/>
          <p:nvPr/>
        </p:nvSpPr>
        <p:spPr>
          <a:xfrm>
            <a:off x="4903920" y="3197160"/>
            <a:ext cx="2022480" cy="398880"/>
          </a:xfrm>
          <a:prstGeom prst="rect">
            <a:avLst/>
          </a:prstGeom>
          <a:solidFill>
            <a:srgbClr val="fff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rebelliousn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Text Box 21"/>
          <p:cNvSpPr/>
          <p:nvPr/>
        </p:nvSpPr>
        <p:spPr>
          <a:xfrm>
            <a:off x="5370480" y="4264200"/>
            <a:ext cx="1349280" cy="398880"/>
          </a:xfrm>
          <a:prstGeom prst="rect">
            <a:avLst/>
          </a:prstGeom>
          <a:solidFill>
            <a:srgbClr val="fff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jealous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Text Box 22"/>
          <p:cNvSpPr/>
          <p:nvPr/>
        </p:nvSpPr>
        <p:spPr>
          <a:xfrm>
            <a:off x="6273720" y="2130480"/>
            <a:ext cx="943200" cy="398880"/>
          </a:xfrm>
          <a:prstGeom prst="rect">
            <a:avLst/>
          </a:prstGeom>
          <a:solidFill>
            <a:srgbClr val="fff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pri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Tragedy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4"/>
          <p:cNvSpPr/>
          <p:nvPr/>
        </p:nvSpPr>
        <p:spPr>
          <a:xfrm>
            <a:off x="549360" y="1228680"/>
            <a:ext cx="825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A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comedy</a:t>
            </a: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 is a play that ends happily. The plot usually centers on a romantic conflic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Text Box 13"/>
          <p:cNvSpPr/>
          <p:nvPr/>
        </p:nvSpPr>
        <p:spPr>
          <a:xfrm>
            <a:off x="647640" y="2362320"/>
            <a:ext cx="2174760" cy="398880"/>
          </a:xfrm>
          <a:prstGeom prst="rect">
            <a:avLst/>
          </a:prstGeom>
          <a:solidFill>
            <a:srgbClr val="66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boy meets gir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15"/>
          <p:cNvSpPr/>
          <p:nvPr/>
        </p:nvSpPr>
        <p:spPr>
          <a:xfrm>
            <a:off x="3530520" y="2349360"/>
            <a:ext cx="2175120" cy="39888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boy loses gir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Text Box 16"/>
          <p:cNvSpPr/>
          <p:nvPr/>
        </p:nvSpPr>
        <p:spPr>
          <a:xfrm>
            <a:off x="6426360" y="2324160"/>
            <a:ext cx="2174760" cy="398880"/>
          </a:xfrm>
          <a:prstGeom prst="rect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boy wins gir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Line 17"/>
          <p:cNvSpPr/>
          <p:nvPr/>
        </p:nvSpPr>
        <p:spPr>
          <a:xfrm>
            <a:off x="2946240" y="2552760"/>
            <a:ext cx="45720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Line 18"/>
          <p:cNvSpPr/>
          <p:nvPr/>
        </p:nvSpPr>
        <p:spPr>
          <a:xfrm>
            <a:off x="5829480" y="2552760"/>
            <a:ext cx="45720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4" name="Picture 36" descr="PIL0041D.jpg"/>
          <p:cNvPicPr/>
          <p:nvPr/>
        </p:nvPicPr>
        <p:blipFill>
          <a:blip r:embed="rId1"/>
          <a:stretch/>
        </p:blipFill>
        <p:spPr>
          <a:xfrm>
            <a:off x="758880" y="2890800"/>
            <a:ext cx="1940040" cy="24256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8" descr="PIL0064E.jpg"/>
          <p:cNvPicPr/>
          <p:nvPr/>
        </p:nvPicPr>
        <p:blipFill>
          <a:blip r:embed="rId2"/>
          <a:stretch/>
        </p:blipFill>
        <p:spPr>
          <a:xfrm>
            <a:off x="3387600" y="3041640"/>
            <a:ext cx="2565360" cy="20527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0" descr="PIL0024D.jpg"/>
          <p:cNvPicPr/>
          <p:nvPr/>
        </p:nvPicPr>
        <p:blipFill>
          <a:blip r:embed="rId3"/>
          <a:stretch/>
        </p:blipFill>
        <p:spPr>
          <a:xfrm>
            <a:off x="6673680" y="2855880"/>
            <a:ext cx="1632240" cy="2443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omedy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50" descr="c10ele110"/>
          <p:cNvPicPr/>
          <p:nvPr/>
        </p:nvPicPr>
        <p:blipFill>
          <a:blip r:embed="rId1"/>
          <a:stretch/>
        </p:blipFill>
        <p:spPr>
          <a:xfrm>
            <a:off x="6404040" y="2290680"/>
            <a:ext cx="2266920" cy="31082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9" descr="c10ele109"/>
          <p:cNvPicPr/>
          <p:nvPr/>
        </p:nvPicPr>
        <p:blipFill>
          <a:blip r:embed="rId2"/>
          <a:stretch/>
        </p:blipFill>
        <p:spPr>
          <a:xfrm>
            <a:off x="3433680" y="2290680"/>
            <a:ext cx="2266920" cy="31082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8" descr="c10ele108"/>
          <p:cNvPicPr/>
          <p:nvPr/>
        </p:nvPicPr>
        <p:blipFill>
          <a:blip r:embed="rId3"/>
          <a:stretch/>
        </p:blipFill>
        <p:spPr>
          <a:xfrm>
            <a:off x="436680" y="2293920"/>
            <a:ext cx="2266920" cy="310824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2"/>
          <p:cNvSpPr/>
          <p:nvPr/>
        </p:nvSpPr>
        <p:spPr>
          <a:xfrm>
            <a:off x="473040" y="13032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The main characters in a comedy could be anyon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Text Box 8"/>
          <p:cNvSpPr/>
          <p:nvPr/>
        </p:nvSpPr>
        <p:spPr>
          <a:xfrm>
            <a:off x="657360" y="5398920"/>
            <a:ext cx="1801800" cy="393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nobil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6622920" y="5398920"/>
            <a:ext cx="1801800" cy="393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serva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3646440" y="5398920"/>
            <a:ext cx="1801800" cy="393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ownspeop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omedy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3:31:09Z</dcterms:created>
  <dc:creator>Lisa LeAnn Ward</dc:creator>
  <dc:description/>
  <dc:language>en-US</dc:language>
  <cp:lastModifiedBy>RomaK</cp:lastModifiedBy>
  <cp:lastPrinted>2004-11-19T20:17:12Z</cp:lastPrinted>
  <dcterms:modified xsi:type="dcterms:W3CDTF">2015-09-04T10:35:41Z</dcterms:modified>
  <cp:revision>1118</cp:revision>
  <dc:subject/>
  <dc:title>Elements of Drama</dc:title>
</cp:coreProperties>
</file>