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D2A3-520C-46AF-9059-965D17E250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B15BE-559D-470E-B7AC-1B44C732C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D573A-BA36-4AAC-9EB4-0940F5D0A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7B6EE-E554-4A75-A5AE-60CB7CB3D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E70C4-A200-40EE-A134-93B73BE8E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76139-4291-4269-A8E8-AA7B90A9C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42DE4-AB93-4969-9E97-FB2853E0B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9AA9C-8480-4328-9F7B-B97EA5BD6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896D2-B1CB-4705-89EB-B5AF24CBC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98858-3476-41E7-B072-9EABE8052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DCB28-8208-4282-854F-6102043D4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7641B-641A-4E74-B9C2-E77C56386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13C32-56DB-4C99-9FF5-81145B737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C8494-F771-40F5-944D-C841BDF20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29789-EFBD-48C2-8961-576A26256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F28B4-6FCE-4716-B120-58C75C406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E1E2A3-5540-4D13-9594-4FA016601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A9BFA-5D8F-497D-8788-A5B1E79AB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C2285-1744-4A1F-8BA7-815A0A312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0CF98-1E0D-4703-9A53-3562A4459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E7C23-A6A2-4ADB-9932-0C5102570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92850-C807-4250-BCE7-AB803D219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4020B-379D-4C18-B3F5-8C6F90ADC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E891A-D0C8-44A0-A01E-5C698C456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1CCCC-4A7B-445D-BC43-905CA3023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845B-71BD-4639-A451-5AB10574E11A}"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AAC7-8275-418D-8FF5-BB78768F467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ewi.ac.uk/englishresources/workunits/ks4/fiction/ofmicemen/smallheath/sample.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GB" sz="4200" spc="-1" strike="noStrike">
                <a:solidFill>
                  <a:srgbClr val="ffffff"/>
                </a:solidFill>
                <a:latin typeface="Arial"/>
              </a:rPr>
              <a:t>Exam Questions on </a:t>
            </a:r>
            <a:br>
              <a:rPr sz="4200"/>
            </a:br>
            <a:r>
              <a:rPr b="1" i="1" lang="en-GB" sz="4200" spc="-1" strike="noStrike">
                <a:solidFill>
                  <a:srgbClr val="ffffff"/>
                </a:solidFill>
                <a:latin typeface="Arial"/>
              </a:rPr>
              <a:t>Of Mice and Men</a:t>
            </a:r>
            <a:br>
              <a:rPr sz="4200"/>
            </a:b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EAB English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533520"/>
            <a:ext cx="7925040" cy="5486400"/>
          </a:xfrm>
          <a:prstGeom prst="rect">
            <a:avLst/>
          </a:prstGeom>
          <a:noFill/>
          <a:ln w="0">
            <a:noFill/>
          </a:ln>
        </p:spPr>
        <p:txBody>
          <a:bodyPr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am Topic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ck to Table of Content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a:t>
            </a:r>
            <a:r>
              <a:rPr b="0" lang="en-GB" sz="1200" spc="-1" strike="noStrike" u="sng">
                <a:solidFill>
                  <a:srgbClr val="996666"/>
                </a:solidFill>
                <a:uFillTx/>
                <a:latin typeface="Arial"/>
                <a:hlinkClick r:id="rId1"/>
              </a:rPr>
              <a:t>See MODEL ANSWER</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incident where Lennie crushes Curley's hand. What does this incident reveal about each of these two characters?</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haracter do you feel most sorry for in this story? Explain your choice by referring closely to the events of the novel.</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How does Steinbeck create a sense of insecurity in the no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You should write abou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Why some characters may feel insecur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Uses of languag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The contribution of the setting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Other features which create a sense of in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	</a:t>
            </a:r>
            <a:r>
              <a:rPr b="0" i="1" lang="en-GB" sz="2000" spc="-1" strike="noStrike">
                <a:solidFill>
                  <a:srgbClr val="000000"/>
                </a:solidFill>
                <a:latin typeface="Comic Sans MS"/>
              </a:rPr>
              <a:t>Of Mice and Men</a:t>
            </a:r>
            <a:r>
              <a:rPr b="0" lang="en-GB" sz="2000" spc="-1" strike="noStrike">
                <a:solidFill>
                  <a:srgbClr val="000000"/>
                </a:solidFill>
                <a:latin typeface="Comic Sans MS"/>
              </a:rPr>
              <a:t> ends where it begins, with George and Lenny, alone by the p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is your response to the ending of the no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Your feelings about George’s decision to shoot Lenn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ays in which Steinbeck prepares us for this en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 writer chooses to end the story in this w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ether the ending suggests that the friendship between George and Lenny was point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pes and dreams help people to survive, even if they can never become r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rue is this for characters in </a:t>
            </a:r>
            <a:r>
              <a:rPr b="0" i="1" lang="en-GB" sz="3200" spc="-1" strike="noStrike">
                <a:solidFill>
                  <a:srgbClr val="000000"/>
                </a:solidFill>
                <a:latin typeface="Arial"/>
              </a:rPr>
              <a:t>Of Mice and Men</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Show how John Steinbeck explores the complex relationship between George and Lennie.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keeps them together, and the difficulties they each hav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brings out differences between the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y are different from other people on the far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Steinbeck’s purpose was in writing about this relation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ind yourself of the description of Lennie’s fight with Curley in the extract below.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 the importance of this passage in Of Mice and Me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different aspects of Lennie shown in the passag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at is revealed about the relationship between George and      Lennie, and about Curle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this passage links with other parts of the nove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importance of the passage in the novel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Many characters in </a:t>
            </a:r>
            <a:r>
              <a:rPr b="0" i="1" lang="en-GB" sz="2400" spc="-1" strike="noStrike">
                <a:solidFill>
                  <a:srgbClr val="000000"/>
                </a:solidFill>
                <a:latin typeface="Comic Sans MS"/>
              </a:rPr>
              <a:t>Of Mice and Men</a:t>
            </a:r>
            <a:r>
              <a:rPr b="0" lang="en-GB" sz="2400" spc="-1" strike="noStrike">
                <a:solidFill>
                  <a:srgbClr val="000000"/>
                </a:solidFill>
                <a:latin typeface="Comic Sans MS"/>
              </a:rPr>
              <a:t> are shown to b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 loneliness in the nove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Characters who ar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 shows their lonelines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The differences and similarities between lonely character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the writer is saying about lonel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Find the passage in the novel where Lennie kills Curley’s wife, from the description of the barn to the point when Lennie leaves to go to the br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the writer begins this passage with the dead puppy</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Lennie and Curley’s wife behave in the way they do</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makes the death seem unavoidabl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ether you were surprised when you first read about her death, and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Of Mice and Men shows us that people can be cruel, or kind, or sometimes a mixture of bo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ompare three charac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ways in which the different characters are cruel, or kind, or a mixture of bo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y behave as they 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you respond to th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Steinbeck writes about them to make you respond this way</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9:25:18Z</dcterms:created>
  <dc:creator>svanvlo</dc:creator>
  <dc:description/>
  <dc:language>en-US</dc:language>
  <cp:lastModifiedBy>RomaK</cp:lastModifiedBy>
  <dcterms:modified xsi:type="dcterms:W3CDTF">2015-09-04T10:35:48Z</dcterms:modified>
  <cp:revision>8</cp:revision>
  <dc:subject/>
  <dc:title> Exam Questions on  Of Mice and Men </dc:title>
</cp:coreProperties>
</file>