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3567-DB63-42EE-8601-6045A89683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3B55E-9A50-4964-A7CD-56FAA0870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867CF-EAF0-4881-B280-F8C2939BB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F0FD5-F28F-4A1F-85B4-D6FB929BD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AAE9E-5F43-4B55-ADC7-211292A57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3E0B1-2D96-4155-B2DB-95C9DA665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B7123-4117-49DD-BD41-346005D4F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DE0AE-5A5B-4F04-BD19-7A1A9096D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BB70E-D90D-47D9-AB4D-A13B8F687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A5F72-7D68-410D-B5A2-6921136F9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22914-8179-458F-BCE4-F2B43CBCB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A280B-CEEB-4B8A-9D78-9079C2730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722E9-1B82-439E-8FA1-CE9C26202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53A10-290D-4427-96C3-01BE45881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F6CC1-D7EF-4149-AE30-EE5CB4909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13481-E6F3-4878-A631-FED5FD70A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933C1-3C6E-40B9-8C91-394179DA6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CFB87-AFD0-463F-8B9D-C728885A7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2DE4A-9D20-4CE8-AEC0-F59010D74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AFF81-5F2C-46F1-AEAE-DF8C54CA0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DBF1-4D31-41F0-8F43-731D5578D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3DA56-95CC-4CAD-A1BB-E5FDBDFBA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51DC-FE02-44AE-9AA4-EB3C388CF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6D8DE-15E7-4CF9-B332-357BB6E72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5CA75-0A0F-434A-8112-AFDFF62F9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E34A-9653-47F5-96CF-EDD7916C3213}"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2B37-F79C-41CC-BFC7-E2B2728A3E45}"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ewi.ac.uk/englishresources/workunits/ks4/fiction/ofmicemen/smallheath/sample.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ffffff"/>
                </a:solidFill>
                <a:latin typeface="Arial"/>
              </a:rPr>
              <a:t>Exam Questions on </a:t>
            </a:r>
            <a:br>
              <a:rPr sz="4200"/>
            </a:br>
            <a:r>
              <a:rPr b="1" i="1" lang="en-GB" sz="4200" spc="-1" strike="noStrike">
                <a:solidFill>
                  <a:srgbClr val="ffffff"/>
                </a:solidFill>
                <a:latin typeface="Arial"/>
              </a:rPr>
              <a:t>Of Mice and Men</a:t>
            </a:r>
            <a:br>
              <a:rPr sz="4200"/>
            </a:b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EAB English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533520"/>
            <a:ext cx="7925040" cy="5486400"/>
          </a:xfrm>
          <a:prstGeom prst="rect">
            <a:avLst/>
          </a:prstGeom>
          <a:noFill/>
          <a:ln w="0">
            <a:noFill/>
          </a:ln>
        </p:spPr>
        <p:txBody>
          <a:bodyPr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am Topic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 to Table of Content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a:t>
            </a:r>
            <a:r>
              <a:rPr b="0" lang="en-GB" sz="1200" spc="-1" strike="noStrike" u="sng">
                <a:solidFill>
                  <a:srgbClr val="996666"/>
                </a:solidFill>
                <a:uFillTx/>
                <a:latin typeface="Arial"/>
                <a:hlinkClick r:id="rId1"/>
              </a:rPr>
              <a:t>See MODEL ANSWER</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incident where Lennie crushes Curley's hand. What does this incident reveal about each of these two charact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haracter do you feel most sorry for in this story? Explain your choice by referring closely to the events of the novel.</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How does Steinbeck create a sense of insecurity in the no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ou should write abou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Why some characters may feel insec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Uses of languag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The contribution of the setting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Other features which create a sense of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Of Mice and Men</a:t>
            </a:r>
            <a:r>
              <a:rPr b="0" lang="en-GB" sz="2000" spc="-1" strike="noStrike">
                <a:solidFill>
                  <a:srgbClr val="000000"/>
                </a:solidFill>
                <a:latin typeface="Comic Sans MS"/>
              </a:rPr>
              <a:t> ends where it begins, with George and Lenny, alone by the p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is your response to the ending of the no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Your feelings about George’s decision to shoot Len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ays in which Steinbeck prepares us for this 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 writer chooses to end the story in this 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ether the ending suggests that the friendship between George and Lenny was point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pes and dreams help people to survive, even if they can never become r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rue is this for characters in </a:t>
            </a:r>
            <a:r>
              <a:rPr b="0" i="1" lang="en-GB" sz="3200" spc="-1" strike="noStrike">
                <a:solidFill>
                  <a:srgbClr val="000000"/>
                </a:solidFill>
                <a:latin typeface="Arial"/>
              </a:rPr>
              <a:t>Of Mice and Me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Show how John Steinbeck explores the complex relationship between George and Lennie.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keeps them together, and the difficulties they each hav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brings out differences between the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y are different from other people on the far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Steinbeck’s purpose was in writing about this relation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ind yourself of the description of Lennie’s fight with Curley in the extract below.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 the importance of this passage in Of Mice and M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different aspects of Lennie shown in the passa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at is revealed about the relationship between George and      Lennie, and about Cur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this passage links with other parts of the nove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importance of the passage in the novel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Many characters in </a:t>
            </a:r>
            <a:r>
              <a:rPr b="0" i="1" lang="en-GB" sz="2400" spc="-1" strike="noStrike">
                <a:solidFill>
                  <a:srgbClr val="000000"/>
                </a:solidFill>
                <a:latin typeface="Comic Sans MS"/>
              </a:rPr>
              <a:t>Of Mice and Men</a:t>
            </a:r>
            <a:r>
              <a:rPr b="0" lang="en-GB" sz="2400" spc="-1" strike="noStrike">
                <a:solidFill>
                  <a:srgbClr val="000000"/>
                </a:solidFill>
                <a:latin typeface="Comic Sans MS"/>
              </a:rPr>
              <a:t> are shown to b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 loneliness in the nove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Characters who ar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 shows their lonelines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The differences and similarities between lonely character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the writer is saying about lonel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Find the passage in the novel where Lennie kills Curley’s wife, from the description of the barn to the point when Lennie leaves to go to the br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the writer begins this passage with the dead pupp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Lennie and Curley’s wife behave in the way they do</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makes the death seem unavoidabl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ether you were surprised when you first read about her death,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Of Mice and Men shows us that people can be cruel, or kind, or sometimes a mixture of bo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mpare three charac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ways in which the different characters are cruel, or kind, or a mixture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y behave as they 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you respond to th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Steinbeck writes about them to make you respond this way</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9:25:18Z</dcterms:created>
  <dc:creator>svanvlo</dc:creator>
  <dc:description/>
  <dc:language>en-US</dc:language>
  <cp:lastModifiedBy>RomaK</cp:lastModifiedBy>
  <dcterms:modified xsi:type="dcterms:W3CDTF">2015-09-04T10:35:48Z</dcterms:modified>
  <cp:revision>8</cp:revision>
  <dc:subject/>
  <dc:title> Exam Questions on  Of Mice and Men </dc:title>
</cp:coreProperties>
</file>