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A3A7-9F04-4674-939C-09871E7E0B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th December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5D3-F869-4307-9E5E-40FB27D5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6A7-D69A-46F5-948A-2214E469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31C-2007-4083-BBB4-61DCAD94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E10-3235-4F59-8649-F78A15C3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284-DAFB-4FB6-8766-78E98D39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90D-95E4-430D-9614-C2326C04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26B-EF19-4A32-8B86-051DC59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04C-6772-49BF-9E8B-A0934232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2DE-ECEB-40DC-AD5A-9463AE94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BB8-986E-4AAD-980C-610249CC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0A1-1447-4B19-AFC6-FABEAE8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CB1-B935-4A87-A32B-6488212B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E040-8038-41AC-B208-6453A28F8DC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00320" y="-360"/>
            <a:ext cx="3343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Dec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8760" y="928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53:39Z</dcterms:created>
  <dc:creator>james</dc:creator>
  <dc:description/>
  <dc:language>en-US</dc:language>
  <cp:lastModifiedBy>RomaK</cp:lastModifiedBy>
  <dcterms:modified xsi:type="dcterms:W3CDTF">2015-09-04T10:36:00Z</dcterms:modified>
  <cp:revision>7</cp:revision>
  <dc:subject/>
  <dc:title>Today’s lesson is about letters</dc:title>
</cp:coreProperties>
</file>