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9E6-9DF1-4BC0-BF8B-3035496A65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th December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544-7D64-4FC5-91A1-5B7C47B9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835-22D7-4939-8A27-D3CECEE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BCC-D4F4-4558-AC94-92CE1D03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47F-3C71-4B95-A723-933E3677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B5D-09E1-480D-AC21-39419856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714-2C35-4DE4-B4E6-4A2159A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36B-C5A5-4D39-8052-63A7F537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3FA-18ED-4CF9-8C36-AF22B2D3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B2C-4663-4125-ACC7-3BD6E126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A12-2C58-43DB-ADD9-AD3540F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B8A-AFC8-44A9-829C-DD26A64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FDD-887B-489B-B2ED-2031855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01A-4A1E-4D7F-AF25-15D8E070C0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Today’s lesson is about letters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(Extension work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57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tters (Hol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00320" y="-360"/>
            <a:ext cx="3343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GB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December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28760" y="928800"/>
            <a:ext cx="8501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Obj: To write a reply to Stanley's lette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Your task is to write a reply to Stanley's letter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It will need an addre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[New York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can look back at the letter you wrote to Stanley’s mum to remind you what you wrot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to incl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alibri"/>
              </a:rPr>
              <a:t>You must include what ever Stanley said in the letter and you decide if you believe him or not.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53:39Z</dcterms:created>
  <dc:creator>james</dc:creator>
  <dc:description/>
  <dc:language>en-US</dc:language>
  <cp:lastModifiedBy>RomaK</cp:lastModifiedBy>
  <dcterms:modified xsi:type="dcterms:W3CDTF">2015-09-04T10:36:00Z</dcterms:modified>
  <cp:revision>7</cp:revision>
  <dc:subject/>
  <dc:title>Today’s lesson is about letters</dc:title>
</cp:coreProperties>
</file>