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B56A-16D8-4D2B-B643-782E625ACC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St. Patrick's Day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y St. Patrick's Da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a fast and smooth talker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a fast and smooth talk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62F-A98D-49B3-94D8-1A8DA68B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6A38-6FE0-49FF-A0E5-8DC91EFD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50E-80BB-47F8-9508-EFAB8518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E96-F7E3-43E6-902B-F5B865B2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9A8-A84E-48D7-8DBB-E7A3BD19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A81-10F5-4542-B38A-29AF2AF7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A65-3E2E-4D89-9976-854B40F6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6796-E172-4232-8A53-FCC8E9D2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3A44-3E4A-4085-A279-14698038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0740-3915-4A92-A1A4-9F39325A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346D-41B9-44FE-8EC1-7BFFE898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0628-62B0-4000-BF5B-793A9F49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C680-1C28-468F-B23F-6DE6C8046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208880" y="984240"/>
            <a:ext cx="733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Leprechaun and the Ma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Leprechaun 08"/>
          <p:cNvPicPr/>
          <p:nvPr/>
        </p:nvPicPr>
        <p:blipFill>
          <a:blip r:embed="rId1"/>
          <a:stretch/>
        </p:blipFill>
        <p:spPr>
          <a:xfrm>
            <a:off x="2666880" y="2146320"/>
            <a:ext cx="467208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597960" y="903240"/>
            <a:ext cx="767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ant to be the richest leprechaun of all, h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Pot of Gold 05"/>
          <p:cNvPicPr/>
          <p:nvPr/>
        </p:nvPicPr>
        <p:blipFill>
          <a:blip r:embed="rId1"/>
          <a:stretch/>
        </p:blipFill>
        <p:spPr>
          <a:xfrm>
            <a:off x="2286000" y="2362320"/>
            <a:ext cx="4672080" cy="365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Leprechaun 16"/>
          <p:cNvPicPr/>
          <p:nvPr/>
        </p:nvPicPr>
        <p:blipFill>
          <a:blip r:embed="rId2"/>
          <a:stretch/>
        </p:blipFill>
        <p:spPr>
          <a:xfrm>
            <a:off x="6248520" y="1905120"/>
            <a:ext cx="21873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674640" y="598320"/>
            <a:ext cx="821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fore, he went to the man and said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want more gold.  What can I do to get more?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n with Shamrock"/>
          <p:cNvPicPr/>
          <p:nvPr/>
        </p:nvPicPr>
        <p:blipFill>
          <a:blip r:embed="rId1"/>
          <a:stretch/>
        </p:blipFill>
        <p:spPr>
          <a:xfrm>
            <a:off x="5181480" y="1905120"/>
            <a:ext cx="1913040" cy="4343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Leprechaun 15"/>
          <p:cNvPicPr/>
          <p:nvPr/>
        </p:nvPicPr>
        <p:blipFill>
          <a:blip r:embed="rId2"/>
          <a:stretch/>
        </p:blipFill>
        <p:spPr>
          <a:xfrm>
            <a:off x="457200" y="2438280"/>
            <a:ext cx="46720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77520" y="522360"/>
            <a:ext cx="7090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 told the leprechaun to hide h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t of gold at the edge of the rainbow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one knows that a leprechaun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sed to put it ther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ot of Gold 02"/>
          <p:cNvPicPr/>
          <p:nvPr/>
        </p:nvPicPr>
        <p:blipFill>
          <a:blip r:embed="rId1"/>
          <a:stretch/>
        </p:blipFill>
        <p:spPr>
          <a:xfrm>
            <a:off x="2971800" y="2209680"/>
            <a:ext cx="46720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77520" y="674640"/>
            <a:ext cx="8474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 did not hesita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quickly put his gold at the end of the rainbow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waited for his fortune to double o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haps quadru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Pot of Gold 06"/>
          <p:cNvPicPr/>
          <p:nvPr/>
        </p:nvPicPr>
        <p:blipFill>
          <a:blip r:embed="rId1"/>
          <a:stretch/>
        </p:blipFill>
        <p:spPr>
          <a:xfrm>
            <a:off x="4572000" y="2362320"/>
            <a:ext cx="3382920" cy="42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678240" y="598320"/>
            <a:ext cx="819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the man was as tricky as the leprechau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the leprechaun hid his gold at the end of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nbow, the man hid and watch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Pot of Gold &amp; Rainbow 2"/>
          <p:cNvPicPr/>
          <p:nvPr/>
        </p:nvPicPr>
        <p:blipFill>
          <a:blip r:embed="rId1"/>
          <a:stretch/>
        </p:blipFill>
        <p:spPr>
          <a:xfrm>
            <a:off x="3962520" y="2217600"/>
            <a:ext cx="467172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ream Gift"/>
          <p:cNvPicPr/>
          <p:nvPr/>
        </p:nvPicPr>
        <p:blipFill>
          <a:blip r:embed="rId1"/>
          <a:stretch/>
        </p:blipFill>
        <p:spPr>
          <a:xfrm>
            <a:off x="990720" y="2286000"/>
            <a:ext cx="7238880" cy="3890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80880" y="826920"/>
            <a:ext cx="87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see, the man had greedy dreams of his ow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50360" y="522360"/>
            <a:ext cx="827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he leprechaun was off dreaming ab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old he would soon have, the man stole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prechaun’s gold and hid it in the bush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left the leprechaun an empty po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Pot of Gold 22"/>
          <p:cNvPicPr/>
          <p:nvPr/>
        </p:nvPicPr>
        <p:blipFill>
          <a:blip r:embed="rId1"/>
          <a:stretch/>
        </p:blipFill>
        <p:spPr>
          <a:xfrm>
            <a:off x="2236680" y="233280"/>
            <a:ext cx="467208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829800" y="750960"/>
            <a:ext cx="758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the man did not notice that 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re watching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St Patrick Worm"/>
          <p:cNvPicPr/>
          <p:nvPr/>
        </p:nvPicPr>
        <p:blipFill>
          <a:blip r:embed="rId1"/>
          <a:stretch/>
        </p:blipFill>
        <p:spPr>
          <a:xfrm>
            <a:off x="5562720" y="3949560"/>
            <a:ext cx="3581280" cy="2908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Mouse Playing in Shamrocks"/>
          <p:cNvPicPr/>
          <p:nvPr/>
        </p:nvPicPr>
        <p:blipFill>
          <a:blip r:embed="rId2"/>
          <a:stretch/>
        </p:blipFill>
        <p:spPr>
          <a:xfrm>
            <a:off x="762120" y="2895480"/>
            <a:ext cx="4671720" cy="1800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428560" y="1969920"/>
            <a:ext cx="630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to trick both the man an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eprechaun, they re-hid the gol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78960" y="674640"/>
            <a:ext cx="8238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he man and the leprechaun each notic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their gold was gone, they became v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gry at one anoth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Shamrock Plant"/>
          <p:cNvPicPr/>
          <p:nvPr/>
        </p:nvPicPr>
        <p:blipFill>
          <a:blip r:embed="rId1"/>
          <a:stretch/>
        </p:blipFill>
        <p:spPr>
          <a:xfrm>
            <a:off x="5116680" y="4114800"/>
            <a:ext cx="1792080" cy="2262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Man Dancing 3"/>
          <p:cNvPicPr/>
          <p:nvPr/>
        </p:nvPicPr>
        <p:blipFill>
          <a:blip r:embed="rId2"/>
          <a:stretch/>
        </p:blipFill>
        <p:spPr>
          <a:xfrm>
            <a:off x="1397160" y="2514600"/>
            <a:ext cx="2184120" cy="4343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4334040" y="2503440"/>
            <a:ext cx="448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eprechaun stomp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 feet when all that 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nd was a pot of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v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533520" y="750960"/>
            <a:ext cx="8638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 was as mad as a bull. He threw down the shamrocks that had been left for him and walked off deeper into the woods where he hoped he could find another leprechau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Shamrocks 4"/>
          <p:cNvPicPr/>
          <p:nvPr/>
        </p:nvPicPr>
        <p:blipFill>
          <a:blip r:embed="rId1"/>
          <a:stretch/>
        </p:blipFill>
        <p:spPr>
          <a:xfrm>
            <a:off x="5181480" y="2438280"/>
            <a:ext cx="3598920" cy="4267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Running of the Bulls 2"/>
          <p:cNvPicPr/>
          <p:nvPr/>
        </p:nvPicPr>
        <p:blipFill>
          <a:blip r:embed="rId2"/>
          <a:stretch/>
        </p:blipFill>
        <p:spPr>
          <a:xfrm>
            <a:off x="380880" y="3124080"/>
            <a:ext cx="46720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816560" y="804960"/>
            <a:ext cx="721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ce there was a leprechau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t lived in a small house at th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dge of the fores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eprechaun 20"/>
          <p:cNvPicPr/>
          <p:nvPr/>
        </p:nvPicPr>
        <p:blipFill>
          <a:blip r:embed="rId1"/>
          <a:stretch/>
        </p:blipFill>
        <p:spPr>
          <a:xfrm>
            <a:off x="2028960" y="3276720"/>
            <a:ext cx="3014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69960" y="533520"/>
            <a:ext cx="613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for the mouse and the worm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shared their riches with all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or children of Dubli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Year of the Rat 1"/>
          <p:cNvPicPr/>
          <p:nvPr/>
        </p:nvPicPr>
        <p:blipFill>
          <a:blip r:embed="rId1"/>
          <a:stretch/>
        </p:blipFill>
        <p:spPr>
          <a:xfrm>
            <a:off x="5715000" y="3352680"/>
            <a:ext cx="1930320" cy="2900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Filling Cornucopia"/>
          <p:cNvPicPr/>
          <p:nvPr/>
        </p:nvPicPr>
        <p:blipFill>
          <a:blip r:embed="rId2"/>
          <a:stretch/>
        </p:blipFill>
        <p:spPr>
          <a:xfrm>
            <a:off x="533520" y="2438280"/>
            <a:ext cx="363852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599040" y="598320"/>
            <a:ext cx="798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ral of this story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greedy people get what’s coming to th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Leprechaun 03"/>
          <p:cNvPicPr/>
          <p:nvPr/>
        </p:nvPicPr>
        <p:blipFill>
          <a:blip r:embed="rId1"/>
          <a:stretch/>
        </p:blipFill>
        <p:spPr>
          <a:xfrm>
            <a:off x="2514600" y="1905120"/>
            <a:ext cx="467208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304920" y="380880"/>
            <a:ext cx="655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never trust a leprechaun or someone  just because he is dressed nice and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oth talk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Celebrating - Man"/>
          <p:cNvPicPr/>
          <p:nvPr/>
        </p:nvPicPr>
        <p:blipFill>
          <a:blip r:embed="rId1"/>
          <a:stretch/>
        </p:blipFill>
        <p:spPr>
          <a:xfrm>
            <a:off x="4452840" y="1981080"/>
            <a:ext cx="3789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1436760" y="158904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nd of the sto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Bouquet"/>
          <p:cNvPicPr/>
          <p:nvPr/>
        </p:nvPicPr>
        <p:blipFill>
          <a:blip r:embed="rId1"/>
          <a:stretch/>
        </p:blipFill>
        <p:spPr>
          <a:xfrm>
            <a:off x="5029200" y="2362320"/>
            <a:ext cx="2631960" cy="3243240"/>
          </a:xfrm>
          <a:prstGeom prst="rect">
            <a:avLst/>
          </a:prstGeom>
          <a:ln w="0">
            <a:noFill/>
          </a:ln>
        </p:spPr>
      </p:pic>
      <p:sp>
        <p:nvSpPr>
          <p:cNvPr id="103" name="WordArt 7"/>
          <p:cNvSpPr txBox="1"/>
          <p:nvPr/>
        </p:nvSpPr>
        <p:spPr>
          <a:xfrm>
            <a:off x="762120" y="3276720"/>
            <a:ext cx="4267080" cy="18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appy St. Patrick's Day!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07920" y="5856120"/>
            <a:ext cx="760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ught to you by Capen’s Chatter Childr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347760"/>
            <a:ext cx="95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eprechaun was a smart fellow but 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eedy.  He loved gold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Leprechaun 10"/>
          <p:cNvPicPr/>
          <p:nvPr/>
        </p:nvPicPr>
        <p:blipFill>
          <a:blip r:embed="rId1"/>
          <a:stretch/>
        </p:blipFill>
        <p:spPr>
          <a:xfrm>
            <a:off x="2666880" y="1676520"/>
            <a:ext cx="46720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815400" y="701640"/>
            <a:ext cx="848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loved gold so much that if no one w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ing, he would steal their gold right ou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under their no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Leprechaun &amp; Penguin"/>
          <p:cNvPicPr/>
          <p:nvPr/>
        </p:nvPicPr>
        <p:blipFill>
          <a:blip r:embed="rId1"/>
          <a:stretch/>
        </p:blipFill>
        <p:spPr>
          <a:xfrm>
            <a:off x="1981080" y="2438280"/>
            <a:ext cx="4672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47480" y="598320"/>
            <a:ext cx="862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nny thing was that the animals and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he stole from still wanted to be his friend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cause he was so cleaver he made them believ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someone else had stolen their gold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Leprechaun 21"/>
          <p:cNvPicPr/>
          <p:nvPr/>
        </p:nvPicPr>
        <p:blipFill>
          <a:blip r:embed="rId1"/>
          <a:stretch/>
        </p:blipFill>
        <p:spPr>
          <a:xfrm>
            <a:off x="2286000" y="2590920"/>
            <a:ext cx="467208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752400" y="217440"/>
            <a:ext cx="847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haps he fooled them because he had such 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m smile.  Perhaps he fooled them because 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s a fast and smooth talke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Leprechaun Discovery"/>
          <p:cNvPicPr/>
          <p:nvPr/>
        </p:nvPicPr>
        <p:blipFill>
          <a:blip r:embed="rId1"/>
          <a:stretch/>
        </p:blipFill>
        <p:spPr>
          <a:xfrm>
            <a:off x="2895480" y="1828800"/>
            <a:ext cx="2786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47480" y="522360"/>
            <a:ext cx="81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ever the case, he always managed to foo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s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Leprechaun &amp; Mouse Dancing"/>
          <p:cNvPicPr/>
          <p:nvPr/>
        </p:nvPicPr>
        <p:blipFill>
          <a:blip r:embed="rId1"/>
          <a:stretch/>
        </p:blipFill>
        <p:spPr>
          <a:xfrm>
            <a:off x="2236680" y="1506600"/>
            <a:ext cx="467208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751680" y="598320"/>
            <a:ext cx="57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til one day he met his match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Man with Shamrock"/>
          <p:cNvPicPr/>
          <p:nvPr/>
        </p:nvPicPr>
        <p:blipFill>
          <a:blip r:embed="rId1"/>
          <a:stretch/>
        </p:blipFill>
        <p:spPr>
          <a:xfrm>
            <a:off x="6248520" y="762120"/>
            <a:ext cx="25160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521640" y="1969920"/>
            <a:ext cx="6089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handsome, well dressed,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 mannered man visited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prechau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could make you very rich he to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.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only you had some gold 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st…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04920" y="674640"/>
            <a:ext cx="8926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edy leprechaun started thinking abo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the man had said.  He loved gold, gold,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re gol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Leprechaun with Gold"/>
          <p:cNvPicPr/>
          <p:nvPr/>
        </p:nvPicPr>
        <p:blipFill>
          <a:blip r:embed="rId1"/>
          <a:stretch/>
        </p:blipFill>
        <p:spPr>
          <a:xfrm>
            <a:off x="2286000" y="1828800"/>
            <a:ext cx="467208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5:29:06Z</dcterms:created>
  <dc:creator>WCPS</dc:creator>
  <dc:description/>
  <dc:language>en-US</dc:language>
  <cp:lastModifiedBy>RomaK</cp:lastModifiedBy>
  <dcterms:modified xsi:type="dcterms:W3CDTF">2015-09-04T10:36:14Z</dcterms:modified>
  <cp:revision>10</cp:revision>
  <dc:subject/>
  <dc:title>The leprechaun and the man</dc:title>
</cp:coreProperties>
</file>