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5C0B-B539-4FDE-8116-6C393C3D74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and the Ma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and the M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nt to be the richest leprechaun of all, h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nt to be the richest leprechaun of all, 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he went to the man and said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nt more gold.  What can I do to get more?”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he went to the man and sai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nt more gold.  What can I do to get more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n told the leprechaun to hide h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 of gold at the edge of the rainbow fo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knows that a leprechaun 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d to put it there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n told the leprechaun to hide 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 of gold at the edge of the rainbow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knows that a leprechau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d to put it the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 did not hesitat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quickly put his gold at the end of the rainbow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ited for his fortune to double or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quadrupl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 did not hesi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quickly put his gold at the end of the rainb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ited for his fortune to double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quadru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man was as tricky as the leprechau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e leprechaun hid his gold at the end of t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bow, the man hid and watch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man was as tricky as the leprecha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e leprechaun hid his gold at the end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bow, the man hid and watc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ee, the man had greedy dreams of his ow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ee, the man had greedy dreams of his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leprechaun was off dreaming abou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ld he would soon have, the man stole t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prechaun’s gold and hid it in the bush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left the leprechaun an empty po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leprechaun was off dreaming 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ld he would soon have, the man stole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prechaun’s gold and hid it in the bus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left the leprechaun an empty p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man did not notice that oth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re watching…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o trick both the man an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, they re-hid the gol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man did not notice that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re watching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o trick both the ma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, they re-hid the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man and the leprechaun each notic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ir gold was gone, they became ve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ry at one anoth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stompe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feet when all that 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was a pot of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ver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man and the leprechaun each noti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ir gold was gone, they became 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ry at one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stom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feet when all that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was a po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n was as mad as a bull. He threw down the shamrocks that had been left for him and walked off deeper into the woods where he hoped he could find another leprechau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n was as mad as a bull. He threw down the shamrocks that had been left for him and walked off deeper into the woods where he hoped he could find another leprecha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re was a leprecha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lived in a small house at t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 of the fores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re was a leprecha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lived in a small house 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 of the fo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or the mouse and the worm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hared their riches with all t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children of Dubli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or the mouse and the wor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hared their riches with all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children of Dub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al of this story 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reedy people get what’s coming to the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al of this story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reedy people get what’s coming to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…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ever trust a leprechaun or someone  just because he is dressed nice and 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 tal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ever trust a leprechaun or someone  just because he is dressed nice and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 talk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 of the story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y St. Patrick's Day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ught to you by Capen’s Chatter Childre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 of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y St. Patrick's D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ught to you by Capen’s Chatter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was a smart fellow but ve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dy.  He loved gol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was a smart fellow but 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dy.  He loved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loved gold so much that if no one w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, he would steal their gold right out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under their nos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loved gold so much that if no one w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, he would steal their gold right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under their no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ny thing was that the animals and peo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he stole from still wanted to be his friend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he was so cleaver he made them believ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omeone else had stolen their gold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ny thing was that the animals and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he stole from still wanted to be his frien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he was so cleaver he made them belie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omeone else had stolen their gol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he fooled them because he had such 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smile.  Perhaps he fooled them because 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a fast and smooth talker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he fooled them because he had such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smile.  Perhaps he fooled them because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a fast and smooth talk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ever the case, he always managed to foo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.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ever the case, he always managed to f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one day he met his match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andsome, well dressed,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mannered man visited t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prechaun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ould make you very rich he tol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.”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ly you had some gold t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…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one day he met his matc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andsome, well dressed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mannered man visite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precha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ould make you very rich he t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ly you had some gol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 started thinking abou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man had said.  He loved gold, gold,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ol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 started thinking 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man had said.  He loved gold, gold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92AA-4140-4BAB-98A2-A24332744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00F4-D82D-437F-A80E-CFE673F7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5BF1-1DBD-4829-90D8-9F337595B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7077-9721-4E78-889B-728B4214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11C0-46D4-4706-8F95-46081070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5D36-3DD4-41DB-BC3C-A505A820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D5DA-BAC7-4FED-BA86-2B28F36B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7887-2F5B-4217-80DB-82B0958D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5CDA-E133-4811-A05A-447B395F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EFC7-1AE0-4D63-8FFE-A052BA52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6AFB-B7F0-4358-9648-9325F0D7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F9F0-8AF2-46D1-9A4D-88708D07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7E55-93ED-499A-B619-1F22D6A3A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208880" y="984240"/>
            <a:ext cx="733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Leprechaun and the Man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Leprechaun 08"/>
          <p:cNvPicPr/>
          <p:nvPr/>
        </p:nvPicPr>
        <p:blipFill>
          <a:blip r:embed="rId1"/>
          <a:stretch/>
        </p:blipFill>
        <p:spPr>
          <a:xfrm>
            <a:off x="2666880" y="2146320"/>
            <a:ext cx="467208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597960" y="903240"/>
            <a:ext cx="767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want to be the richest leprechaun of all, h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ugh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Pot of Gold 05"/>
          <p:cNvPicPr/>
          <p:nvPr/>
        </p:nvPicPr>
        <p:blipFill>
          <a:blip r:embed="rId1"/>
          <a:stretch/>
        </p:blipFill>
        <p:spPr>
          <a:xfrm>
            <a:off x="2286000" y="2362320"/>
            <a:ext cx="4672080" cy="3659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Leprechaun 16"/>
          <p:cNvPicPr/>
          <p:nvPr/>
        </p:nvPicPr>
        <p:blipFill>
          <a:blip r:embed="rId2"/>
          <a:stretch/>
        </p:blipFill>
        <p:spPr>
          <a:xfrm>
            <a:off x="6248520" y="1905120"/>
            <a:ext cx="218736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674640" y="598320"/>
            <a:ext cx="821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fore, he went to the man and said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want more gold.  What can I do to get more?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Man with Shamrock"/>
          <p:cNvPicPr/>
          <p:nvPr/>
        </p:nvPicPr>
        <p:blipFill>
          <a:blip r:embed="rId1"/>
          <a:stretch/>
        </p:blipFill>
        <p:spPr>
          <a:xfrm>
            <a:off x="5181480" y="1905120"/>
            <a:ext cx="1913040" cy="4343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Leprechaun 15"/>
          <p:cNvPicPr/>
          <p:nvPr/>
        </p:nvPicPr>
        <p:blipFill>
          <a:blip r:embed="rId2"/>
          <a:stretch/>
        </p:blipFill>
        <p:spPr>
          <a:xfrm>
            <a:off x="457200" y="2438280"/>
            <a:ext cx="467208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77520" y="522360"/>
            <a:ext cx="7090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n told the leprechaun to hide h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t of gold at the edge of the rainbow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ryone knows that a leprechaun 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sed to put it there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Pot of Gold 02"/>
          <p:cNvPicPr/>
          <p:nvPr/>
        </p:nvPicPr>
        <p:blipFill>
          <a:blip r:embed="rId1"/>
          <a:stretch/>
        </p:blipFill>
        <p:spPr>
          <a:xfrm>
            <a:off x="2971800" y="2209680"/>
            <a:ext cx="467208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677520" y="674640"/>
            <a:ext cx="8474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reedy leprechaun did not hesitat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quickly put his gold at the end of the rainbow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waited for his fortune to double o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haps quadrup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Pot of Gold 06"/>
          <p:cNvPicPr/>
          <p:nvPr/>
        </p:nvPicPr>
        <p:blipFill>
          <a:blip r:embed="rId1"/>
          <a:stretch/>
        </p:blipFill>
        <p:spPr>
          <a:xfrm>
            <a:off x="4572000" y="2362320"/>
            <a:ext cx="3382920" cy="42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678240" y="598320"/>
            <a:ext cx="819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the man was as tricky as the leprechau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the leprechaun hid his gold at the end of t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inbow, the man hid and watch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Pot of Gold &amp; Rainbow 2"/>
          <p:cNvPicPr/>
          <p:nvPr/>
        </p:nvPicPr>
        <p:blipFill>
          <a:blip r:embed="rId1"/>
          <a:stretch/>
        </p:blipFill>
        <p:spPr>
          <a:xfrm>
            <a:off x="3962520" y="2217600"/>
            <a:ext cx="467172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Dream Gift"/>
          <p:cNvPicPr/>
          <p:nvPr/>
        </p:nvPicPr>
        <p:blipFill>
          <a:blip r:embed="rId1"/>
          <a:stretch/>
        </p:blipFill>
        <p:spPr>
          <a:xfrm>
            <a:off x="990720" y="2286000"/>
            <a:ext cx="7238880" cy="38908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80880" y="826920"/>
            <a:ext cx="87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see, the man had greedy dreams of his ow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450360" y="522360"/>
            <a:ext cx="8274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the leprechaun was off dreaming abo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old he would soon have, the man stole t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prechaun’s gold and hid it in the bush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left the leprechaun an empty po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Pot of Gold 22"/>
          <p:cNvPicPr/>
          <p:nvPr/>
        </p:nvPicPr>
        <p:blipFill>
          <a:blip r:embed="rId1"/>
          <a:stretch/>
        </p:blipFill>
        <p:spPr>
          <a:xfrm>
            <a:off x="2236680" y="233280"/>
            <a:ext cx="4672080" cy="63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829800" y="750960"/>
            <a:ext cx="758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, the man did not notice that ot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re watching…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St Patrick Worm"/>
          <p:cNvPicPr/>
          <p:nvPr/>
        </p:nvPicPr>
        <p:blipFill>
          <a:blip r:embed="rId1"/>
          <a:stretch/>
        </p:blipFill>
        <p:spPr>
          <a:xfrm>
            <a:off x="5562720" y="3949560"/>
            <a:ext cx="3581280" cy="2908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Mouse Playing in Shamrocks"/>
          <p:cNvPicPr/>
          <p:nvPr/>
        </p:nvPicPr>
        <p:blipFill>
          <a:blip r:embed="rId2"/>
          <a:stretch/>
        </p:blipFill>
        <p:spPr>
          <a:xfrm>
            <a:off x="762120" y="2895480"/>
            <a:ext cx="4671720" cy="1800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2428560" y="1969920"/>
            <a:ext cx="630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 to trick both the man an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eprechaun, they re-hid the gol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678960" y="674640"/>
            <a:ext cx="8238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the man and the leprechaun each notic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 their gold was gone, they became ve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gry at one anoth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Shamrock Plant"/>
          <p:cNvPicPr/>
          <p:nvPr/>
        </p:nvPicPr>
        <p:blipFill>
          <a:blip r:embed="rId1"/>
          <a:stretch/>
        </p:blipFill>
        <p:spPr>
          <a:xfrm>
            <a:off x="5116680" y="4114800"/>
            <a:ext cx="1792080" cy="2262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Man Dancing 3"/>
          <p:cNvPicPr/>
          <p:nvPr/>
        </p:nvPicPr>
        <p:blipFill>
          <a:blip r:embed="rId2"/>
          <a:stretch/>
        </p:blipFill>
        <p:spPr>
          <a:xfrm>
            <a:off x="1397160" y="2514600"/>
            <a:ext cx="2184120" cy="43434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4334040" y="2503440"/>
            <a:ext cx="448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eprechaun stompe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s feet when all that 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nd was a pot of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ove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533520" y="750960"/>
            <a:ext cx="8638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n was as mad as a bull. He threw down the shamrocks that had been left for him and walked off deeper into the woods where he hoped he could find another leprechau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Shamrocks 4"/>
          <p:cNvPicPr/>
          <p:nvPr/>
        </p:nvPicPr>
        <p:blipFill>
          <a:blip r:embed="rId1"/>
          <a:stretch/>
        </p:blipFill>
        <p:spPr>
          <a:xfrm>
            <a:off x="5181480" y="2438280"/>
            <a:ext cx="3598920" cy="4267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Running of the Bulls 2"/>
          <p:cNvPicPr/>
          <p:nvPr/>
        </p:nvPicPr>
        <p:blipFill>
          <a:blip r:embed="rId2"/>
          <a:stretch/>
        </p:blipFill>
        <p:spPr>
          <a:xfrm>
            <a:off x="380880" y="3124080"/>
            <a:ext cx="4672080" cy="35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816560" y="804960"/>
            <a:ext cx="721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ce there was a leprechau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t lived in a small house at th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dge of the forest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eprechaun 20"/>
          <p:cNvPicPr/>
          <p:nvPr/>
        </p:nvPicPr>
        <p:blipFill>
          <a:blip r:embed="rId1"/>
          <a:stretch/>
        </p:blipFill>
        <p:spPr>
          <a:xfrm>
            <a:off x="2028960" y="3276720"/>
            <a:ext cx="3014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669960" y="533520"/>
            <a:ext cx="613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for the mouse and the worm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shared their riches with all t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or children of Dubli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Year of the Rat 1"/>
          <p:cNvPicPr/>
          <p:nvPr/>
        </p:nvPicPr>
        <p:blipFill>
          <a:blip r:embed="rId1"/>
          <a:stretch/>
        </p:blipFill>
        <p:spPr>
          <a:xfrm>
            <a:off x="5715000" y="3352680"/>
            <a:ext cx="1930320" cy="2900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Filling Cornucopia"/>
          <p:cNvPicPr/>
          <p:nvPr/>
        </p:nvPicPr>
        <p:blipFill>
          <a:blip r:embed="rId2"/>
          <a:stretch/>
        </p:blipFill>
        <p:spPr>
          <a:xfrm>
            <a:off x="533520" y="2438280"/>
            <a:ext cx="3638520" cy="40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599040" y="598320"/>
            <a:ext cx="7983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ral of this story 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greedy people get what’s coming to th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Leprechaun 03"/>
          <p:cNvPicPr/>
          <p:nvPr/>
        </p:nvPicPr>
        <p:blipFill>
          <a:blip r:embed="rId1"/>
          <a:stretch/>
        </p:blipFill>
        <p:spPr>
          <a:xfrm>
            <a:off x="2514600" y="1905120"/>
            <a:ext cx="467208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304920" y="380880"/>
            <a:ext cx="655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…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never trust a leprechaun or someone  just because he is dressed nice and 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ooth talk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Celebrating - Man"/>
          <p:cNvPicPr/>
          <p:nvPr/>
        </p:nvPicPr>
        <p:blipFill>
          <a:blip r:embed="rId1"/>
          <a:stretch/>
        </p:blipFill>
        <p:spPr>
          <a:xfrm>
            <a:off x="4452840" y="1981080"/>
            <a:ext cx="37893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1436760" y="1589040"/>
            <a:ext cx="367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nd of the stor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Bouquet"/>
          <p:cNvPicPr/>
          <p:nvPr/>
        </p:nvPicPr>
        <p:blipFill>
          <a:blip r:embed="rId1"/>
          <a:stretch/>
        </p:blipFill>
        <p:spPr>
          <a:xfrm>
            <a:off x="5029200" y="2362320"/>
            <a:ext cx="2631960" cy="3243240"/>
          </a:xfrm>
          <a:prstGeom prst="rect">
            <a:avLst/>
          </a:prstGeom>
          <a:ln w="0">
            <a:noFill/>
          </a:ln>
        </p:spPr>
      </p:pic>
      <p:sp>
        <p:nvSpPr>
          <p:cNvPr id="103" name="WordArt 7"/>
          <p:cNvSpPr txBox="1"/>
          <p:nvPr/>
        </p:nvSpPr>
        <p:spPr>
          <a:xfrm>
            <a:off x="762120" y="3276720"/>
            <a:ext cx="4267080" cy="18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appy St. Patrick's Day!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907920" y="5856120"/>
            <a:ext cx="76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ought to you by Capen’s Chatter Childr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0" y="347760"/>
            <a:ext cx="951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eprechaun was a smart fellow but ve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eedy.  He loved gold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Leprechaun 10"/>
          <p:cNvPicPr/>
          <p:nvPr/>
        </p:nvPicPr>
        <p:blipFill>
          <a:blip r:embed="rId1"/>
          <a:stretch/>
        </p:blipFill>
        <p:spPr>
          <a:xfrm>
            <a:off x="2666880" y="1676520"/>
            <a:ext cx="467208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815400" y="701640"/>
            <a:ext cx="848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 loved gold so much that if no one w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king, he would steal their gold right ou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under their nos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Leprechaun &amp; Penguin"/>
          <p:cNvPicPr/>
          <p:nvPr/>
        </p:nvPicPr>
        <p:blipFill>
          <a:blip r:embed="rId1"/>
          <a:stretch/>
        </p:blipFill>
        <p:spPr>
          <a:xfrm>
            <a:off x="1981080" y="2438280"/>
            <a:ext cx="46720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447480" y="598320"/>
            <a:ext cx="862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unny thing was that the animals and peo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 he stole from still wanted to be his friend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cause he was so cleaver he made them believ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 someone else had stolen their gold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Leprechaun 21"/>
          <p:cNvPicPr/>
          <p:nvPr/>
        </p:nvPicPr>
        <p:blipFill>
          <a:blip r:embed="rId1"/>
          <a:stretch/>
        </p:blipFill>
        <p:spPr>
          <a:xfrm>
            <a:off x="2286000" y="2590920"/>
            <a:ext cx="4672080" cy="39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752400" y="217440"/>
            <a:ext cx="847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haps he fooled them because he had such 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m smile.  Perhaps he fooled them because 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s a fast and smooth talker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Leprechaun Discovery"/>
          <p:cNvPicPr/>
          <p:nvPr/>
        </p:nvPicPr>
        <p:blipFill>
          <a:blip r:embed="rId1"/>
          <a:stretch/>
        </p:blipFill>
        <p:spPr>
          <a:xfrm>
            <a:off x="2895480" y="1828800"/>
            <a:ext cx="2786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447480" y="522360"/>
            <a:ext cx="812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ever the case, he always managed to fool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s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Leprechaun &amp; Mouse Dancing"/>
          <p:cNvPicPr/>
          <p:nvPr/>
        </p:nvPicPr>
        <p:blipFill>
          <a:blip r:embed="rId1"/>
          <a:stretch/>
        </p:blipFill>
        <p:spPr>
          <a:xfrm>
            <a:off x="2236680" y="1506600"/>
            <a:ext cx="467208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751680" y="598320"/>
            <a:ext cx="577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til one day he met his match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Man with Shamrock"/>
          <p:cNvPicPr/>
          <p:nvPr/>
        </p:nvPicPr>
        <p:blipFill>
          <a:blip r:embed="rId1"/>
          <a:stretch/>
        </p:blipFill>
        <p:spPr>
          <a:xfrm>
            <a:off x="6248520" y="762120"/>
            <a:ext cx="251604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521640" y="1969920"/>
            <a:ext cx="6089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handsome, well dressed, 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ll mannered man visited t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prechaun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could make you very rich he to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reedy leprechaun.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only you had some gold t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est…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304920" y="674640"/>
            <a:ext cx="8926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reedy leprechaun started thinking abo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he man had said.  He loved gold, gold, 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e gol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Leprechaun with Gold"/>
          <p:cNvPicPr/>
          <p:nvPr/>
        </p:nvPicPr>
        <p:blipFill>
          <a:blip r:embed="rId1"/>
          <a:stretch/>
        </p:blipFill>
        <p:spPr>
          <a:xfrm>
            <a:off x="2286000" y="1828800"/>
            <a:ext cx="467208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5:29:06Z</dcterms:created>
  <dc:creator>WCPS</dc:creator>
  <dc:description/>
  <dc:language>en-US</dc:language>
  <cp:lastModifiedBy>RomaK</cp:lastModifiedBy>
  <dcterms:modified xsi:type="dcterms:W3CDTF">2015-09-04T10:36:14Z</dcterms:modified>
  <cp:revision>10</cp:revision>
  <dc:subject/>
  <dc:title>The leprechaun and the man</dc:title>
</cp:coreProperties>
</file>