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22.gif" ContentType="image/gif"/>
  <Override PartName="/ppt/media/image9.gif" ContentType="image/gif"/>
  <Override PartName="/ppt/media/image13.gif" ContentType="image/gif"/>
  <Override PartName="/ppt/media/image8.gif" ContentType="image/gif"/>
  <Override PartName="/ppt/media/image7.gif" ContentType="image/gif"/>
  <Override PartName="/ppt/media/image12.png" ContentType="image/png"/>
  <Override PartName="/ppt/media/image11.wmf" ContentType="image/x-wmf"/>
  <Override PartName="/ppt/media/image3.png" ContentType="image/png"/>
  <Override PartName="/ppt/media/image23.gif" ContentType="image/gif"/>
  <Override PartName="/ppt/media/image20.gif" ContentType="image/gif"/>
  <Override PartName="/ppt/media/image6.wmf" ContentType="image/x-wmf"/>
  <Override PartName="/ppt/media/image21.gif" ContentType="image/gif"/>
  <Override PartName="/ppt/media/image19.gif" ContentType="image/gif"/>
  <Override PartName="/ppt/media/image4.wmf" ContentType="image/x-wmf"/>
  <Override PartName="/ppt/media/image18.png" ContentType="image/png"/>
  <Override PartName="/ppt/media/image17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16.wmf" ContentType="image/x-wmf"/>
  <Override PartName="/ppt/media/image5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6C8A2-C1E5-4DF9-BC65-D39583DEEDB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t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at is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t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at is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ma is a story written to be performed by actors.  Although a drama is meant to be performed, one can also read the script, or written version, and imagine the a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ma is a story written to be performed by actors.  Although a drama is meant to be performed, one can also read the script, or written version, and imagine the a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*!*~Review~*!*~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Literatu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genre mea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three main genre’s of literatu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three types of writing for each categ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*!*~Review~*!*~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Literatu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genre mea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three main genre’s of literatu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three types of writing for each categ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OF LIT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ten works having excellence 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despread and Lasting Inte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OF LIT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ten works having excellence 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despread and Lasting Inte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Major Genr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Major Genr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se is the ordinary form of written langua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mitates the spoken langu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se is the ordinary form of written langua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mitates the spoken langu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CTIO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N-F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hort Stori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Personal  Narr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iry Tal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Le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lk Tal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Memoi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vel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Short S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em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Re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CTIO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N-F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hort Stori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Personal  Narr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iry Tal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Le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lk Tal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Memoi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vel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Short S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em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Re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et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etry is language written with rhythm, figurative language, imagery, sound devices and emotionally charged langua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jor Types of Po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ric Po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rrative Po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 Poet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et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etry is language written with rhythm, figurative language, imagery, sound devices and emotionally charged langua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jor Types of Po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ric Po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rrative Po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 Poet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ric P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ric poem is a highly musical verse that expresses the observation and feelings of a single speaker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ric P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ric poem is a highly musical verse that expresses the observation and feelings of a single speaker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rrative P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rrative Poem is a story told in verse.  Narrative poems often have all the elements of short stories, including characters, conflict, and pl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rrative P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rrative Poem is a story told in verse.  Narrative poems often have all the elements of short stories, including characters, conflict, and pl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 P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 Poem is one with a shape that suggests its subject.  The poet arranges the letters, punctuation, and lines to create an image or picture, on the p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 P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ete Poem is one with a shape that suggests its subject.  The poet arranges the letters, punctuation, and lines to create an image or picture, on the p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ABAB-FBF6-4D3F-8283-5C1576CF8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2EF9-43DB-40AE-827D-753C45131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61DF-B9A9-438E-AC20-923BF125C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B284-00B2-4743-8EC1-6F93C42D7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C747-F50A-45BC-8EE7-2EA193C42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8B7A-917D-44C4-9605-D655B6434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36C6-D0FB-447B-BB64-55AC1CA80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1AB8-63EA-4D63-BCF1-2FF6C64DF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17AB-3F10-42DD-AE3F-01F63055F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CBC2-521F-4974-8147-17ED5589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D9A8-995A-402C-BD41-B565F5E8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2114-B164-44FA-B4D2-FEDE3E16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704C4-73A5-484D-BF59-471E010D44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image" Target="../media/image21.gif"/><Relationship Id="rId6" Type="http://schemas.openxmlformats.org/officeDocument/2006/relationships/image" Target="../media/image22.gif"/><Relationship Id="rId7" Type="http://schemas.openxmlformats.org/officeDocument/2006/relationships/image" Target="../media/image23.gif"/><Relationship Id="rId8" Type="http://schemas.openxmlformats.org/officeDocument/2006/relationships/oleObject" Target="../embeddings/oleObject1.bin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Literatur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What is it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j0078711"/>
          <p:cNvPicPr/>
          <p:nvPr/>
        </p:nvPicPr>
        <p:blipFill>
          <a:blip r:embed="rId1"/>
          <a:stretch/>
        </p:blipFill>
        <p:spPr>
          <a:xfrm>
            <a:off x="380880" y="380880"/>
            <a:ext cx="1622520" cy="5867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j0078811"/>
          <p:cNvPicPr/>
          <p:nvPr/>
        </p:nvPicPr>
        <p:blipFill>
          <a:blip r:embed="rId2"/>
          <a:stretch/>
        </p:blipFill>
        <p:spPr>
          <a:xfrm>
            <a:off x="6934320" y="4343400"/>
            <a:ext cx="2209680" cy="2514600"/>
          </a:xfrm>
          <a:prstGeom prst="rect">
            <a:avLst/>
          </a:prstGeom>
          <a:ln w="0">
            <a:noFill/>
          </a:ln>
        </p:spPr>
      </p:pic>
      <p:pic>
        <p:nvPicPr>
          <p:cNvPr id="52" name="urban_01.mid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9030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j0095687"/>
          <p:cNvPicPr/>
          <p:nvPr/>
        </p:nvPicPr>
        <p:blipFill>
          <a:blip r:embed="rId2"/>
          <a:stretch/>
        </p:blipFill>
        <p:spPr>
          <a:xfrm>
            <a:off x="2057400" y="533520"/>
            <a:ext cx="1130400" cy="1714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j0095676"/>
          <p:cNvPicPr/>
          <p:nvPr/>
        </p:nvPicPr>
        <p:blipFill>
          <a:blip r:embed="rId3"/>
          <a:stretch/>
        </p:blipFill>
        <p:spPr>
          <a:xfrm>
            <a:off x="6172200" y="1066680"/>
            <a:ext cx="990720" cy="1001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j0095676"/>
          <p:cNvPicPr/>
          <p:nvPr/>
        </p:nvPicPr>
        <p:blipFill>
          <a:blip r:embed="rId4"/>
          <a:stretch/>
        </p:blipFill>
        <p:spPr>
          <a:xfrm>
            <a:off x="4191120" y="1143000"/>
            <a:ext cx="761760" cy="1001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j0095716"/>
          <p:cNvPicPr/>
          <p:nvPr/>
        </p:nvPicPr>
        <p:blipFill>
          <a:blip r:embed="rId5"/>
          <a:stretch/>
        </p:blipFill>
        <p:spPr>
          <a:xfrm>
            <a:off x="4800600" y="1219320"/>
            <a:ext cx="1447920" cy="892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j0095734"/>
          <p:cNvPicPr/>
          <p:nvPr/>
        </p:nvPicPr>
        <p:blipFill>
          <a:blip r:embed="rId6"/>
          <a:stretch/>
        </p:blipFill>
        <p:spPr>
          <a:xfrm>
            <a:off x="3276720" y="1066680"/>
            <a:ext cx="1066680" cy="1143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0"/>
          <p:cNvSpPr/>
          <p:nvPr/>
        </p:nvSpPr>
        <p:spPr>
          <a:xfrm>
            <a:off x="1295280" y="2666880"/>
            <a:ext cx="6782040" cy="52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99ff"/>
                </a:solidFill>
                <a:latin typeface="Kristen ITC"/>
              </a:rPr>
              <a:t>Drama is a story written to be performed by actors.  Although a drama is meant to be performed, one can also read the script, or written version, and imagine the action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2" descr="ag00371_"/>
          <p:cNvPicPr/>
          <p:nvPr/>
        </p:nvPicPr>
        <p:blipFill>
          <a:blip r:embed="rId7"/>
          <a:stretch/>
        </p:blipFill>
        <p:spPr>
          <a:xfrm>
            <a:off x="6705720" y="228600"/>
            <a:ext cx="2438280" cy="1450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Object 14"/>
          <p:cNvGraphicFramePr/>
          <p:nvPr/>
        </p:nvGraphicFramePr>
        <p:xfrm>
          <a:off x="0" y="304920"/>
          <a:ext cx="2057400" cy="1371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8" name="Object 1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0" y="304920"/>
                    <a:ext cx="2057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Ravie"/>
              </a:rPr>
              <a:t>~*!*~Review~*!*~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Ravi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avie"/>
              </a:rPr>
              <a:t>What is Litera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Ravi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avie"/>
              </a:rPr>
              <a:t>What does genre me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Ravi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avie"/>
              </a:rPr>
              <a:t>What are the three main genre’s of litera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Ravi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avie"/>
              </a:rPr>
              <a:t>Write three types of writing for each categ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MENTS OF LITERA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ten works having excellence 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espread and Lasting Inter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" descr="bd20011_"/>
          <p:cNvPicPr/>
          <p:nvPr/>
        </p:nvPicPr>
        <p:blipFill>
          <a:blip r:embed="rId1"/>
          <a:stretch/>
        </p:blipFill>
        <p:spPr>
          <a:xfrm>
            <a:off x="0" y="0"/>
            <a:ext cx="1066680" cy="1144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ag00024_"/>
          <p:cNvPicPr/>
          <p:nvPr/>
        </p:nvPicPr>
        <p:blipFill>
          <a:blip r:embed="rId2"/>
          <a:stretch/>
        </p:blipFill>
        <p:spPr>
          <a:xfrm>
            <a:off x="6477120" y="4191120"/>
            <a:ext cx="217008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ajor Genr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Object 5"/>
          <p:cNvGraphicFramePr/>
          <p:nvPr/>
        </p:nvGraphicFramePr>
        <p:xfrm>
          <a:off x="685800" y="2133720"/>
          <a:ext cx="7772400" cy="366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33720"/>
                    <a:ext cx="7772400" cy="36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" name="Picture 7" descr="ag00463_"/>
          <p:cNvPicPr/>
          <p:nvPr/>
        </p:nvPicPr>
        <p:blipFill>
          <a:blip r:embed="rId3"/>
          <a:stretch/>
        </p:blipFill>
        <p:spPr>
          <a:xfrm>
            <a:off x="457200" y="380880"/>
            <a:ext cx="144792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PROS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cc33"/>
                </a:solidFill>
                <a:latin typeface="Comic Sans MS"/>
              </a:rPr>
              <a:t>Prose is the ordinary form of written language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cc33"/>
                </a:solidFill>
                <a:latin typeface="Comic Sans MS"/>
              </a:rPr>
              <a:t>It imitates the spoken language</a:t>
            </a:r>
            <a:r>
              <a:rPr b="0" lang="en-US" sz="2400" spc="-1" strike="noStrike">
                <a:solidFill>
                  <a:srgbClr val="33cc33"/>
                </a:solidFill>
                <a:latin typeface="Comic Sans MS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990720" y="426708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914400" y="4495680"/>
            <a:ext cx="71629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8" descr="ag00557_"/>
          <p:cNvPicPr/>
          <p:nvPr/>
        </p:nvPicPr>
        <p:blipFill>
          <a:blip r:embed="rId1"/>
          <a:stretch/>
        </p:blipFill>
        <p:spPr>
          <a:xfrm>
            <a:off x="0" y="0"/>
            <a:ext cx="4038480" cy="2057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ag00029_"/>
          <p:cNvPicPr/>
          <p:nvPr/>
        </p:nvPicPr>
        <p:blipFill>
          <a:blip r:embed="rId2"/>
          <a:stretch/>
        </p:blipFill>
        <p:spPr>
          <a:xfrm>
            <a:off x="7429680" y="2514600"/>
            <a:ext cx="171432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1774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ff"/>
                </a:solidFill>
                <a:latin typeface="Broadway"/>
              </a:rPr>
              <a:t>Pro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99"/>
                </a:solidFill>
                <a:uFillTx/>
                <a:latin typeface="Broadway"/>
              </a:rPr>
              <a:t>FICTION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 u="sng">
                <a:solidFill>
                  <a:srgbClr val="ffff99"/>
                </a:solidFill>
                <a:uFillTx/>
                <a:latin typeface="Broadway"/>
              </a:rPr>
              <a:t>NON-FI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  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Short Stories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            Personal  Narr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   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Fairy Tales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     Let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    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Folk Tales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   Memoi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     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Novels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          Short S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      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Poems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Broadway"/>
              </a:rPr>
              <a:t>      Re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bd06142_"/>
          <p:cNvPicPr/>
          <p:nvPr/>
        </p:nvPicPr>
        <p:blipFill>
          <a:blip r:embed="rId1"/>
          <a:stretch/>
        </p:blipFill>
        <p:spPr>
          <a:xfrm>
            <a:off x="6678720" y="0"/>
            <a:ext cx="2465280" cy="1523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Object 6"/>
          <p:cNvGraphicFramePr/>
          <p:nvPr/>
        </p:nvGraphicFramePr>
        <p:xfrm>
          <a:off x="0" y="304920"/>
          <a:ext cx="2590920" cy="1371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04920"/>
                    <a:ext cx="259092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ff"/>
                </a:solidFill>
                <a:latin typeface="Curlz MT"/>
              </a:rPr>
              <a:t>Poetry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Curlz MT"/>
              </a:rPr>
              <a:t>	</a:t>
            </a:r>
            <a:r>
              <a:rPr b="1" lang="en-US" sz="3200" spc="-1" strike="noStrike">
                <a:solidFill>
                  <a:srgbClr val="ffccff"/>
                </a:solidFill>
                <a:latin typeface="Curlz MT"/>
              </a:rPr>
              <a:t>Poetry is language written with rhythm, figurative language, imagery, sound devices and emotionally charged language.</a:t>
            </a:r>
            <a:r>
              <a:rPr b="1" lang="en-US" sz="3200" spc="-1" strike="noStrike">
                <a:solidFill>
                  <a:srgbClr val="ffccff"/>
                </a:solidFill>
                <a:latin typeface="Curlz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cff"/>
                </a:solidFill>
                <a:uFillTx/>
                <a:latin typeface="Curlz MT"/>
              </a:rPr>
              <a:t>Major Types of Po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Curlz MT"/>
              </a:rPr>
              <a:t>Lyric Po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Curlz MT"/>
              </a:rPr>
              <a:t>Narrative Po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Curlz MT"/>
              </a:rPr>
              <a:t>Concrete Poetr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Object 4"/>
          <p:cNvGraphicFramePr/>
          <p:nvPr/>
        </p:nvGraphicFramePr>
        <p:xfrm>
          <a:off x="0" y="304920"/>
          <a:ext cx="259092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920"/>
                    <a:ext cx="259092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" name="Picture 5" descr="en00435_"/>
          <p:cNvPicPr/>
          <p:nvPr/>
        </p:nvPicPr>
        <p:blipFill>
          <a:blip r:embed="rId3"/>
          <a:stretch/>
        </p:blipFill>
        <p:spPr>
          <a:xfrm>
            <a:off x="7165800" y="4073400"/>
            <a:ext cx="197820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00ff"/>
                </a:solidFill>
                <a:uFillTx/>
                <a:latin typeface="Broadway"/>
              </a:rPr>
              <a:t>Lyric Poe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Broadway"/>
              </a:rPr>
              <a:t>Lyric poem is a highly musical verse that expresses the observation and feelings of a single speaker.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4" descr="j0095748"/>
          <p:cNvPicPr/>
          <p:nvPr/>
        </p:nvPicPr>
        <p:blipFill>
          <a:blip r:embed="rId2"/>
          <a:stretch/>
        </p:blipFill>
        <p:spPr>
          <a:xfrm>
            <a:off x="762120" y="4267080"/>
            <a:ext cx="1981080" cy="2168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en00320_"/>
          <p:cNvPicPr/>
          <p:nvPr/>
        </p:nvPicPr>
        <p:blipFill>
          <a:blip r:embed="rId3"/>
          <a:stretch/>
        </p:blipFill>
        <p:spPr>
          <a:xfrm>
            <a:off x="7696080" y="380880"/>
            <a:ext cx="10670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d6009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9999ff"/>
                </a:solidFill>
                <a:uFillTx/>
                <a:latin typeface="Tempus Sans ITC"/>
              </a:rPr>
              <a:t>Narrative Poe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ff"/>
                </a:solidFill>
                <a:latin typeface="Tempus Sans ITC"/>
              </a:rPr>
              <a:t>Narrative Poem is a story told in verse.  Narrative poems often have all the elements of short stories, including characters, conflict, and plo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so01560_"/>
          <p:cNvPicPr/>
          <p:nvPr/>
        </p:nvPicPr>
        <p:blipFill>
          <a:blip r:embed="rId1"/>
          <a:stretch/>
        </p:blipFill>
        <p:spPr>
          <a:xfrm>
            <a:off x="3276720" y="5105520"/>
            <a:ext cx="3089160" cy="1752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bd05034_"/>
          <p:cNvPicPr/>
          <p:nvPr/>
        </p:nvPicPr>
        <p:blipFill>
          <a:blip r:embed="rId2"/>
          <a:stretch/>
        </p:blipFill>
        <p:spPr>
          <a:xfrm>
            <a:off x="7348680" y="0"/>
            <a:ext cx="179532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00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ff3399"/>
                </a:solidFill>
                <a:uFillTx/>
                <a:latin typeface="Copperplate Gothic Bold"/>
              </a:rPr>
              <a:t>Concrete Poe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pperplate Gothic Bold"/>
              </a:rPr>
              <a:t>Concrete Poem is one with a shape that suggests its subject.  The poet arranges the letters, punctuation, and lines to create an image or picture, on the p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" descr="pe02679_"/>
          <p:cNvPicPr/>
          <p:nvPr/>
        </p:nvPicPr>
        <p:blipFill>
          <a:blip r:embed="rId1"/>
          <a:stretch/>
        </p:blipFill>
        <p:spPr>
          <a:xfrm>
            <a:off x="0" y="4419720"/>
            <a:ext cx="30481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8T21:26:53Z</dcterms:created>
  <dc:creator>GCMS</dc:creator>
  <dc:description/>
  <dc:language>en-US</dc:language>
  <cp:lastModifiedBy>RomaK</cp:lastModifiedBy>
  <dcterms:modified xsi:type="dcterms:W3CDTF">2015-09-04T10:36:20Z</dcterms:modified>
  <cp:revision>11</cp:revision>
  <dc:subject/>
  <dc:title>literature what is it</dc:title>
</cp:coreProperties>
</file>