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FC2C-4715-4ACC-932C-C1FB64BC8AC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mes in ‘Of Mice and Men’</a:t>
            </a:r>
            <a:br>
              <a:rPr sz="1200"/>
            </a:br>
            <a:r>
              <a:rPr b="0" lang="en-US" sz="1200" spc="-1" strike="noStrike">
                <a:solidFill>
                  <a:srgbClr val="ffffff"/>
                </a:solidFill>
                <a:latin typeface="Arial"/>
              </a:rPr>
              <a:t> -The American Drea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Everyone has a dream to strive for. The poor ranch hands wish to be their own bosses, and actually have stability in their liv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 in ‘Of Mice and Men’</a:t>
            </a:r>
            <a:br>
              <a:rPr sz="1200"/>
            </a:br>
            <a:r>
              <a:rPr b="0" lang="en-US" sz="1200" spc="-1" strike="noStrike">
                <a:solidFill>
                  <a:srgbClr val="000000"/>
                </a:solidFill>
                <a:latin typeface="Arial"/>
              </a:rPr>
              <a:t> -The American D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Everyone has a dream to strive for. The poor ranch hands wish to be their own bosses, and actually have stability in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5</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urley's wife has a dream that although different in detail from the other's dreams, is still very similar in its general desir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wants companionship so much that she will try to talk to people who don't want to talk to her, like all the men on the ranc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satisfied by her surly husband, she constantly lurks around the barn, trying to engage the workers in convers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rley's wife has a dream that although different in detail from the other's dreams, is still very similar in its general desi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wants companionship so much that she will try to talk to people who don't want to talk to her, like all the men on the ran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atisfied by her surly husband, she constantly lurks around the barn, trying to engage the workers in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6</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George tells Lennie to look across the river and imagine their farm, he lets Lennie die with the hope that they will attain their dream, and attain it so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George tells Lennie to look across the river and imagine their farm, he lets Lennie die with the hope that they will attain their dream, and attain it s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utility of the American Dream (*In the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tility of the American Dream (*In the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are one of the ways in which the characters combat the loneliness and hopelessness of their exist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obvious example is the dream farm, a dream shared at first only by George and Lennie, but which later spreads to include Candy and Crook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reveals that it is the favourite dream of the itinerant ranch hand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ms like ever' guy got land in his hea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owerful dream, however, and even the cynical Crooks falls under its spell for a short ti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nnie, the dream is an antidote to disappointment and loneliness, and he often asks George to recite the description of the farm to hi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ly, none of the characters ever achieve thei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are one of the ways in which the characters combat the loneliness and hopelessness of their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obvious example is the dream farm, a dream shared at first only by George and Lennie, but which later spreads to include Candy and Cr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reveals that it is the favourite dream of the itinerant ranch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s like ever' guy got land in hi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owerful dream, however, and even the cynical Crooks falls under its spell for a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nnie, the dream is an antidote to disappointment and loneliness, and he often asks George to recite the description of the farm to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ly, none of the characters ever achieve thei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American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was first used by James Truslow Adams in his book The Epic of America which was written in 1931. He stat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merican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was first used by James Truslow Adams in his book The Epic of America which was written in 1931. He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upon hearing about the dream, wanted to join them so that he would not be left alo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the Negro outcast, wanted to join them so that he wouldn't be alon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upon hearing about the dream, wanted to join them so that he would not be left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Negro outcast, wanted to join them so that he wouldn't be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3</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could live offa the fatta the lan'."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yearns for his future to reflect the beauty of his childhood. "An' we'd keep a few pigeons to go flyin' around the win'mill like they done when I was a ki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ould live offa the fatta the lan'."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yearns for his future to reflect the beauty of his childhood. "An' we'd keep a few pigeons to go flyin' around the win'mill like they done when I was a k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4</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anionship and plentiful food are both parts of Crooks'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nionship and plentiful food are both parts of Crook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73152-D4C3-4BC8-8B31-FDBAEF67B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5BA2A-CE2F-469D-9A5A-F71688A36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E6328-4E2F-482C-8174-248D11F7F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842E0-0046-44F9-B724-0D73FA4D8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3594B-BF79-4DDF-9BBF-DAB6B4CE1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4D45D-C91B-446D-B132-AB800FD0D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A23E8-5C2F-4261-A94B-32ED2AD70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8313B-074F-42DE-8CE1-88DF5DC97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BBC29-4EB2-4109-B70F-9B813BC60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B86A6-269D-4B03-9682-A5AC62BF7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F7014-04DE-4BC9-859F-1CDB7FF9A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A6539-9509-49F3-86CA-C6B5B985A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B9872-6F6E-4121-A8FD-60B0D43BA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B518C-B60C-4610-90B3-8A935DB1A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9A249-2EB1-4C44-9815-93E58CB51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9F37C-4FF2-4888-8CA5-CFCF4BE64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D14FF-139F-4EE1-B929-6F772B9CE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59FF7-AC53-487E-974F-DBC4DAB31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D4708-99A9-4464-B55A-79AC6958B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D03E8-D707-43EE-ACBA-3A8BB5DBB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CA5D8-AAEA-49CA-93B8-5023F3E15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17D02-6063-49A7-AA9F-5AE1796BD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A1106-3F3F-4B19-958F-5D914CCD2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81A64-CD5F-4552-B72A-A3E71B2DF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CE5F-F2E9-4787-8E41-A9A3DBB8F99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AC57-CFA3-4D42-B85E-6CAB45B7430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ookrags.com/notes/omam/QUO.htm#Slide 18" TargetMode="External"/><Relationship Id="rId2" Type="http://schemas.openxmlformats.org/officeDocument/2006/relationships/hyperlink" Target="http://www.bookrags.com/notes/omam/QUO.htm#Slide 19"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mes in ‘Of Mice and Men’</a:t>
            </a:r>
            <a:br>
              <a:rPr sz="4000"/>
            </a:br>
            <a:r>
              <a:rPr b="1" lang="en-GB" sz="4000" spc="-1" strike="noStrike">
                <a:solidFill>
                  <a:srgbClr val="feec94"/>
                </a:solidFill>
                <a:latin typeface="Times New Roman"/>
              </a:rPr>
              <a:t> -The American Dream -</a:t>
            </a:r>
            <a:endParaRPr b="1" lang="en-US" sz="40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r>
              <a:rPr b="1" lang="en-GB" sz="3600" spc="-1" strike="noStrike">
                <a:solidFill>
                  <a:srgbClr val="ffffff"/>
                </a:solidFill>
                <a:latin typeface="Times New Roman"/>
              </a:rPr>
              <a:t>The American Dream</a:t>
            </a:r>
            <a:r>
              <a:rPr b="0" lang="en-GB" sz="3600" spc="-1" strike="noStrike">
                <a:solidFill>
                  <a:srgbClr val="ffffff"/>
                </a:solidFill>
                <a:latin typeface="Times New Roman"/>
              </a:rPr>
              <a:t>: Everyone has a dream to strive for. The poor ranch hands wish to be their own bosses, and actually have stability in their lives.</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7" dur="50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5</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Curley's wife has a dream that although different in detail from the other's dreams, is still very similar in its general desir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She wants companionship so much that she will try to talk to people who don't want to talk to her, like all the men on the ranc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Unsatisfied by her surly husband, she constantly lurks around the barn, trying to engage the workers in conver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Both attention and financial security would have been hers. Like the men she desires friendship, and also material comforts, though the specifics of her dream differ from thei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5">
                                            <p:txEl>
                                              <p:pRg st="0" end="0"/>
                                            </p:txEl>
                                          </p:spTgt>
                                        </p:tgtEl>
                                        <p:attrNameLst>
                                          <p:attrName>style.visibility</p:attrName>
                                        </p:attrNameLst>
                                      </p:cBhvr>
                                      <p:to>
                                        <p:strVal val="visible"/>
                                      </p:to>
                                    </p:set>
                                    <p:anim calcmode="lin" valueType="num">
                                      <p:cBhvr additive="base">
                                        <p:cTn id="80" dur="50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 calcmode="lin" valueType="num">
                                      <p:cBhvr additive="base">
                                        <p:cTn id="86" dur="50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7" dur="5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6</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When George tells Lennie to look across the river and imagine their farm, he lets Lennie die with the hope that they will attain their dream, and attain it so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George, who must kill Lennie, is not allowed such comfort. He must go on living knowing the failure of their dream, as well as deal with the guilt of having killed hi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94" dur="5000"/>
                                        <p:tgtEl>
                                          <p:spTgt spid="147">
                                            <p:txEl>
                                              <p:pRg st="0" end="0"/>
                                            </p:txEl>
                                          </p:spTgt>
                                        </p:tgtEl>
                                      </p:cBhvr>
                                    </p:animEffect>
                                  </p:childTnLst>
                                </p:cTn>
                              </p:par>
                            </p:childTnLst>
                          </p:cTn>
                        </p:par>
                        <p:par>
                          <p:cTn id="95" nodeType="afterEffect" fill="hold">
                            <p:stCondLst>
                              <p:cond delay="5000"/>
                            </p:stCondLst>
                            <p:childTnLst>
                              <p:par>
                                <p:cTn id="96" nodeType="afterEffect" fill="hold" presetClass="entr" presetID="12" presetSubtype="4">
                                  <p:stCondLst>
                                    <p:cond delay="0"/>
                                  </p:stCondLst>
                                  <p:childTnLst>
                                    <p:set>
                                      <p:cBhvr>
                                        <p:cTn id="97"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98" dur="5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 Futility of the American Dream </a:t>
            </a:r>
            <a:r>
              <a:rPr b="1" lang="en-GB" sz="3200" spc="-1" strike="noStrike">
                <a:solidFill>
                  <a:srgbClr val="000000"/>
                </a:solidFill>
                <a:latin typeface="Times New Roman"/>
              </a:rPr>
              <a:t>(*In the context of the novel!!)</a:t>
            </a:r>
            <a:endParaRPr b="1" lang="en-US" sz="3200" spc="-1" strike="noStrike">
              <a:solidFill>
                <a:srgbClr val="feec94"/>
              </a:solidFill>
              <a:latin typeface="Times New Roman"/>
            </a:endParaRPr>
          </a:p>
        </p:txBody>
      </p:sp>
      <p:sp>
        <p:nvSpPr>
          <p:cNvPr id="149"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George and Lennie’s dream of owning a farm, which would enable them to sustain themselves, and, most important, offer them protection from an inhospitable world, represents a prototypically American idea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ir journey, which awakens George to the impossibility of this dream, sadly proves that the bitter Crooks is right: such paradises of freedom, contentment, and safety are not to be found in </a:t>
            </a:r>
            <a:r>
              <a:rPr b="0" i="1" lang="en-GB" sz="2800" spc="-1" strike="noStrike">
                <a:solidFill>
                  <a:srgbClr val="ffffff"/>
                </a:solidFill>
                <a:latin typeface="Times New Roman"/>
              </a:rPr>
              <a:t>this*</a:t>
            </a:r>
            <a:r>
              <a:rPr b="0" lang="en-GB" sz="2800" spc="-1" strike="noStrike">
                <a:solidFill>
                  <a:srgbClr val="ffffff"/>
                </a:solidFill>
                <a:latin typeface="Times New Roman"/>
              </a:rPr>
              <a:t> worl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2" name="Picture 4" descr="Image, Source: intermediary roll film"/>
          <p:cNvPicPr/>
          <p:nvPr/>
        </p:nvPicPr>
        <p:blipFill>
          <a:blip r:embed="rId1"/>
          <a:stretch/>
        </p:blipFill>
        <p:spPr>
          <a:xfrm>
            <a:off x="304920" y="1506600"/>
            <a:ext cx="853416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609120"/>
            <a:ext cx="8229600" cy="63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eec94"/>
                </a:solidFill>
                <a:latin typeface="Times New Roman"/>
              </a:rPr>
              <a:t>Dreams</a:t>
            </a:r>
            <a:br>
              <a:rPr sz="3200"/>
            </a:br>
            <a:endParaRPr b="1" lang="en-US" sz="32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Dreams are one of the ways in which the characters combat the loneliness and hopelessness of their existenc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ost obvious example is the dream farm, a dream shared at first only by George and Lennie, but which later spreads to include Candy and Crook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rooks reveals that it is the favourite dream of the itinerant ranch hand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ems like ever' guy got land in his hea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t is a powerful dream, however, and even the cynical Crooks falls under its spell for a short tim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o Lennie, the dream is an antidote to disappointment and loneliness, and he often asks George to recite the description of the farm to him.</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urley's wife is another who has dreams, her fantasies of a part in the movies and a life of luxury. Part of her dissatisfaction with her life is that it can never measure up to her dream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ignificantly, none of the characters ever achieve their drea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ec94"/>
                </a:solidFill>
                <a:latin typeface="Times New Roman"/>
              </a:rPr>
              <a:t>What is the American Dream</a:t>
            </a:r>
            <a:endParaRPr b="1" lang="en-US" sz="3600" spc="-1" strike="noStrike">
              <a:solidFill>
                <a:srgbClr val="feec94"/>
              </a:solidFill>
              <a:latin typeface="Times New Roman"/>
            </a:endParaRPr>
          </a:p>
        </p:txBody>
      </p:sp>
      <p:sp>
        <p:nvSpPr>
          <p:cNvPr id="130"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 term was first used by James Truslow Adams in his book </a:t>
            </a:r>
            <a:r>
              <a:rPr b="0" i="1" lang="en-GB" sz="2800" spc="-1" strike="noStrike">
                <a:solidFill>
                  <a:srgbClr val="ffffff"/>
                </a:solidFill>
                <a:latin typeface="Times New Roman"/>
              </a:rPr>
              <a:t>The Epic of America</a:t>
            </a:r>
            <a:r>
              <a:rPr b="0" lang="en-GB" sz="2800" spc="-1" strike="noStrike">
                <a:solidFill>
                  <a:srgbClr val="ffffff"/>
                </a:solidFill>
                <a:latin typeface="Times New Roman"/>
              </a:rPr>
              <a:t> which was written in 1931. He states: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800" spc="-1" strike="noStrike">
                <a:solidFill>
                  <a:srgbClr val="ffffff"/>
                </a:solidFill>
                <a:latin typeface="Times New Roman"/>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3" name="Picture 5" descr="Image, Source: intermediary roll film"/>
          <p:cNvPicPr/>
          <p:nvPr/>
        </p:nvPicPr>
        <p:blipFill>
          <a:blip r:embed="rId1"/>
          <a:stretch/>
        </p:blipFill>
        <p:spPr>
          <a:xfrm>
            <a:off x="457200" y="1590840"/>
            <a:ext cx="8229600" cy="45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r>
              <a:rPr b="0" i="1" lang="en-GB" sz="3600" spc="-1" strike="noStrike">
                <a:solidFill>
                  <a:srgbClr val="ffffff"/>
                </a:solidFill>
                <a:latin typeface="Times New Roman"/>
              </a:rPr>
              <a:t>"'Well,' said George, 'we'll have a big vegetable patch and a rabbit hutch and chickens. And when it rains in the winter, we'll just say the hell with goin' to work, and we'll build up a fire in the stove and set around it an' listen to the rain comin' down on the roof...'"</a:t>
            </a:r>
            <a:r>
              <a:rPr b="0"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34">
                                            <p:txEl>
                                              <p:pRg st="0" end="0"/>
                                            </p:txEl>
                                          </p:spTgt>
                                        </p:tgtEl>
                                        <p:attrNameLst>
                                          <p:attrName>style.visibility</p:attrName>
                                        </p:attrNameLst>
                                      </p:cBhvr>
                                      <p:to>
                                        <p:strVal val="visible"/>
                                      </p:to>
                                    </p:set>
                                    <p:animEffect filter="diamond(in)" transition="in">
                                      <p:cBhvr additive="repl">
                                        <p:cTn id="14" dur="2000"/>
                                        <p:tgtEl>
                                          <p:spTgt spid="13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19" dur="2000"/>
                                        <p:tgtEl>
                                          <p:spTgt spid="13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34">
                                            <p:txEl>
                                              <p:pRg st="2" end="2"/>
                                            </p:txEl>
                                          </p:spTgt>
                                        </p:tgtEl>
                                        <p:attrNameLst>
                                          <p:attrName>style.visibility</p:attrName>
                                        </p:attrNameLst>
                                      </p:cBhvr>
                                      <p:to>
                                        <p:strVal val="visible"/>
                                      </p:to>
                                    </p:set>
                                    <p:animEffect filter="diamond(in)" transition="in">
                                      <p:cBhvr additive="repl">
                                        <p:cTn id="24"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5"/>
                    </p:tgtEl>
                  </p:cond>
                </p:stCondLst>
                <p:childTnLst>
                  <p:par>
                    <p:cTn id="27" nodeType="clickEffect" fill="hold">
                      <p:stCondLst>
                        <p:cond evt="onClick">
                          <p:tgtEl>
                            <p:spTgt spid="135"/>
                          </p:tgtEl>
                        </p:cond>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31" dur="5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orge and Lennie have a dream, even before they arrive at their new job on the ranch, to make enough money to live "off the fat of the land" and be their own bosses. Lennie will be permitted, then, to tend the rabbits.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dy, upon hearing about the dream, wanted to join them so that he would not be left alo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rooks, the Negro outcast, wanted to join them so that he wouldn't be alon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38" dur="5000"/>
                                        <p:tgtEl>
                                          <p:spTgt spid="136">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43" dur="5000"/>
                                        <p:tgtEl>
                                          <p:spTgt spid="136">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36">
                                            <p:txEl>
                                              <p:pRg st="4" end="4"/>
                                            </p:txEl>
                                          </p:spTgt>
                                        </p:tgtEl>
                                        <p:attrNameLst>
                                          <p:attrName>style.visibility</p:attrName>
                                        </p:attrNameLst>
                                      </p:cBhvr>
                                      <p:to>
                                        <p:strVal val="visible"/>
                                      </p:to>
                                    </p:set>
                                    <p:animEffect filter="slide(fromBottom)" transition="in">
                                      <p:cBhvr additive="repl">
                                        <p:cTn id="48" dur="5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2</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When Whit brings in the pulp magazine with the letter written by Bill Tenner, the men are all very impressed. They are not certain that Bill wrote the letter, but Whit is convinced he did, and tries to convince the othe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In the transient life of these workers, it is rare to leave any kind of permanent mark on the world. In this letter Bill Tenner has achieved some of the immortality the other men cannot imagine for themselv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138">
                                            <p:txEl>
                                              <p:pRg st="0" end="0"/>
                                            </p:txEl>
                                          </p:spTgt>
                                        </p:tgtEl>
                                        <p:attrNameLst>
                                          <p:attrName>style.visibility</p:attrName>
                                        </p:attrNameLst>
                                      </p:cBhvr>
                                      <p:to>
                                        <p:strVal val="visible"/>
                                      </p:to>
                                    </p:set>
                                    <p:anim calcmode="lin" valueType="num">
                                      <p:cBhvr additive="base">
                                        <p:cTn id="55"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8">
                                            <p:txEl>
                                              <p:pRg st="2" end="2"/>
                                            </p:txEl>
                                          </p:spTgt>
                                        </p:tgtEl>
                                        <p:attrNameLst>
                                          <p:attrName>style.visibility</p:attrName>
                                        </p:attrNameLst>
                                      </p:cBhvr>
                                      <p:to>
                                        <p:strVal val="visible"/>
                                      </p:to>
                                    </p:set>
                                    <p:anim calcmode="lin" valueType="num">
                                      <p:cBhvr additive="base">
                                        <p:cTn id="6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3</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goes into a full description of the dream farm, its Eden-like qualities become even more apparent. All the food they want will be right there, with minimal effort. As Lennie say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a:t>
            </a:r>
            <a:r>
              <a:rPr b="0" i="1" lang="en-GB" sz="2400" spc="-1" strike="noStrike">
                <a:solidFill>
                  <a:srgbClr val="ffffff"/>
                </a:solidFill>
                <a:latin typeface="Times New Roman"/>
              </a:rPr>
              <a:t>"We could live offa the fatta the lan'."</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1"/>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talks about their farm, he twice describes it in terms of things he loved in childhood: </a:t>
            </a:r>
            <a:r>
              <a:rPr b="0" i="1" lang="en-GB" sz="2400" spc="-1" strike="noStrike">
                <a:solidFill>
                  <a:srgbClr val="ffffff"/>
                </a:solidFill>
                <a:latin typeface="Times New Roman"/>
              </a:rPr>
              <a:t>"I could build a smoke house like the one gran'pa had..."</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2"/>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orge yearns for his future to reflect the beauty of his childhood. </a:t>
            </a:r>
            <a:r>
              <a:rPr b="0" i="1" lang="en-US" sz="2400" spc="-1" strike="noStrike">
                <a:solidFill>
                  <a:srgbClr val="ffffff"/>
                </a:solidFill>
                <a:latin typeface="Times New Roman"/>
              </a:rPr>
              <a:t>"An' we'd keep a few pigeons to go flyin' around the win'mill like they done when I was a ki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4</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ideal world presented by Crooks also reflects childhood. His father had a chicken ranch full of white chickens, a berry patch, and alfalfa. He and his brothers would sit and watch the chicken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ompanionship and plentiful food are both parts of Crooks' dre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2" presetSubtype="4">
                                  <p:stCondLst>
                                    <p:cond delay="0"/>
                                  </p:stCondLst>
                                  <p:childTnLst>
                                    <p:set>
                                      <p:cBhvr>
                                        <p:cTn id="68" dur="1" fill="hold">
                                          <p:stCondLst>
                                            <p:cond delay="0"/>
                                          </p:stCondLst>
                                        </p:cTn>
                                        <p:tgtEl>
                                          <p:spTgt spid="142">
                                            <p:txEl>
                                              <p:pRg st="0" end="0"/>
                                            </p:txEl>
                                          </p:spTgt>
                                        </p:tgtEl>
                                        <p:attrNameLst>
                                          <p:attrName>style.visibility</p:attrName>
                                        </p:attrNameLst>
                                      </p:cBhvr>
                                      <p:to>
                                        <p:strVal val="visible"/>
                                      </p:to>
                                    </p:set>
                                    <p:animEffect filter="slide(fromBottom)" transition="in">
                                      <p:cBhvr additive="repl">
                                        <p:cTn id="69" dur="5000"/>
                                        <p:tgtEl>
                                          <p:spTgt spid="142">
                                            <p:txEl>
                                              <p:pRg st="0" end="0"/>
                                            </p:txEl>
                                          </p:spTgt>
                                        </p:tgtEl>
                                      </p:cBhvr>
                                    </p:animEffect>
                                  </p:childTnLst>
                                </p:cTn>
                              </p:par>
                            </p:childTnLst>
                          </p:cTn>
                        </p:par>
                        <p:par>
                          <p:cTn id="70" nodeType="afterEffect" fill="hold">
                            <p:stCondLst>
                              <p:cond delay="5000"/>
                            </p:stCondLst>
                            <p:childTnLst>
                              <p:par>
                                <p:cTn id="71" nodeType="afterEffect" fill="hold" presetClass="entr" presetID="12" presetSubtype="4">
                                  <p:stCondLst>
                                    <p:cond delay="0"/>
                                  </p:stCondLst>
                                  <p:childTnLst>
                                    <p:set>
                                      <p:cBhvr>
                                        <p:cTn id="72"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73" dur="5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7:17:35Z</dcterms:created>
  <dc:creator>svanvlo</dc:creator>
  <dc:description/>
  <dc:language>en-US</dc:language>
  <cp:lastModifiedBy>RomaK</cp:lastModifiedBy>
  <dcterms:modified xsi:type="dcterms:W3CDTF">2015-09-04T10:36:44Z</dcterms:modified>
  <cp:revision>14</cp:revision>
  <dc:subject/>
  <dc:title>Themes in ‘Of Mice and Men’  -The American Dream -</dc:title>
</cp:coreProperties>
</file>