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3C45-AA90-4ADC-9152-085471C531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Mice and Men </a:t>
            </a:r>
            <a:br>
              <a:rPr sz="1200"/>
            </a:br>
            <a:r>
              <a:rPr b="0" lang="en-US" sz="1200" spc="-1" strike="noStrike">
                <a:solidFill>
                  <a:srgbClr val="ffffff"/>
                </a:solidFill>
                <a:latin typeface="Arial"/>
              </a:rPr>
              <a:t>Themes: Viol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Mice and Men </a:t>
            </a:r>
            <a:br>
              <a:rPr sz="1200"/>
            </a:br>
            <a:r>
              <a:rPr b="0" lang="en-US" sz="1200" spc="-1" strike="noStrike">
                <a:solidFill>
                  <a:srgbClr val="000000"/>
                </a:solidFill>
                <a:latin typeface="Arial"/>
              </a:rPr>
              <a:t>Themes: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the most obviously violent character. Whenever he appears there is a feeling of ten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described as pugnacious when we first meet him, and causes George to rem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the hell's he got on his should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the most obviously violent character. Whenever he appears there is a feeling of 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described as pugnacious when we first meet him, and causes George to re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he hell's he got on his sh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 is another character associated with violence. He is unconcerned about killing Candy's dog (and in fact callously cleans the gun in Candy's pres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goes to watch the fun when Curley thinks Slim may be with his wife, and later goads Curley more, threatening to '... kick your head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he is very keen to get his gun to join in the hunt for Lenni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 is another character associated with violence. He is unconcerned about killing Candy's dog (and in fact callously cleans the gun in Candy's pres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goes to watch the fun when Curley thinks Slim may be with his wife, and later goads Curley more, threatening to '... kick your head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he is very keen to get his gun to join in the hunt for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so little control over his own strength that he accidentally kills his puppy, and then minutes later snuffs out the life of Curley's wi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so little control over his own strength that he accidentally kills his puppy, and then minutes later snuffs out the life of 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threat of violence to be used against Lennie that causes George to take the final step of killing his fri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threat of violence to be used against Lennie that causes George to take the final step of killing his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inbeck shows the world of nature to be a beautiful and peaceful one, but threatened by the actions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eginning of the novel sets this pattern, as the creatures at the pool are disturbed by George and Lennie's appro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anch and its buildings, being created by men, are in contrast with the natural world. Notice that the bunkhouse, for example, is quite bare and st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more unnatural is that Candy and Crooks are both deformed or unnatural in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asted to these two characters is Lennie, who almost seems a part of the natural world as he is described in animal te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eck shows the world of nature to be a beautiful and peaceful one, but threatened by the actions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 of the novel sets this pattern, as the creatures at the pool are disturbed by George and Lennie'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ch and its buildings, being created by men, are in contrast with the natural world. Notice that the bunkhouse, for example, is quite bare and st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more unnatural is that Candy and Crooks are both deformed or unnatural in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ed to these two characters is Lennie, who almost seems a part of the natural world as he is described in animal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92B30-9C72-4488-A496-5554FBA85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D8548-AFD2-4688-9E41-E0142AD5E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E2F4E-04A4-4EC3-9CBE-38F4CAC99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3D784-313F-44B1-9F27-97FC367B2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A385794-6F93-47A6-9634-407E945456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30D0AF3-2B01-45F9-AB83-699AA3BB0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9D04D42-EF1F-495B-AF86-130D2D857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5E5125-8957-46AF-8F84-5189FB59B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80A341-1E2C-4943-8DC4-9F1F6AE3F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3C88995-9C25-4F94-A095-AAC8DCBFC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3D7773-D751-4523-8AB5-C7145FCC2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2F8A1-9F72-41DE-B3CB-BC32D5C9E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CB41AA-40B7-401E-A3E8-AF3416A7E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5B3870-FB80-458A-8EA4-85C4233BF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CD6FB0-A8FE-49B5-98C3-DE6FFB4A1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5015A97-3EE6-4AE1-A8A8-F0A5BCC92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66245B2-3C37-496D-A031-CC3330856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53DAF-C671-4500-975C-CCA960896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76B48-1B35-4E06-9F49-CF84E7BA6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A90D3-BA91-414D-91D3-7116ED1F2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5B0A4-C665-469A-BA22-8F7B2F53F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11C0D-8BDE-4D93-AE2F-A3749B0E6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FDE76-18E4-4128-B6F5-F5A4F451E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5FBFC-0BD7-4D15-929A-B3C72988B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86DB-6A57-4C7E-A823-792CBD8F22F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50C9-AF63-4B74-9139-9502175723E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Of Mice and Men </a:t>
            </a:r>
            <a:br>
              <a:rPr sz="5400"/>
            </a:br>
            <a:r>
              <a:rPr b="0" lang="en-GB" sz="5400" spc="-1" strike="noStrike">
                <a:solidFill>
                  <a:srgbClr val="e3e3ff"/>
                </a:solidFill>
                <a:latin typeface="Arial"/>
              </a:rPr>
              <a:t>Themes: Violence</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urley</a:t>
            </a:r>
            <a:endParaRPr b="0" lang="en-US" sz="4400" spc="-1" strike="noStrike">
              <a:solidFill>
                <a:srgbClr val="e3e3ff"/>
              </a:solidFill>
              <a:latin typeface="Arial"/>
            </a:endParaRPr>
          </a:p>
        </p:txBody>
      </p:sp>
      <p:sp>
        <p:nvSpPr>
          <p:cNvPr id="13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the most obviously violent character. Whenever he appears there is a feeling of ten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described as pugnacious when we first meet him, and causes George to remark</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what the hell's he got on his should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arlson</a:t>
            </a:r>
            <a:endParaRPr b="0" lang="en-US" sz="4400" spc="-1" strike="noStrike">
              <a:solidFill>
                <a:srgbClr val="e3e3ff"/>
              </a:solidFill>
              <a:latin typeface="Arial"/>
            </a:endParaRPr>
          </a:p>
        </p:txBody>
      </p:sp>
      <p:sp>
        <p:nvSpPr>
          <p:cNvPr id="134" name="PlaceHolder 2"/>
          <p:cNvSpPr>
            <a:spLocks noGrp="1"/>
          </p:cNvSpPr>
          <p:nvPr>
            <p:ph/>
          </p:nvPr>
        </p:nvSpPr>
        <p:spPr>
          <a:xfrm>
            <a:off x="457200" y="1295280"/>
            <a:ext cx="8229600" cy="510552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rlson is another character associated with violence. He is unconcerned about killing Candy's dog (and in fact callously cleans the gun in Candy's presen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goes to watch the fun when Curley thinks Slim may be with his wife, and later goads Curley more, threatening to '... kick your head off.'</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ter he is very keen to get his gun to join in the hunt for Lenni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Lennie</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 has so little control over his own strength that he accidentally kills his puppy, and then minutes later snuffs out the life of Curley's wif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the threat of violence to be used against Lennie that causes George to take the final step of killing his frie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3e3ff"/>
                </a:solidFill>
                <a:latin typeface="Arial"/>
              </a:rPr>
              <a:t>Nature</a:t>
            </a:r>
            <a:endParaRPr b="0" lang="en-US" sz="32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einbeck shows the world of nature to be a beautiful and peaceful one, but threatened by the actions of me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ginning of the novel sets this pattern, as the creatures at the pool are disturbed by George and Lennie's approach.</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ranch and its buildings, being created by men, are in contrast with the natural world. Notice that the bunkhouse, for example, is quite bare and stark.</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more unnatural is that Candy and Crooks are both deformed or unnatural in appearanc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trasted to these two characters is Lennie, who almost seems a part of the natural world as he is described in animal term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0:15:43Z</dcterms:created>
  <dc:creator>svanvlo</dc:creator>
  <dc:description/>
  <dc:language>en-US</dc:language>
  <cp:lastModifiedBy>RomaK</cp:lastModifiedBy>
  <dcterms:modified xsi:type="dcterms:W3CDTF">2015-09-04T10:36:52Z</dcterms:modified>
  <cp:revision>7</cp:revision>
  <dc:subject/>
  <dc:title>Of Mice and Men  Themes: Violence</dc:title>
</cp:coreProperties>
</file>