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drumroll.wav" ContentType="audio/x-wav"/>
  <Override PartName="/ppt/media/image15.png" ContentType="image/pn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1E60-AC31-44D1-9643-539F5C37D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A7B-3925-4A70-BC8F-696A90B5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DC3-1D5B-4C70-838B-5BF464BF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48B-3FF7-4E07-90E2-8FA4C997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D1D-5136-4E0D-852D-3F3AA895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672F-7F5E-42AD-8796-94AF6371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2F0F-AF40-4273-B22A-6FB53E36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B7AC-7A84-4E0A-BB94-F555431A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7128-5624-4D71-A12C-2BAA5B99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E0D3-7BB1-4482-AE8B-54BC456F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F178-51C2-405E-9BF9-95938FCB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9277-A3B1-4006-AE62-0A694933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D31-8279-4EF9-937B-4BF2C4C3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6BDD-B404-42F2-BE33-1F0E8FB2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B8E9-F10E-46B2-9C65-DC3DA33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1AD0-4305-4175-B5E9-309C2B6C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EDD2-3D8B-48F5-AA2A-ECA99076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D377-7FDD-41C1-A0B7-B45A8CF8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800-FFAD-4F2C-9AD0-AA0F0BDF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FB7-40C5-4077-936E-EB92BFAC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498-1E3B-475C-AE1F-E14D2434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2C4-F795-4C1C-9114-2740E084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FEB-1275-4073-A79C-070EA213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82C-3325-4040-87D3-E1AF8254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942-B83F-46D7-9ECE-BBCCA32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4AB3-8B71-4D20-B797-C5239B2A7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EA6-6C74-4F8E-BF4A-3BD254BC56F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Tahoma"/>
              </a:rPr>
              <a:t>POETIC TERM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English III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Mr. Wallock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great exaggeration to emphasize strong feeling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91320" y="3124080"/>
            <a:ext cx="2286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I will love you until all the seas go dry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5" descr="desert"/>
          <p:cNvPicPr/>
          <p:nvPr/>
        </p:nvPicPr>
        <p:blipFill>
          <a:blip r:embed="rId1"/>
          <a:stretch/>
        </p:blipFill>
        <p:spPr>
          <a:xfrm>
            <a:off x="1066680" y="3440160"/>
            <a:ext cx="4191120" cy="28083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147" name="WIND3063.WAV" descr=""/>
          <p:cNvPicPr/>
          <p:nvPr/>
        </p:nvPicPr>
        <p:blipFill>
          <a:blip r:embed="rId2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Human characteristics are given to non-human animals, objects, or idea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My stereo walked out of my car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2" name="Picture 5" descr="car_theft"/>
          <p:cNvPicPr/>
          <p:nvPr/>
        </p:nvPicPr>
        <p:blipFill>
          <a:blip r:embed="rId1"/>
          <a:stretch/>
        </p:blipFill>
        <p:spPr>
          <a:xfrm>
            <a:off x="5257800" y="2666880"/>
            <a:ext cx="2928960" cy="3867120"/>
          </a:xfrm>
          <a:prstGeom prst="rect">
            <a:avLst/>
          </a:prstGeom>
          <a:ln w="0">
            <a:noFill/>
          </a:ln>
        </p:spPr>
      </p:pic>
      <p:pic>
        <p:nvPicPr>
          <p:cNvPr id="153" name="POLI3063.WAV" descr=""/>
          <p:cNvPicPr/>
          <p:nvPr/>
        </p:nvPicPr>
        <p:blipFill>
          <a:blip r:embed="rId2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 absent person or inanimate object is directly spoken to as though they were present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3276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rutus: “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Ceasa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, now be still.  I killed not thee with half so good a will.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58" name="Picture 5" descr="dagger1"/>
          <p:cNvPicPr/>
          <p:nvPr/>
        </p:nvPicPr>
        <p:blipFill>
          <a:blip r:embed="rId3"/>
          <a:stretch/>
        </p:blipFill>
        <p:spPr>
          <a:xfrm>
            <a:off x="1920960" y="2895480"/>
            <a:ext cx="21366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Line 9"/>
          <p:cNvSpPr/>
          <p:nvPr/>
        </p:nvSpPr>
        <p:spPr>
          <a:xfrm>
            <a:off x="1981080" y="2895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981080" y="2895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1" name="BEETHOVEN'S FIFTH SYMPHONY.WAV" descr=""/>
          <p:cNvPicPr/>
          <p:nvPr/>
        </p:nvPicPr>
        <p:blipFill>
          <a:blip r:embed="rId4"/>
          <a:stretch/>
        </p:blipFill>
        <p:spPr>
          <a:xfrm>
            <a:off x="43434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7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Tahoma"/>
              </a:rPr>
              <a:t>A part stands for the whole or vice versa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Tahoma"/>
              </a:rPr>
              <a:t>hands</a:t>
            </a: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 that created the work of art were masterful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6" descr="hands"/>
          <p:cNvPicPr/>
          <p:nvPr/>
        </p:nvPicPr>
        <p:blipFill>
          <a:blip r:embed="rId1"/>
          <a:stretch/>
        </p:blipFill>
        <p:spPr>
          <a:xfrm>
            <a:off x="4800600" y="2913120"/>
            <a:ext cx="38577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Hints given to the reader of what is to com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talwart hero was doomed to suffer the destined end of his day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1" name="Picture 5" descr="beowulf"/>
          <p:cNvPicPr/>
          <p:nvPr/>
        </p:nvPicPr>
        <p:blipFill>
          <a:blip r:embed="rId1"/>
          <a:stretch/>
        </p:blipFill>
        <p:spPr>
          <a:xfrm>
            <a:off x="4800600" y="3352680"/>
            <a:ext cx="38098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reference to a historical figure, place, or even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133720" y="1295280"/>
            <a:ext cx="487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The use of concrete details that appeal to the five senses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105520" y="3504960"/>
            <a:ext cx="3504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Cold, wet leaves floating on moss-colored water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76" name="Picture 5" descr="leaves"/>
          <p:cNvPicPr/>
          <p:nvPr/>
        </p:nvPicPr>
        <p:blipFill>
          <a:blip r:embed="rId3"/>
          <a:stretch/>
        </p:blipFill>
        <p:spPr>
          <a:xfrm>
            <a:off x="914400" y="304812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77" name="POND CREATURES 1.WAV" descr=""/>
          <p:cNvPicPr/>
          <p:nvPr/>
        </p:nvPicPr>
        <p:blipFill>
          <a:blip r:embed="rId4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contrast between what is said and what is meant.  Also, when things turn out different than what is expected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828800" y="5335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 treacherous instrument is in thy hand, unbated and envenomed.  The foul practice has turned itself on me.”  Laert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28800" y="5335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bard4.avi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The overall atmosphere or prevailing emotional feeling of a work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1981080" y="762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It was the best of times, it was the worst of time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981080" y="45720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7" name="Picture 5" descr="Guillotine"/>
          <p:cNvPicPr/>
          <p:nvPr/>
        </p:nvPicPr>
        <p:blipFill>
          <a:blip r:embed="rId1"/>
          <a:stretch/>
        </p:blipFill>
        <p:spPr>
          <a:xfrm>
            <a:off x="4724280" y="320040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A seemingly self-contradictory statement that still is true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486400" y="3048120"/>
            <a:ext cx="2819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The more we learn, the less we know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2" name="Picture 5" descr="idiot"/>
          <p:cNvPicPr/>
          <p:nvPr/>
        </p:nvPicPr>
        <p:blipFill>
          <a:blip r:embed="rId3"/>
          <a:stretch/>
        </p:blipFill>
        <p:spPr>
          <a:xfrm>
            <a:off x="1295280" y="30481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93" name="DUDE3079.WAV" descr=""/>
          <p:cNvPicPr/>
          <p:nvPr/>
        </p:nvPicPr>
        <p:blipFill>
          <a:blip r:embed="rId4"/>
          <a:stretch/>
        </p:blipFill>
        <p:spPr>
          <a:xfrm>
            <a:off x="4114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9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066680" y="3504960"/>
            <a:ext cx="70106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A series of events that present and resolve a conflict. The story being told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2438280" y="990720"/>
            <a:ext cx="3886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The plot of “The Most Dangerous Game” is that Rainsford is being hunted by General Zaroff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438280" y="457200"/>
            <a:ext cx="3886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8" name="Picture 5" descr="dangerouss"/>
          <p:cNvPicPr/>
          <p:nvPr/>
        </p:nvPicPr>
        <p:blipFill>
          <a:blip r:embed="rId1"/>
          <a:stretch/>
        </p:blipFill>
        <p:spPr>
          <a:xfrm>
            <a:off x="5859360" y="2666880"/>
            <a:ext cx="265932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4267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The teams competed in a David and Goliath struggl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133720" y="762120"/>
            <a:ext cx="4876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Picture 6" descr="goliath"/>
          <p:cNvPicPr/>
          <p:nvPr/>
        </p:nvPicPr>
        <p:blipFill>
          <a:blip r:embed="rId3"/>
          <a:stretch/>
        </p:blipFill>
        <p:spPr>
          <a:xfrm>
            <a:off x="5257800" y="2514600"/>
            <a:ext cx="276876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TAPS PLAYED ON A BUGLE.WAV" descr=""/>
          <p:cNvPicPr/>
          <p:nvPr/>
        </p:nvPicPr>
        <p:blipFill>
          <a:blip r:embed="rId4"/>
          <a:stretch/>
        </p:blipFill>
        <p:spPr>
          <a:xfrm>
            <a:off x="4419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The vantage point from which an author presents the action in a work.</a:t>
            </a: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1st person-tale related by a character in the story.  “I or me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3rd person-story told by someone not participating in the plot.  “he, she, they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The repetition of  identical sounds at the ends of lines of poetry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66688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e clasps the crag with crooked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hand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ose to the sun in lonely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lands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from “The Eagle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219320" y="533520"/>
            <a:ext cx="6933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7" name="Picture 5" descr="eagle"/>
          <p:cNvPicPr/>
          <p:nvPr/>
        </p:nvPicPr>
        <p:blipFill>
          <a:blip r:embed="rId1"/>
          <a:stretch/>
        </p:blipFill>
        <p:spPr>
          <a:xfrm>
            <a:off x="5334120" y="2514600"/>
            <a:ext cx="31114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repetition of identical sounds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ithi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 line of poetr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thr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shall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fl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across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sea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tal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ol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nfi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the palm of your han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n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eter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an hour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 slant rhyme or half rhyme occurs when the vowel sounds are not quite identical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d on that cheek and o’er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r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 mind at peace with all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el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time (both the time of day and period in history) and place in which the action of a literary work takes place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tiger2"/>
          <p:cNvPicPr/>
          <p:nvPr/>
        </p:nvPicPr>
        <p:blipFill>
          <a:blip r:embed="rId1"/>
          <a:stretch/>
        </p:blipFill>
        <p:spPr>
          <a:xfrm>
            <a:off x="838080" y="2879640"/>
            <a:ext cx="4267440" cy="2987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0" y="2590560"/>
            <a:ext cx="3581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iger! Tiger! burning bright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In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forests of the night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LION3110.WAV" descr=""/>
          <p:cNvPicPr/>
          <p:nvPr/>
        </p:nvPicPr>
        <p:blipFill>
          <a:blip r:embed="rId4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280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A broad comparison between two basically different things that have some points in comm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repeating of a sound, word, phrase, or more in a given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1981080" y="6094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HORS3110.WAV" descr=""/>
          <p:cNvPicPr/>
          <p:nvPr/>
        </p:nvPicPr>
        <p:blipFill>
          <a:blip r:embed="rId1"/>
          <a:stretch/>
        </p:blipFill>
        <p:spPr>
          <a:xfrm>
            <a:off x="44197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orsegallop"/>
          <p:cNvPicPr/>
          <p:nvPr/>
        </p:nvPicPr>
        <p:blipFill>
          <a:blip r:embed="rId2"/>
          <a:stretch/>
        </p:blipFill>
        <p:spPr>
          <a:xfrm>
            <a:off x="2971800" y="3886200"/>
            <a:ext cx="3657600" cy="2522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sprang to the stirrup, and Jarvis, and h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Derrick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we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all three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981080" y="3808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80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The repetition of consonant sounds at the beginnings of word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,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 flew the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hip”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WIND3110.WAV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78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783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The repetition of similar vowel sounds followed by different consonant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3581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. . .that hoard, and sl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p, and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, and know not me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8" name="Picture 5" descr="eagle-eating-binladen001"/>
          <p:cNvPicPr/>
          <p:nvPr/>
        </p:nvPicPr>
        <p:blipFill>
          <a:blip r:embed="rId1"/>
          <a:stretch/>
        </p:blipFill>
        <p:spPr>
          <a:xfrm>
            <a:off x="4495680" y="3048120"/>
            <a:ext cx="4343400" cy="3276360"/>
          </a:xfrm>
          <a:prstGeom prst="rect">
            <a:avLst/>
          </a:prstGeom>
          <a:ln w="0">
            <a:noFill/>
          </a:ln>
        </p:spPr>
      </p:pic>
      <p:pic>
        <p:nvPicPr>
          <p:cNvPr id="239" name="GOOD3110.WAV" descr=""/>
          <p:cNvPicPr/>
          <p:nvPr/>
        </p:nvPicPr>
        <p:blipFill>
          <a:blip r:embed="rId2"/>
          <a:stretch/>
        </p:blipFill>
        <p:spPr>
          <a:xfrm>
            <a:off x="41911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66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he repetition of consonant sounds that are preceded by different vowel sou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81120" y="312408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Wherever we go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Silence w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i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a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like dew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44" name="Picture 5" descr="Silence"/>
          <p:cNvPicPr/>
          <p:nvPr/>
        </p:nvPicPr>
        <p:blipFill>
          <a:blip r:embed="rId3"/>
          <a:stretch/>
        </p:blipFill>
        <p:spPr>
          <a:xfrm>
            <a:off x="1601640" y="2895480"/>
            <a:ext cx="2791080" cy="3505320"/>
          </a:xfrm>
          <a:prstGeom prst="rect">
            <a:avLst/>
          </a:prstGeom>
          <a:ln w="0">
            <a:noFill/>
          </a:ln>
        </p:spPr>
      </p:pic>
      <p:pic>
        <p:nvPicPr>
          <p:cNvPr id="245" name="SHHH3125.WAV" descr=""/>
          <p:cNvPicPr/>
          <p:nvPr/>
        </p:nvPicPr>
        <p:blipFill>
          <a:blip r:embed="rId4"/>
          <a:stretch/>
        </p:blipFill>
        <p:spPr>
          <a:xfrm>
            <a:off x="3733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23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3047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lind eyes could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Tahoma"/>
              </a:rPr>
              <a:t>blaze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like meteors”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1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252" name="OSCI3125.WAV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5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040" y="29714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ahoma"/>
              </a:rPr>
              <a:t>Aspirations toward space are not new.  Consider the worm that becomes a butterfly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Picture 8" descr="butterfly"/>
          <p:cNvPicPr/>
          <p:nvPr/>
        </p:nvPicPr>
        <p:blipFill>
          <a:blip r:embed="rId1"/>
          <a:srcRect l="1695" t="5169" r="5157" b="4313"/>
          <a:stretch/>
        </p:blipFill>
        <p:spPr>
          <a:xfrm>
            <a:off x="5176800" y="2743200"/>
            <a:ext cx="31608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SNAKE CHARMER DANCE.WAV" descr=""/>
          <p:cNvPicPr/>
          <p:nvPr/>
        </p:nvPicPr>
        <p:blipFill>
          <a:blip r:embed="rId2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omething concrete, such as an object, action, character, or scene that stands for something abstract such as a concept or an idea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o not go gentle into that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good nigh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age, Rage against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dying of the light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Picture 5" descr="peir11"/>
          <p:cNvPicPr/>
          <p:nvPr/>
        </p:nvPicPr>
        <p:blipFill>
          <a:blip r:embed="rId3"/>
          <a:stretch/>
        </p:blipFill>
        <p:spPr>
          <a:xfrm>
            <a:off x="1600200" y="4275000"/>
            <a:ext cx="6095880" cy="2116440"/>
          </a:xfrm>
          <a:prstGeom prst="rect">
            <a:avLst/>
          </a:prstGeom>
          <a:ln w="0">
            <a:noFill/>
          </a:ln>
        </p:spPr>
      </p:pic>
      <p:sp>
        <p:nvSpPr>
          <p:cNvPr id="258" name="Comment 6"/>
          <p:cNvSpPr/>
          <p:nvPr/>
        </p:nvSpPr>
        <p:spPr>
          <a:xfrm>
            <a:off x="23760" y="15840"/>
            <a:ext cx="2923920" cy="70776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hrases are symbols th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 for death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main idea or underlying meaning of a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2286000" y="91440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333760" y="266688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on’t judge a man until you’ve walked a mile in his shoe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2209680" y="533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5" descr="9-01_Mockingbird"/>
          <p:cNvPicPr/>
          <p:nvPr/>
        </p:nvPicPr>
        <p:blipFill>
          <a:blip r:embed="rId1"/>
          <a:stretch/>
        </p:blipFill>
        <p:spPr>
          <a:xfrm>
            <a:off x="685800" y="2712960"/>
            <a:ext cx="4724280" cy="3730680"/>
          </a:xfrm>
          <a:prstGeom prst="rect">
            <a:avLst/>
          </a:prstGeom>
          <a:ln w="0">
            <a:noFill/>
          </a:ln>
        </p:spPr>
      </p:pic>
      <p:pic>
        <p:nvPicPr>
          <p:cNvPr id="264" name="MYSTERIOUS 3.WAV" descr=""/>
          <p:cNvPicPr/>
          <p:nvPr/>
        </p:nvPicPr>
        <p:blipFill>
          <a:blip r:embed="rId2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09120" y="33523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Comparing two very dissimilar things.  Usually involves cleverness and ingenuit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Our love is like parallel lines”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69" name="Picture 5" descr="lines5"/>
          <p:cNvPicPr/>
          <p:nvPr/>
        </p:nvPicPr>
        <p:blipFill>
          <a:blip r:embed="rId1"/>
          <a:stretch/>
        </p:blipFill>
        <p:spPr>
          <a:xfrm>
            <a:off x="4995720" y="3200400"/>
            <a:ext cx="3386160" cy="3124080"/>
          </a:xfrm>
          <a:prstGeom prst="rect">
            <a:avLst/>
          </a:prstGeom>
          <a:ln w="0">
            <a:noFill/>
          </a:ln>
        </p:spPr>
      </p:pic>
      <p:sp>
        <p:nvSpPr>
          <p:cNvPr id="270" name="Comment 6"/>
          <p:cNvSpPr/>
          <p:nvPr/>
        </p:nvSpPr>
        <p:spPr>
          <a:xfrm>
            <a:off x="20520" y="15840"/>
            <a:ext cx="2457720" cy="8625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lso a simil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term naming an object is substituted for another word with which it is closely associated with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1143000" y="533520"/>
            <a:ext cx="7162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Only through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swea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of your brow can you achieve success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1143000" y="533520"/>
            <a:ext cx="7162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5" name="Picture 6" descr="lance"/>
          <p:cNvPicPr/>
          <p:nvPr/>
        </p:nvPicPr>
        <p:blipFill>
          <a:blip r:embed="rId1"/>
          <a:stretch/>
        </p:blipFill>
        <p:spPr>
          <a:xfrm>
            <a:off x="5334120" y="2819520"/>
            <a:ext cx="2971800" cy="3606840"/>
          </a:xfrm>
          <a:prstGeom prst="rect">
            <a:avLst/>
          </a:prstGeom>
          <a:ln w="0">
            <a:noFill/>
          </a:ln>
        </p:spPr>
      </p:pic>
      <p:sp>
        <p:nvSpPr>
          <p:cNvPr id="276" name="Comment 8"/>
          <p:cNvSpPr/>
          <p:nvPr/>
        </p:nvSpPr>
        <p:spPr>
          <a:xfrm>
            <a:off x="26640" y="15840"/>
            <a:ext cx="2829240" cy="70776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eat” stands for hard work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 pair of rhymed verse lines that contain a complete thought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762120" y="762120"/>
            <a:ext cx="6705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while I think on thee, dea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ri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l losses are restor’d and sorrow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762120" y="762120"/>
            <a:ext cx="6705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Picture 5" descr="friends"/>
          <p:cNvPicPr/>
          <p:nvPr/>
        </p:nvPicPr>
        <p:blipFill>
          <a:blip r:embed="rId1"/>
          <a:stretch/>
        </p:blipFill>
        <p:spPr>
          <a:xfrm>
            <a:off x="2209680" y="40384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ahoma"/>
              </a:rPr>
              <a:t>A direct comparison between two basically different things.  A simile is introduced by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My love is like a red, red ros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71620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An implied comparison between two basically different things.  Is not introduced with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274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is eyes were daggers that cut right through me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0" name="Picture 5" descr="angryface"/>
          <p:cNvPicPr/>
          <p:nvPr/>
        </p:nvPicPr>
        <p:blipFill>
          <a:blip r:embed="rId3"/>
          <a:stretch/>
        </p:blipFill>
        <p:spPr>
          <a:xfrm>
            <a:off x="5334120" y="2819520"/>
            <a:ext cx="2377800" cy="3581280"/>
          </a:xfrm>
          <a:prstGeom prst="rect">
            <a:avLst/>
          </a:prstGeom>
          <a:ln w="0">
            <a:noFill/>
          </a:ln>
        </p:spPr>
      </p:pic>
      <p:pic>
        <p:nvPicPr>
          <p:cNvPr id="141" name="BACH - PHANTOM OF THE OPERA.WAV" descr=""/>
          <p:cNvPicPr/>
          <p:nvPr/>
        </p:nvPicPr>
        <p:blipFill>
          <a:blip r:embed="rId4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54:09Z</dcterms:created>
  <dc:creator>NNTC</dc:creator>
  <dc:description/>
  <dc:language>en-US</dc:language>
  <cp:lastModifiedBy>RomaK</cp:lastModifiedBy>
  <dcterms:modified xsi:type="dcterms:W3CDTF">2015-09-04T10:37:17Z</dcterms:modified>
  <cp:revision>45</cp:revision>
  <dc:subject/>
  <dc:title>POETIC TERMS</dc:title>
</cp:coreProperties>
</file>