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2.jpeg" ContentType="image/jpeg"/>
  <Override PartName="/ppt/media/image7.jpeg" ContentType="image/jpeg"/>
  <Override PartName="/ppt/media/image2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18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drumroll.wav" ContentType="audio/x-wav"/>
  <Override PartName="/ppt/media/image15.png" ContentType="image/png"/>
  <Override PartName="/ppt/media/image24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5.wmf" ContentType="image/x-wmf"/>
  <Override PartName="/ppt/media/image16.jpeg" ContentType="image/jpeg"/>
  <Override PartName="/ppt/media/image17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581A-5B5B-4EF9-B794-C23BA4693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OETIC TERM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nglish III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r. Wallock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TIC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Wal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great exaggeration to emphasize strong feeling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YPERBO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at exaggeration to emphasize strong fee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ERB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 will love you until all the seas go dr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YPERBO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love you until all the seas go d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ERB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uman characteristics are given to non-human animals, objects, or idea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ERSONIFIC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characteristics are given to non-human animals, objects, or id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y stereo walked out of my car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ERSONIFIC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stereo walked out of my c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 absent person or inanimate object is directly spoken to as though they were presen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POSTROPH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bsent person or inanimate object is directly spoken to as though they were pre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OSTROP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rutus: “Ceasar, now be still.  I killed not thee with half so good a will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POSTROPH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tus: “Ceasar, now be still.  I killed not thee with half so good a wil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OSTROP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part stands for the whole or vice versa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YNECDOCH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t stands for the whole or vice ver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ECDO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hands that created the work of art were masterful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YNECDOCH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nds that created the work of art were master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ECDO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ints given to the reader of what is to com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ORESHADOW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s given to the reader of what is to c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SHAD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stalwart hero was doomed to suffer the destined end of his days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ORESHADOW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lwart hero was doomed to suffer the destined end of his day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SHAD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reference to a historical figure, place, or even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LLUS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erence to a historical figure, place, or ev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use of concrete details that appeal to the five sense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MAGER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concrete details that appeal to the five se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ld, wet leaves floating on moss-colored water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MAGER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, wet leaves floating on moss-colore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contrast between what is said and what is meant.  Also, when things turn out different than what is expected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RON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st between what is said and what is meant.  Also, when things turn out different than what is exp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treacherous instrument is in thy hand, unbated and envenomed.  The foul practice has turned itself on me.”  Laert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RON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eacherous instrument is in thy hand, unbated and envenomed.  The foul practice has turned itself on me.”  Laer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overall atmosphere or prevailing emotional feeling of a work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O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verall atmosphere or prevailing emotional feeling of a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t was the best of times, it was the worst of times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O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the best of times, it was the worst of tim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seemingly self-contradictory statement that still is tru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ARADOX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emingly self-contradictory statement that still is tr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D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more we learn, the less we know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ARADOX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we learn, the less we kn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D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series of events that present and resolve a conflict. The story being told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ries of events that present and resolve a conflict. The story being t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plot of “The Most Dangerous Game” is that Rainsford is being hunted by General Zaroff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ot of “The Most Dangerous Game” is that Rainsford is being hunted by General Zar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teams competed in a David and Goliath struggl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LLUS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ams competed in a David and Goliath strug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vantage point from which an author presents the action in a work. 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ntage point from which an author presents the action in a work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st person-tale related by a character in the story.  “I or me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rd person-story told by someone not participating in the plot.  “he, she, they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person-tale related by a character in the story.  “I or 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rd person-story told by someone not participating in the plot.  “he, she, the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tition of  identical sounds at the ends of lines of poetr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ND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tition of  identical sounds at the ends of lines of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e clasps the crag with crooked hand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lose to the sun in lonely land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rom “The Eagle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ND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lasps the crag with crooked h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to the sun in lonely lan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“The Eag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tition of identical sounds within a line of poetr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NTERNAL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tition of identical sounds within a line of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e three shall flee across the sea to Italy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ld infinity in the palm of your han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d eternity in an hour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NTERNAL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three shall flee across the sea to Ital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infinity in the palm of your h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ternity in an hou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slant rhyme or half rhyme occurs when the vowel sounds are not quite identical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LANT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ant rhyme or half rhyme occurs when the vowel sounds are not quite ident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NT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d on that cheek and o’er that brow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mind at peace with all below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LANT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n that cheek and o’er that brow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nd at peace with all below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NT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time (both the time of day and period in history) and place in which the action of a literary work takes plac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me (both the time of day and period in history) and place in which the action of a literary work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iger! Tiger! burning brigh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n the forests of the night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ger! Tiger! burning b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orests of the nigh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broad comparison between two basically different things that have some points in common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ALOG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oad comparison between two basically different things that have some points in comm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ating of a sound, word, phrase, or more in a given literary work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PET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ating of a sound, word, phrase, or more in a given literary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 sprang to the stirrup, and Jarvis, and he;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 galloped, Derrick galloped, we galloped all three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PET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sprang to the stirrup, and Jarvis, and h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galloped, Derrick galloped, we galloped all thre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tition of consonant sounds at the beginnings of word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LLITER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tition of consonant sounds at the beginnings of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T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wiftly, swiftly flew the ship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LLITER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ftly, swiftly flew the ship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T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tition of similar vowel sounds followed by different consonan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SONA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tition of similar vowel sounds followed by different conson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. . .that hoard, and sleep, and feed, and know not me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SONA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that hoard, and sleep, and feed, and know not m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tition of consonant sounds that are preceded by different vowel sound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SONA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tition of consonant sounds that are preceded by different vowel s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erever we go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ilence will fall like dew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SONA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ver we 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ence will fall like dew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use of words whose sounds suggest the sounds made by objects or activitie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NOMATOPOEI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words whose sounds suggest the sounds made by objects or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lind eyes could blaze like meteor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NOMATOPOEI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ther examples: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uzz, hum, kis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ind eyes could blaze like meteo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zz, hum, ki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pirations toward space are not new.  Consider the worm that becomes a butterfl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ALOG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pirations toward space are not new.  Consider the worm that becomes a butterf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omething concrete, such as an object, action, character, or scene that stands for something abstract such as a concept or an idea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YMBOL/SYMBOLISM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concrete, such as an object, action, character, or scene that stands for something abstract such as a concept or an id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/SYM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o not go gentle into that good nigh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age, Rage against the dying of the light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YMBOL/SYMBOLISM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oth phrases are symbols tha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and for death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go gentle into that good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ge, Rage against the dying of the ligh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/SYM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hrases are symbols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 for d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main idea or underlying meaning of a literary work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in idea or underlying meaning of a literary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on’t judge a man until you’ve walked a mile in his shoe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judge a man until you’ve walked a mile in his sho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mparing two very dissimilar things.  Usually involves cleverness and ingenuit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CEI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ing two very dissimilar things.  Usually involves cleverness and ingenu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ur love is like parallel line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CEI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is is also a simil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love is like parallel lin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lso a sim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term naming an object is substituted for another word with which it is closely associated with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TONYM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rm naming an object is substituted for another word with which it is closely associated wi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ONY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nly through the sweat of your brow can you achieve succes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TONYM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weat” stands for hard work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hrough the sweat of your brow can you achieve succes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ONY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eat” stands for hard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pair of rhymed verse lines that contain a complete though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EROIC COUPLE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ir of rhymed verse lines that contain a complete thou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OIC COU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ut if the while I think on thee, dear friend,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ll losses are restor’d and sorrows end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EROIC COUPLE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f the while I think on thee, dear frien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osses are restor’d and sorrows en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OIC COU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direct comparison between two basically different things.  A simile is introduced by the words “like” or “as”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IMI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rect comparison between two basically different things.  A simile is introduced by the words “like” or “as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y love is like a red, red ros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IMI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love is like a red, red r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 implied comparison between two basically different things.  Is not introduced with the words “like” or “as”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TAPHO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mplied comparison between two basically different things.  Is not introduced with the words “like” or “as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is eyes were daggers that cut right through m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TAPHO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eyes were daggers that cut right through 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43BD-E394-4AB3-BAA2-0F247EAF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512D-6240-4244-8DD3-A5A5EE3A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69C4-AFB2-4F1A-A5C4-AAB18FBFC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A763-5764-4575-838B-AF0A33C2A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B237-CAA0-4F52-A572-0B0DC2F1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35D4-CE02-404A-A954-4F200917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6585-A015-4C83-B68D-3482C1A9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A97B-7BFB-496C-A931-1BA61AF0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727C-19BC-4602-9971-809485D0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3C85-1D18-413C-B602-0F796A80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863E-C436-43AE-9595-EB125671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EFC1-0421-486E-84F3-99B1CC55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7FE9-6BA9-4064-BB2B-EECE39F6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3F25-F583-479F-B4C0-C1383393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004C-29FA-4B2F-BB45-DA1CFBEE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6319-142C-4A67-8CC2-9C1B1C21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EB1C-DAEA-4473-B60D-2ADC6CEB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633D-332F-4CA7-A20F-DD4F1C96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52C0-6BBF-495C-8B71-F8309801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D438-8244-4A69-97DD-EAC1015B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6D3B-43E5-4261-9637-E15306AD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3F1E-816C-4F51-A570-D31AFDF6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69D0-7ACC-4015-AA46-496F8CAB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B4FC-157B-433B-B03B-01218575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8057-3275-4AA4-86C3-01AEDF77EF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A8AC-ED37-4F82-BC5B-96130F96BF29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fff"/>
                </a:solidFill>
                <a:latin typeface="Tahoma"/>
              </a:rPr>
              <a:t>POETIC TERM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English III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Mr. Wallock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FOREBODING 2.WAV" descr=""/>
          <p:cNvPicPr/>
          <p:nvPr/>
        </p:nvPicPr>
        <p:blipFill>
          <a:blip r:embed="rId1"/>
          <a:stretch/>
        </p:blipFill>
        <p:spPr>
          <a:xfrm>
            <a:off x="4876920" y="7162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Tahoma"/>
              </a:rPr>
              <a:t>A great exaggeration to emphasize strong feeling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3" name="WordArt 4"/>
          <p:cNvSpPr txBox="1"/>
          <p:nvPr/>
        </p:nvSpPr>
        <p:spPr>
          <a:xfrm>
            <a:off x="2590920" y="838080"/>
            <a:ext cx="4190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HYPERBO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791320" y="3124080"/>
            <a:ext cx="22860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Tahoma"/>
              </a:rPr>
              <a:t>I will love you until all the seas go dry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2590920" y="838080"/>
            <a:ext cx="4190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HYPERBO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6" name="Picture 5" descr="desert"/>
          <p:cNvPicPr/>
          <p:nvPr/>
        </p:nvPicPr>
        <p:blipFill>
          <a:blip r:embed="rId1"/>
          <a:stretch/>
        </p:blipFill>
        <p:spPr>
          <a:xfrm>
            <a:off x="1066680" y="3440160"/>
            <a:ext cx="4191120" cy="2808360"/>
          </a:xfrm>
          <a:prstGeom prst="rect">
            <a:avLst/>
          </a:prstGeom>
          <a:ln w="9360">
            <a:solidFill>
              <a:srgbClr val="80808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</p:pic>
      <p:pic>
        <p:nvPicPr>
          <p:cNvPr id="147" name="WIND3063.WAV" descr=""/>
          <p:cNvPicPr/>
          <p:nvPr/>
        </p:nvPicPr>
        <p:blipFill>
          <a:blip r:embed="rId2"/>
          <a:stretch/>
        </p:blipFill>
        <p:spPr>
          <a:xfrm>
            <a:off x="449568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447920" y="35809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ahoma"/>
              </a:rPr>
              <a:t>Human characteristics are given to non-human animals, objects, or ideas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1650960" y="533520"/>
            <a:ext cx="5867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PERSONIF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371240" y="2971800"/>
            <a:ext cx="2971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My stereo walked out of my car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1" name="WordArt 4"/>
          <p:cNvSpPr txBox="1"/>
          <p:nvPr/>
        </p:nvSpPr>
        <p:spPr>
          <a:xfrm>
            <a:off x="1650960" y="533520"/>
            <a:ext cx="5867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PERSONIF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52" name="Picture 5" descr="car_theft"/>
          <p:cNvPicPr/>
          <p:nvPr/>
        </p:nvPicPr>
        <p:blipFill>
          <a:blip r:embed="rId1"/>
          <a:stretch/>
        </p:blipFill>
        <p:spPr>
          <a:xfrm>
            <a:off x="5257800" y="2666880"/>
            <a:ext cx="2928960" cy="3867120"/>
          </a:xfrm>
          <a:prstGeom prst="rect">
            <a:avLst/>
          </a:prstGeom>
          <a:ln w="0">
            <a:noFill/>
          </a:ln>
        </p:spPr>
      </p:pic>
      <p:pic>
        <p:nvPicPr>
          <p:cNvPr id="153" name="POLI3063.WAV" descr=""/>
          <p:cNvPicPr/>
          <p:nvPr/>
        </p:nvPicPr>
        <p:blipFill>
          <a:blip r:embed="rId2"/>
          <a:stretch/>
        </p:blipFill>
        <p:spPr>
          <a:xfrm>
            <a:off x="48006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An absent person or inanimate object is directly spoken to as though they were present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5" name="WordArt 4"/>
          <p:cNvSpPr txBox="1"/>
          <p:nvPr/>
        </p:nvSpPr>
        <p:spPr>
          <a:xfrm>
            <a:off x="1752480" y="914400"/>
            <a:ext cx="563904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POSTROP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3276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Brutus: “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Ceasar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, now be still.  I killed not thee with half so good a will.”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WordArt 4"/>
          <p:cNvSpPr txBox="1"/>
          <p:nvPr/>
        </p:nvSpPr>
        <p:spPr>
          <a:xfrm>
            <a:off x="1752480" y="914400"/>
            <a:ext cx="563904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POSTROP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58" name="Picture 5" descr="dagger1"/>
          <p:cNvPicPr/>
          <p:nvPr/>
        </p:nvPicPr>
        <p:blipFill>
          <a:blip r:embed="rId3"/>
          <a:stretch/>
        </p:blipFill>
        <p:spPr>
          <a:xfrm>
            <a:off x="1920960" y="2895480"/>
            <a:ext cx="21366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9" name="Line 9"/>
          <p:cNvSpPr/>
          <p:nvPr/>
        </p:nvSpPr>
        <p:spPr>
          <a:xfrm>
            <a:off x="1981080" y="28954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1981080" y="28954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61" name="BEETHOVEN'S FIFTH SYMPHONY.WAV" descr=""/>
          <p:cNvPicPr/>
          <p:nvPr/>
        </p:nvPicPr>
        <p:blipFill>
          <a:blip r:embed="rId4"/>
          <a:stretch/>
        </p:blipFill>
        <p:spPr>
          <a:xfrm>
            <a:off x="43434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2" nodeType="afterEffect" fill="hold" presetClass="entr" presetID="7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7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066680" y="396216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33ff"/>
                </a:solidFill>
                <a:latin typeface="Tahoma"/>
              </a:rPr>
              <a:t>A part stands for the whole or vice versa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2133720" y="533520"/>
            <a:ext cx="5105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YNECDOCH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371240" y="3276720"/>
            <a:ext cx="3429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Tahoma"/>
              </a:rPr>
              <a:t>The </a:t>
            </a:r>
            <a:r>
              <a:rPr b="0" lang="en-US" sz="4000" spc="-1" strike="noStrike" u="sng">
                <a:solidFill>
                  <a:srgbClr val="9933ff"/>
                </a:solidFill>
                <a:uFillTx/>
                <a:latin typeface="Tahoma"/>
              </a:rPr>
              <a:t>hands</a:t>
            </a:r>
            <a:r>
              <a:rPr b="0" lang="en-US" sz="4000" spc="-1" strike="noStrike">
                <a:solidFill>
                  <a:srgbClr val="9933ff"/>
                </a:solidFill>
                <a:latin typeface="Tahoma"/>
              </a:rPr>
              <a:t> that created the work of art were masterful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5" name="WordArt 5"/>
          <p:cNvSpPr txBox="1"/>
          <p:nvPr/>
        </p:nvSpPr>
        <p:spPr>
          <a:xfrm>
            <a:off x="2133720" y="533520"/>
            <a:ext cx="5105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YNECDOCH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6" name="Picture 6" descr="hands"/>
          <p:cNvPicPr/>
          <p:nvPr/>
        </p:nvPicPr>
        <p:blipFill>
          <a:blip r:embed="rId1"/>
          <a:stretch/>
        </p:blipFill>
        <p:spPr>
          <a:xfrm>
            <a:off x="4800600" y="2913120"/>
            <a:ext cx="3857760" cy="3487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Hints given to the reader of what is to come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8" name="WordArt 4"/>
          <p:cNvSpPr txBox="1"/>
          <p:nvPr/>
        </p:nvSpPr>
        <p:spPr>
          <a:xfrm>
            <a:off x="1523880" y="609480"/>
            <a:ext cx="62485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FORESHADOW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800" y="3200040"/>
            <a:ext cx="40384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stalwart hero was doomed to suffer the destined end of his days.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0" name="WordArt 4"/>
          <p:cNvSpPr txBox="1"/>
          <p:nvPr/>
        </p:nvSpPr>
        <p:spPr>
          <a:xfrm>
            <a:off x="1523880" y="609480"/>
            <a:ext cx="62485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FORESHADOW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71" name="Picture 5" descr="beowulf"/>
          <p:cNvPicPr/>
          <p:nvPr/>
        </p:nvPicPr>
        <p:blipFill>
          <a:blip r:embed="rId1"/>
          <a:stretch/>
        </p:blipFill>
        <p:spPr>
          <a:xfrm>
            <a:off x="4800600" y="3352680"/>
            <a:ext cx="3809880" cy="2940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A reference to a historical figure, place, or event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0" name="WordArt 8"/>
          <p:cNvSpPr txBox="1"/>
          <p:nvPr/>
        </p:nvSpPr>
        <p:spPr>
          <a:xfrm>
            <a:off x="2133720" y="1295280"/>
            <a:ext cx="4876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LLU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837720" y="3429000"/>
            <a:ext cx="76964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The use of concrete details that appeal to the five senses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3" name="WordArt 4"/>
          <p:cNvSpPr txBox="1"/>
          <p:nvPr/>
        </p:nvSpPr>
        <p:spPr>
          <a:xfrm>
            <a:off x="1676520" y="609480"/>
            <a:ext cx="5715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MAGE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5105520" y="3504960"/>
            <a:ext cx="35049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ahoma"/>
              </a:rPr>
              <a:t>Cold, wet leaves floating on moss-colored water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5" name="WordArt 4"/>
          <p:cNvSpPr txBox="1"/>
          <p:nvPr/>
        </p:nvSpPr>
        <p:spPr>
          <a:xfrm>
            <a:off x="1676520" y="609480"/>
            <a:ext cx="5715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MAGE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76" name="Picture 5" descr="leaves"/>
          <p:cNvPicPr/>
          <p:nvPr/>
        </p:nvPicPr>
        <p:blipFill>
          <a:blip r:embed="rId3"/>
          <a:stretch/>
        </p:blipFill>
        <p:spPr>
          <a:xfrm>
            <a:off x="914400" y="3048120"/>
            <a:ext cx="4038480" cy="3200400"/>
          </a:xfrm>
          <a:prstGeom prst="rect">
            <a:avLst/>
          </a:prstGeom>
          <a:ln w="0">
            <a:noFill/>
          </a:ln>
        </p:spPr>
      </p:pic>
      <p:pic>
        <p:nvPicPr>
          <p:cNvPr id="177" name="POND CREATURES 1.WAV" descr=""/>
          <p:cNvPicPr/>
          <p:nvPr/>
        </p:nvPicPr>
        <p:blipFill>
          <a:blip r:embed="rId4"/>
          <a:stretch/>
        </p:blipFill>
        <p:spPr>
          <a:xfrm>
            <a:off x="48006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533160" y="342900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Tahoma"/>
              </a:rPr>
              <a:t>A contrast between what is said and what is meant.  Also, when things turn out different than what is expected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1828800" y="533520"/>
            <a:ext cx="57913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RON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2666880"/>
            <a:ext cx="44197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The treacherous instrument is in thy hand, unbated and envenomed.  The foul practice has turned itself on me.”  Laertes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1" name="WordArt 4"/>
          <p:cNvSpPr txBox="1"/>
          <p:nvPr/>
        </p:nvSpPr>
        <p:spPr>
          <a:xfrm>
            <a:off x="1828800" y="533520"/>
            <a:ext cx="57913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RON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2" name="bard4.avi" descr=""/>
          <p:cNvPicPr/>
          <p:nvPr/>
        </p:nvPicPr>
        <p:blipFill>
          <a:blip r:embed="rId1"/>
          <a:stretch/>
        </p:blipFill>
        <p:spPr>
          <a:xfrm>
            <a:off x="5257800" y="2819520"/>
            <a:ext cx="3048120" cy="3047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9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Tahoma"/>
              </a:rPr>
              <a:t>The overall atmosphere or prevailing emotional feeling of a work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4" name="WordArt 4"/>
          <p:cNvSpPr txBox="1"/>
          <p:nvPr/>
        </p:nvSpPr>
        <p:spPr>
          <a:xfrm>
            <a:off x="1981080" y="762120"/>
            <a:ext cx="53341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OO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371240" y="3276720"/>
            <a:ext cx="3429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It was the best of times, it was the worst of times.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6" name="WordArt 4"/>
          <p:cNvSpPr txBox="1"/>
          <p:nvPr/>
        </p:nvSpPr>
        <p:spPr>
          <a:xfrm>
            <a:off x="1981080" y="457200"/>
            <a:ext cx="53341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OO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87" name="Picture 5" descr="Guillotine"/>
          <p:cNvPicPr/>
          <p:nvPr/>
        </p:nvPicPr>
        <p:blipFill>
          <a:blip r:embed="rId1"/>
          <a:stretch/>
        </p:blipFill>
        <p:spPr>
          <a:xfrm>
            <a:off x="4724280" y="3200400"/>
            <a:ext cx="4038840" cy="3086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Tahoma"/>
              </a:rPr>
              <a:t>A seemingly self-contradictory statement that still is true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9" name="WordArt 4"/>
          <p:cNvSpPr txBox="1"/>
          <p:nvPr/>
        </p:nvSpPr>
        <p:spPr>
          <a:xfrm>
            <a:off x="1828800" y="838080"/>
            <a:ext cx="5638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PARADO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5486400" y="3048120"/>
            <a:ext cx="28195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Tahoma"/>
              </a:rPr>
              <a:t>The more we learn, the less we know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1" name="WordArt 4"/>
          <p:cNvSpPr txBox="1"/>
          <p:nvPr/>
        </p:nvSpPr>
        <p:spPr>
          <a:xfrm>
            <a:off x="1828800" y="838080"/>
            <a:ext cx="5638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PARADO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92" name="Picture 5" descr="idiot"/>
          <p:cNvPicPr/>
          <p:nvPr/>
        </p:nvPicPr>
        <p:blipFill>
          <a:blip r:embed="rId3"/>
          <a:stretch/>
        </p:blipFill>
        <p:spPr>
          <a:xfrm>
            <a:off x="1295280" y="3048120"/>
            <a:ext cx="2743200" cy="3276360"/>
          </a:xfrm>
          <a:prstGeom prst="rect">
            <a:avLst/>
          </a:prstGeom>
          <a:ln w="0">
            <a:noFill/>
          </a:ln>
        </p:spPr>
      </p:pic>
      <p:pic>
        <p:nvPicPr>
          <p:cNvPr id="193" name="DUDE3079.WAV" descr=""/>
          <p:cNvPicPr/>
          <p:nvPr/>
        </p:nvPicPr>
        <p:blipFill>
          <a:blip r:embed="rId4"/>
          <a:stretch/>
        </p:blipFill>
        <p:spPr>
          <a:xfrm>
            <a:off x="41148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799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066680" y="3504960"/>
            <a:ext cx="701064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3ff"/>
                </a:solidFill>
                <a:latin typeface="Tahoma"/>
              </a:rPr>
              <a:t>A series of events that present and resolve a conflict. The story being told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5" name="WordArt 5"/>
          <p:cNvSpPr txBox="1"/>
          <p:nvPr/>
        </p:nvSpPr>
        <p:spPr>
          <a:xfrm>
            <a:off x="2438280" y="990720"/>
            <a:ext cx="38862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LOT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09120" y="3276720"/>
            <a:ext cx="48769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Tahoma"/>
              </a:rPr>
              <a:t>The plot of “The Most Dangerous Game” is that Rainsford is being hunted by General Zaroff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7" name="WordArt 4"/>
          <p:cNvSpPr txBox="1"/>
          <p:nvPr/>
        </p:nvSpPr>
        <p:spPr>
          <a:xfrm>
            <a:off x="2438280" y="457200"/>
            <a:ext cx="38862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LOT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98" name="Picture 5" descr="dangerouss"/>
          <p:cNvPicPr/>
          <p:nvPr/>
        </p:nvPicPr>
        <p:blipFill>
          <a:blip r:embed="rId1"/>
          <a:stretch/>
        </p:blipFill>
        <p:spPr>
          <a:xfrm>
            <a:off x="5859360" y="2666880"/>
            <a:ext cx="2659320" cy="3810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61760" y="2895480"/>
            <a:ext cx="42670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The teams competed in a David and Goliath struggle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2133720" y="762120"/>
            <a:ext cx="4876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LLU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23" name="Picture 6" descr="goliath"/>
          <p:cNvPicPr/>
          <p:nvPr/>
        </p:nvPicPr>
        <p:blipFill>
          <a:blip r:embed="rId3"/>
          <a:stretch/>
        </p:blipFill>
        <p:spPr>
          <a:xfrm>
            <a:off x="5257800" y="2514600"/>
            <a:ext cx="2768760" cy="3733920"/>
          </a:xfrm>
          <a:prstGeom prst="rect">
            <a:avLst/>
          </a:prstGeom>
          <a:ln w="0">
            <a:noFill/>
          </a:ln>
        </p:spPr>
      </p:pic>
      <p:pic>
        <p:nvPicPr>
          <p:cNvPr id="124" name="TAPS PLAYED ON A BUGLE.WAV" descr=""/>
          <p:cNvPicPr/>
          <p:nvPr/>
        </p:nvPicPr>
        <p:blipFill>
          <a:blip r:embed="rId4"/>
          <a:stretch/>
        </p:blipFill>
        <p:spPr>
          <a:xfrm>
            <a:off x="4419720" y="7086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entr" presetID="7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" nodeType="afterEffect" fill="hold" presetClass="entr" presetID="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Tahoma"/>
              </a:rPr>
              <a:t>The vantage point from which an author presents the action in a work.</a:t>
            </a:r>
            <a:r>
              <a:rPr b="0" lang="en-US" sz="3600" spc="-1" strike="noStrike">
                <a:solidFill>
                  <a:srgbClr val="9933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1752480" y="762120"/>
            <a:ext cx="62485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POINT OF VIEW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3160" y="3047760"/>
            <a:ext cx="8001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1st person-tale related by a character in the story.  “I or me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3rd person-story told by someone not participating in the plot.  “he, she, they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2" name="WordArt 4"/>
          <p:cNvSpPr txBox="1"/>
          <p:nvPr/>
        </p:nvSpPr>
        <p:spPr>
          <a:xfrm>
            <a:off x="1752480" y="762120"/>
            <a:ext cx="62485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POINT OF VIEW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The repetition of  identical sounds at the ends of lines of poetry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4" name="WordArt 4"/>
          <p:cNvSpPr txBox="1"/>
          <p:nvPr/>
        </p:nvSpPr>
        <p:spPr>
          <a:xfrm>
            <a:off x="1219320" y="914400"/>
            <a:ext cx="69339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END RHY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4400" y="2666880"/>
            <a:ext cx="41911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He clasps the crag with crooked </a:t>
            </a:r>
            <a:r>
              <a:rPr b="0" lang="en-US" sz="3600" spc="-1" strike="noStrike" u="sng">
                <a:solidFill>
                  <a:srgbClr val="f8f8f8"/>
                </a:solidFill>
                <a:uFillTx/>
                <a:latin typeface="Tahoma"/>
              </a:rPr>
              <a:t>hands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Close to the sun in lonely </a:t>
            </a:r>
            <a:r>
              <a:rPr b="0" lang="en-US" sz="3600" spc="-1" strike="noStrike" u="sng">
                <a:solidFill>
                  <a:srgbClr val="f8f8f8"/>
                </a:solidFill>
                <a:uFillTx/>
                <a:latin typeface="Tahoma"/>
              </a:rPr>
              <a:t>lands</a:t>
            </a: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”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from “The Eagle”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1219320" y="533520"/>
            <a:ext cx="693396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END RHY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07" name="Picture 5" descr="eagle"/>
          <p:cNvPicPr/>
          <p:nvPr/>
        </p:nvPicPr>
        <p:blipFill>
          <a:blip r:embed="rId1"/>
          <a:stretch/>
        </p:blipFill>
        <p:spPr>
          <a:xfrm>
            <a:off x="5334120" y="2514600"/>
            <a:ext cx="311148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he repetition of identical sounds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Tahoma"/>
              </a:rPr>
              <a:t>withi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a line of poetry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9" name="WordArt 4"/>
          <p:cNvSpPr txBox="1"/>
          <p:nvPr/>
        </p:nvSpPr>
        <p:spPr>
          <a:xfrm>
            <a:off x="1066680" y="533520"/>
            <a:ext cx="72392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NTERNAL RHY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We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three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shall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flee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across the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sea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to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Italy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.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Or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Hold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infinity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in the palm of your han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And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eternity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in an hour.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1" name="WordArt 4"/>
          <p:cNvSpPr txBox="1"/>
          <p:nvPr/>
        </p:nvSpPr>
        <p:spPr>
          <a:xfrm>
            <a:off x="1066680" y="533520"/>
            <a:ext cx="72392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NTERNAL RHY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A slant rhyme or half rhyme occurs when the vowel sounds are not quite identical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3" name="WordArt 4"/>
          <p:cNvSpPr txBox="1"/>
          <p:nvPr/>
        </p:nvSpPr>
        <p:spPr>
          <a:xfrm>
            <a:off x="1523880" y="1066680"/>
            <a:ext cx="6400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LANT RHYM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And on that cheek and o’er that </a:t>
            </a:r>
            <a:r>
              <a:rPr b="0" lang="en-US" sz="4000" spc="-1" strike="noStrike" u="sng">
                <a:solidFill>
                  <a:srgbClr val="f8f8f8"/>
                </a:solidFill>
                <a:uFillTx/>
                <a:latin typeface="Tahoma"/>
              </a:rPr>
              <a:t>brow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A mind at peace with all </a:t>
            </a:r>
            <a:r>
              <a:rPr b="0" lang="en-US" sz="4000" spc="-1" strike="noStrike" u="sng">
                <a:solidFill>
                  <a:srgbClr val="f8f8f8"/>
                </a:solidFill>
                <a:uFillTx/>
                <a:latin typeface="Tahoma"/>
              </a:rPr>
              <a:t>below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5" name="WordArt 4"/>
          <p:cNvSpPr txBox="1"/>
          <p:nvPr/>
        </p:nvSpPr>
        <p:spPr>
          <a:xfrm>
            <a:off x="1523880" y="1066680"/>
            <a:ext cx="6400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LANT RHYM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time (both the time of day and period in history) and place in which the action of a literary work takes place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1600200" y="838080"/>
            <a:ext cx="61722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TT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6" descr="tiger2"/>
          <p:cNvPicPr/>
          <p:nvPr/>
        </p:nvPicPr>
        <p:blipFill>
          <a:blip r:embed="rId1"/>
          <a:stretch/>
        </p:blipFill>
        <p:spPr>
          <a:xfrm>
            <a:off x="838080" y="2879640"/>
            <a:ext cx="4267440" cy="29876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5029200" y="2590560"/>
            <a:ext cx="35812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Tiger! Tiger! burning bright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In the </a:t>
            </a:r>
            <a:r>
              <a:rPr b="0" lang="en-US" sz="4400" spc="-1" strike="noStrike" u="sng">
                <a:solidFill>
                  <a:srgbClr val="f8f8f8"/>
                </a:solidFill>
                <a:uFillTx/>
                <a:latin typeface="Tahoma"/>
              </a:rPr>
              <a:t>forests of the night”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0" name="WordArt 4"/>
          <p:cNvSpPr txBox="1"/>
          <p:nvPr/>
        </p:nvSpPr>
        <p:spPr>
          <a:xfrm>
            <a:off x="1600200" y="838080"/>
            <a:ext cx="61722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TTING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1" name="LION3110.WAV" descr=""/>
          <p:cNvPicPr/>
          <p:nvPr/>
        </p:nvPicPr>
        <p:blipFill>
          <a:blip r:embed="rId4"/>
          <a:stretch/>
        </p:blipFill>
        <p:spPr>
          <a:xfrm>
            <a:off x="43434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2807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371240" y="3505320"/>
            <a:ext cx="6629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Tahoma"/>
              </a:rPr>
              <a:t>A broad comparison between two basically different things that have some points in common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1828800" y="1219320"/>
            <a:ext cx="640080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Arial Black"/>
              </a:rPr>
              <a:t>ANALO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837720" y="32004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The repeating of a sound, word, phrase, or more in a given literary work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3" name="WordArt 4"/>
          <p:cNvSpPr txBox="1"/>
          <p:nvPr/>
        </p:nvSpPr>
        <p:spPr>
          <a:xfrm>
            <a:off x="1981080" y="609480"/>
            <a:ext cx="56390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PETI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HORS3110.WAV" descr=""/>
          <p:cNvPicPr/>
          <p:nvPr/>
        </p:nvPicPr>
        <p:blipFill>
          <a:blip r:embed="rId1"/>
          <a:stretch/>
        </p:blipFill>
        <p:spPr>
          <a:xfrm>
            <a:off x="4419720" y="4343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horsegallop"/>
          <p:cNvPicPr/>
          <p:nvPr/>
        </p:nvPicPr>
        <p:blipFill>
          <a:blip r:embed="rId2"/>
          <a:stretch/>
        </p:blipFill>
        <p:spPr>
          <a:xfrm>
            <a:off x="2971800" y="3886200"/>
            <a:ext cx="3657600" cy="25225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80880" y="274320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I sprang to the stirrup, and Jarvis, and he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I </a:t>
            </a:r>
            <a:r>
              <a:rPr b="0" lang="en-US" sz="2800" spc="-1" strike="noStrike" u="sng">
                <a:solidFill>
                  <a:srgbClr val="0099cc"/>
                </a:solidFill>
                <a:uFillTx/>
                <a:latin typeface="Tahoma"/>
              </a:rPr>
              <a:t>galloped</a:t>
            </a: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, Derrick </a:t>
            </a:r>
            <a:r>
              <a:rPr b="0" lang="en-US" sz="2800" spc="-1" strike="noStrike" u="sng">
                <a:solidFill>
                  <a:srgbClr val="0099cc"/>
                </a:solidFill>
                <a:uFillTx/>
                <a:latin typeface="Tahoma"/>
              </a:rPr>
              <a:t>galloped</a:t>
            </a: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, we </a:t>
            </a:r>
            <a:r>
              <a:rPr b="0" lang="en-US" sz="2800" spc="-1" strike="noStrike" u="sng">
                <a:solidFill>
                  <a:srgbClr val="0099cc"/>
                </a:solidFill>
                <a:uFillTx/>
                <a:latin typeface="Tahoma"/>
              </a:rPr>
              <a:t>galloped</a:t>
            </a: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 all three”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7" name="WordArt 4"/>
          <p:cNvSpPr txBox="1"/>
          <p:nvPr/>
        </p:nvSpPr>
        <p:spPr>
          <a:xfrm>
            <a:off x="1981080" y="380880"/>
            <a:ext cx="56390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PETI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804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cc"/>
                </a:solidFill>
                <a:latin typeface="Tahoma"/>
              </a:rPr>
              <a:t>The repetition of consonant sounds at the beginnings of words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9" name="WordArt 4"/>
          <p:cNvSpPr txBox="1"/>
          <p:nvPr/>
        </p:nvSpPr>
        <p:spPr>
          <a:xfrm>
            <a:off x="1676520" y="533520"/>
            <a:ext cx="5943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LLITER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5" descr="ship"/>
          <p:cNvPicPr/>
          <p:nvPr/>
        </p:nvPicPr>
        <p:blipFill>
          <a:blip r:embed="rId1"/>
          <a:stretch/>
        </p:blipFill>
        <p:spPr>
          <a:xfrm>
            <a:off x="4495680" y="3002040"/>
            <a:ext cx="4267440" cy="27892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560" y="2819520"/>
            <a:ext cx="4190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6000" spc="-1" strike="noStrike" u="sng">
                <a:solidFill>
                  <a:srgbClr val="0099cc"/>
                </a:solidFill>
                <a:uFillTx/>
                <a:latin typeface="Tahoma"/>
              </a:rPr>
              <a:t>S</a:t>
            </a:r>
            <a:r>
              <a:rPr b="0" lang="en-US" sz="6000" spc="-1" strike="noStrike">
                <a:solidFill>
                  <a:srgbClr val="0099cc"/>
                </a:solidFill>
                <a:latin typeface="Tahoma"/>
              </a:rPr>
              <a:t>wiftly, </a:t>
            </a:r>
            <a:r>
              <a:rPr b="0" lang="en-US" sz="6000" spc="-1" strike="noStrike" u="sng">
                <a:solidFill>
                  <a:srgbClr val="0099cc"/>
                </a:solidFill>
                <a:uFillTx/>
                <a:latin typeface="Tahoma"/>
              </a:rPr>
              <a:t>s</a:t>
            </a:r>
            <a:r>
              <a:rPr b="0" lang="en-US" sz="6000" spc="-1" strike="noStrike">
                <a:solidFill>
                  <a:srgbClr val="0099cc"/>
                </a:solidFill>
                <a:latin typeface="Tahoma"/>
              </a:rPr>
              <a:t>wiftly flew the </a:t>
            </a:r>
            <a:r>
              <a:rPr b="0" lang="en-US" sz="6000" spc="-1" strike="noStrike" u="sng">
                <a:solidFill>
                  <a:srgbClr val="0099cc"/>
                </a:solidFill>
                <a:uFillTx/>
                <a:latin typeface="Tahoma"/>
              </a:rPr>
              <a:t>s</a:t>
            </a:r>
            <a:r>
              <a:rPr b="0" lang="en-US" sz="6000" spc="-1" strike="noStrike">
                <a:solidFill>
                  <a:srgbClr val="0099cc"/>
                </a:solidFill>
                <a:latin typeface="Tahoma"/>
              </a:rPr>
              <a:t>hip”</a:t>
            </a:r>
            <a:endParaRPr b="0" lang="en-US" sz="6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2" name="WordArt 4"/>
          <p:cNvSpPr txBox="1"/>
          <p:nvPr/>
        </p:nvSpPr>
        <p:spPr>
          <a:xfrm>
            <a:off x="1676520" y="533520"/>
            <a:ext cx="5943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LLITER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33" name="WIND3110.WAV" descr=""/>
          <p:cNvPicPr/>
          <p:nvPr/>
        </p:nvPicPr>
        <p:blipFill>
          <a:blip r:embed="rId2"/>
          <a:stretch/>
        </p:blipFill>
        <p:spPr>
          <a:xfrm>
            <a:off x="3200400" y="7238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" dur="1783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783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066680" y="3429000"/>
            <a:ext cx="70106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3ff"/>
                </a:solidFill>
                <a:latin typeface="Tahoma"/>
              </a:rPr>
              <a:t>The repetition of similar vowel sounds followed by different consonant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1676520" y="914400"/>
            <a:ext cx="5867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SSONANC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837720" y="3047760"/>
            <a:ext cx="3581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. . .that hoard, and sl</a:t>
            </a:r>
            <a:r>
              <a:rPr b="0" lang="en-US" sz="4000" spc="-1" strike="noStrike" u="sng">
                <a:solidFill>
                  <a:srgbClr val="0099cc"/>
                </a:solidFill>
                <a:uFillTx/>
                <a:latin typeface="Tahoma"/>
              </a:rPr>
              <a:t>ee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p, and f</a:t>
            </a:r>
            <a:r>
              <a:rPr b="0" lang="en-US" sz="4000" spc="-1" strike="noStrike" u="sng">
                <a:solidFill>
                  <a:srgbClr val="0099cc"/>
                </a:solidFill>
                <a:uFillTx/>
                <a:latin typeface="Tahoma"/>
              </a:rPr>
              <a:t>ee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d, and know not me.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7" name="WordArt 4"/>
          <p:cNvSpPr txBox="1"/>
          <p:nvPr/>
        </p:nvSpPr>
        <p:spPr>
          <a:xfrm>
            <a:off x="1676520" y="914400"/>
            <a:ext cx="5867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SSONANC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38" name="Picture 5" descr="eagle-eating-binladen001"/>
          <p:cNvPicPr/>
          <p:nvPr/>
        </p:nvPicPr>
        <p:blipFill>
          <a:blip r:embed="rId1"/>
          <a:stretch/>
        </p:blipFill>
        <p:spPr>
          <a:xfrm>
            <a:off x="4495680" y="3048120"/>
            <a:ext cx="4343400" cy="3276360"/>
          </a:xfrm>
          <a:prstGeom prst="rect">
            <a:avLst/>
          </a:prstGeom>
          <a:ln w="0">
            <a:noFill/>
          </a:ln>
        </p:spPr>
      </p:pic>
      <p:pic>
        <p:nvPicPr>
          <p:cNvPr id="239" name="GOOD3110.WAV" descr=""/>
          <p:cNvPicPr/>
          <p:nvPr/>
        </p:nvPicPr>
        <p:blipFill>
          <a:blip r:embed="rId2"/>
          <a:stretch/>
        </p:blipFill>
        <p:spPr>
          <a:xfrm>
            <a:off x="4191120" y="7086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662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The repetition of consonant sounds that are preceded by different vowel sound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1" name="WordArt 4"/>
          <p:cNvSpPr txBox="1"/>
          <p:nvPr/>
        </p:nvSpPr>
        <p:spPr>
          <a:xfrm>
            <a:off x="1447920" y="685800"/>
            <a:ext cx="63244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CONSONA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181120" y="3124080"/>
            <a:ext cx="31244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Wherever we go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Silence w</a:t>
            </a:r>
            <a:r>
              <a:rPr b="0" lang="en-US" sz="4000" spc="-1" strike="noStrike" u="sng">
                <a:solidFill>
                  <a:srgbClr val="0099cc"/>
                </a:solidFill>
                <a:uFillTx/>
                <a:latin typeface="Tahoma"/>
              </a:rPr>
              <a:t>ill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 f</a:t>
            </a:r>
            <a:r>
              <a:rPr b="0" lang="en-US" sz="4000" spc="-1" strike="noStrike" u="sng">
                <a:solidFill>
                  <a:srgbClr val="0099cc"/>
                </a:solidFill>
                <a:uFillTx/>
                <a:latin typeface="Tahoma"/>
              </a:rPr>
              <a:t>all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 like dews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3" name="WordArt 4"/>
          <p:cNvSpPr txBox="1"/>
          <p:nvPr/>
        </p:nvSpPr>
        <p:spPr>
          <a:xfrm>
            <a:off x="1447920" y="685800"/>
            <a:ext cx="63244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CONSONA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244" name="Picture 5" descr="Silence"/>
          <p:cNvPicPr/>
          <p:nvPr/>
        </p:nvPicPr>
        <p:blipFill>
          <a:blip r:embed="rId3"/>
          <a:stretch/>
        </p:blipFill>
        <p:spPr>
          <a:xfrm>
            <a:off x="1601640" y="2895480"/>
            <a:ext cx="2791080" cy="3505320"/>
          </a:xfrm>
          <a:prstGeom prst="rect">
            <a:avLst/>
          </a:prstGeom>
          <a:ln w="0">
            <a:noFill/>
          </a:ln>
        </p:spPr>
      </p:pic>
      <p:pic>
        <p:nvPicPr>
          <p:cNvPr id="245" name="SHHH3125.WAV" descr=""/>
          <p:cNvPicPr/>
          <p:nvPr/>
        </p:nvPicPr>
        <p:blipFill>
          <a:blip r:embed="rId4"/>
          <a:stretch/>
        </p:blipFill>
        <p:spPr>
          <a:xfrm>
            <a:off x="3733920" y="7162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" dur="1238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837720" y="320004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The use of words whose sounds suggest the sounds made by objects or activities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7" name="WordArt 4"/>
          <p:cNvSpPr txBox="1"/>
          <p:nvPr/>
        </p:nvSpPr>
        <p:spPr>
          <a:xfrm>
            <a:off x="1066680" y="762120"/>
            <a:ext cx="7315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99cc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ONOMATOPOEIA</a:t>
            </a:r>
            <a:endParaRPr b="0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99cc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990720" y="2895120"/>
            <a:ext cx="30477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“</a:t>
            </a: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Blind eyes could </a:t>
            </a:r>
            <a:r>
              <a:rPr b="0" lang="en-US" sz="4800" spc="-1" strike="noStrike" u="sng">
                <a:solidFill>
                  <a:srgbClr val="ff3300"/>
                </a:solidFill>
                <a:uFillTx/>
                <a:latin typeface="Tahoma"/>
              </a:rPr>
              <a:t>blaze</a:t>
            </a: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 like meteors”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9" name="WordArt 4"/>
          <p:cNvSpPr txBox="1"/>
          <p:nvPr/>
        </p:nvSpPr>
        <p:spPr>
          <a:xfrm>
            <a:off x="1066680" y="762120"/>
            <a:ext cx="7315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99cc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ONOMATOPOEIA</a:t>
            </a:r>
            <a:endParaRPr b="0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99cc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0" name="Comment 5"/>
          <p:cNvSpPr/>
          <p:nvPr/>
        </p:nvSpPr>
        <p:spPr>
          <a:xfrm>
            <a:off x="25920" y="15840"/>
            <a:ext cx="1767240" cy="707760"/>
          </a:xfrm>
          <a:prstGeom prst="rect">
            <a:avLst/>
          </a:prstGeom>
          <a:solidFill>
            <a:srgbClr val="0099cc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examples: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zz, hum, kis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51" name="Picture 6" descr="meteors"/>
          <p:cNvPicPr/>
          <p:nvPr/>
        </p:nvPicPr>
        <p:blipFill>
          <a:blip r:embed="rId1"/>
          <a:stretch/>
        </p:blipFill>
        <p:spPr>
          <a:xfrm>
            <a:off x="4191120" y="2971800"/>
            <a:ext cx="4190760" cy="3314880"/>
          </a:xfrm>
          <a:prstGeom prst="rect">
            <a:avLst/>
          </a:prstGeom>
          <a:ln w="0">
            <a:noFill/>
          </a:ln>
        </p:spPr>
      </p:pic>
      <p:pic>
        <p:nvPicPr>
          <p:cNvPr id="252" name="OSCI3125.WAV" descr=""/>
          <p:cNvPicPr/>
          <p:nvPr/>
        </p:nvPicPr>
        <p:blipFill>
          <a:blip r:embed="rId2"/>
          <a:stretch/>
        </p:blipFill>
        <p:spPr>
          <a:xfrm>
            <a:off x="38862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0" dur="1500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914040" y="2971440"/>
            <a:ext cx="3429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Tahoma"/>
              </a:rPr>
              <a:t>Aspirations toward space are not new.  Consider the worm that becomes a butterfly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1828800" y="1219320"/>
            <a:ext cx="640080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Arial Black"/>
              </a:rPr>
              <a:t>ANALO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9" name="Picture 8" descr="butterfly"/>
          <p:cNvPicPr/>
          <p:nvPr/>
        </p:nvPicPr>
        <p:blipFill>
          <a:blip r:embed="rId1"/>
          <a:srcRect l="1695" t="5169" r="5157" b="4313"/>
          <a:stretch/>
        </p:blipFill>
        <p:spPr>
          <a:xfrm>
            <a:off x="5176800" y="2743200"/>
            <a:ext cx="3160800" cy="3581280"/>
          </a:xfrm>
          <a:prstGeom prst="rect">
            <a:avLst/>
          </a:prstGeom>
          <a:ln w="0">
            <a:noFill/>
          </a:ln>
        </p:spPr>
      </p:pic>
      <p:pic>
        <p:nvPicPr>
          <p:cNvPr id="130" name="SNAKE CHARMER DANCE.WAV" descr=""/>
          <p:cNvPicPr/>
          <p:nvPr/>
        </p:nvPicPr>
        <p:blipFill>
          <a:blip r:embed="rId2"/>
          <a:stretch/>
        </p:blipFill>
        <p:spPr>
          <a:xfrm>
            <a:off x="43434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7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762120" y="335232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Something concrete, such as an object, action, character, or scene that stands for something abstract such as a concept or an idea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838080" y="685800"/>
            <a:ext cx="7543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YMBOL/SYMBOLISM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7720" y="30477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Do not go gentle into that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Tahoma"/>
              </a:rPr>
              <a:t>good nigh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Rage, Rage against the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Tahoma"/>
              </a:rPr>
              <a:t>dying of the light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6" name="WordArt 4"/>
          <p:cNvSpPr txBox="1"/>
          <p:nvPr/>
        </p:nvSpPr>
        <p:spPr>
          <a:xfrm>
            <a:off x="838080" y="685800"/>
            <a:ext cx="7543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YMBOL/SYMBOLISM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7" name="Picture 5" descr="peir11"/>
          <p:cNvPicPr/>
          <p:nvPr/>
        </p:nvPicPr>
        <p:blipFill>
          <a:blip r:embed="rId3"/>
          <a:stretch/>
        </p:blipFill>
        <p:spPr>
          <a:xfrm>
            <a:off x="1600200" y="4275000"/>
            <a:ext cx="6095880" cy="2116440"/>
          </a:xfrm>
          <a:prstGeom prst="rect">
            <a:avLst/>
          </a:prstGeom>
          <a:ln w="0">
            <a:noFill/>
          </a:ln>
        </p:spPr>
      </p:pic>
      <p:sp>
        <p:nvSpPr>
          <p:cNvPr id="258" name="Comment 6"/>
          <p:cNvSpPr/>
          <p:nvPr/>
        </p:nvSpPr>
        <p:spPr>
          <a:xfrm>
            <a:off x="23760" y="15840"/>
            <a:ext cx="2923920" cy="707760"/>
          </a:xfrm>
          <a:prstGeom prst="rect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h phrases are symbols tha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 for death.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The main idea or underlying meaning of a literary work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0" name="WordArt 4"/>
          <p:cNvSpPr txBox="1"/>
          <p:nvPr/>
        </p:nvSpPr>
        <p:spPr>
          <a:xfrm>
            <a:off x="2286000" y="914400"/>
            <a:ext cx="48006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EM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5333760" y="2666880"/>
            <a:ext cx="3352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Don’t judge a man until you’ve walked a mile in his shoes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2" name="WordArt 4"/>
          <p:cNvSpPr txBox="1"/>
          <p:nvPr/>
        </p:nvSpPr>
        <p:spPr>
          <a:xfrm>
            <a:off x="2209680" y="533520"/>
            <a:ext cx="48006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EM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3" name="Picture 5" descr="9-01_Mockingbird"/>
          <p:cNvPicPr/>
          <p:nvPr/>
        </p:nvPicPr>
        <p:blipFill>
          <a:blip r:embed="rId1"/>
          <a:stretch/>
        </p:blipFill>
        <p:spPr>
          <a:xfrm>
            <a:off x="685800" y="2712960"/>
            <a:ext cx="4724280" cy="3730680"/>
          </a:xfrm>
          <a:prstGeom prst="rect">
            <a:avLst/>
          </a:prstGeom>
          <a:ln w="0">
            <a:noFill/>
          </a:ln>
        </p:spPr>
      </p:pic>
      <p:pic>
        <p:nvPicPr>
          <p:cNvPr id="264" name="MYSTERIOUS 3.WAV" descr=""/>
          <p:cNvPicPr/>
          <p:nvPr/>
        </p:nvPicPr>
        <p:blipFill>
          <a:blip r:embed="rId2"/>
          <a:stretch/>
        </p:blipFill>
        <p:spPr>
          <a:xfrm>
            <a:off x="4876920" y="7238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1" dur="1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09120" y="33523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cc"/>
                </a:solidFill>
                <a:latin typeface="Tahoma"/>
              </a:rPr>
              <a:t>Comparing two very dissimilar things.  Usually involves cleverness and ingenuity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6" name="WordArt 4"/>
          <p:cNvSpPr txBox="1"/>
          <p:nvPr/>
        </p:nvSpPr>
        <p:spPr>
          <a:xfrm>
            <a:off x="1676520" y="609480"/>
            <a:ext cx="61722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CONCEI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761760" y="3200400"/>
            <a:ext cx="38862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Our love is like parallel lines”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8" name="WordArt 4"/>
          <p:cNvSpPr txBox="1"/>
          <p:nvPr/>
        </p:nvSpPr>
        <p:spPr>
          <a:xfrm>
            <a:off x="1676520" y="609480"/>
            <a:ext cx="61722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CONCEI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69" name="Picture 5" descr="lines5"/>
          <p:cNvPicPr/>
          <p:nvPr/>
        </p:nvPicPr>
        <p:blipFill>
          <a:blip r:embed="rId1"/>
          <a:stretch/>
        </p:blipFill>
        <p:spPr>
          <a:xfrm>
            <a:off x="4995720" y="3200400"/>
            <a:ext cx="3386160" cy="3124080"/>
          </a:xfrm>
          <a:prstGeom prst="rect">
            <a:avLst/>
          </a:prstGeom>
          <a:ln w="0">
            <a:noFill/>
          </a:ln>
        </p:spPr>
      </p:pic>
      <p:sp>
        <p:nvSpPr>
          <p:cNvPr id="270" name="Comment 6"/>
          <p:cNvSpPr/>
          <p:nvPr/>
        </p:nvSpPr>
        <p:spPr>
          <a:xfrm>
            <a:off x="20520" y="15840"/>
            <a:ext cx="2457720" cy="862560"/>
          </a:xfrm>
          <a:prstGeom prst="rect">
            <a:avLst/>
          </a:prstGeom>
          <a:solidFill>
            <a:srgbClr val="0099cc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lso a simile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762120" y="3505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A term naming an object is substituted for another word with which it is closely associated with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2" name="WordArt 4"/>
          <p:cNvSpPr txBox="1"/>
          <p:nvPr/>
        </p:nvSpPr>
        <p:spPr>
          <a:xfrm>
            <a:off x="1143000" y="533520"/>
            <a:ext cx="716292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ETONYMY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3520" y="3352320"/>
            <a:ext cx="4572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Only through the </a:t>
            </a:r>
            <a:r>
              <a:rPr b="0" lang="en-US" sz="4400" spc="-1" strike="noStrike" u="sng">
                <a:solidFill>
                  <a:srgbClr val="f8f8f8"/>
                </a:solidFill>
                <a:uFillTx/>
                <a:latin typeface="Tahoma"/>
              </a:rPr>
              <a:t>sweat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 of your brow can you achieve success”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4" name="WordArt 4"/>
          <p:cNvSpPr txBox="1"/>
          <p:nvPr/>
        </p:nvSpPr>
        <p:spPr>
          <a:xfrm>
            <a:off x="1143000" y="533520"/>
            <a:ext cx="71629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ETONYMY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75" name="Picture 6" descr="lance"/>
          <p:cNvPicPr/>
          <p:nvPr/>
        </p:nvPicPr>
        <p:blipFill>
          <a:blip r:embed="rId1"/>
          <a:stretch/>
        </p:blipFill>
        <p:spPr>
          <a:xfrm>
            <a:off x="5334120" y="2819520"/>
            <a:ext cx="2971800" cy="3606840"/>
          </a:xfrm>
          <a:prstGeom prst="rect">
            <a:avLst/>
          </a:prstGeom>
          <a:ln w="0">
            <a:noFill/>
          </a:ln>
        </p:spPr>
      </p:pic>
      <p:sp>
        <p:nvSpPr>
          <p:cNvPr id="276" name="Comment 8"/>
          <p:cNvSpPr/>
          <p:nvPr/>
        </p:nvSpPr>
        <p:spPr>
          <a:xfrm>
            <a:off x="26640" y="15840"/>
            <a:ext cx="2829240" cy="707760"/>
          </a:xfrm>
          <a:prstGeom prst="rect">
            <a:avLst/>
          </a:prstGeom>
          <a:solidFill>
            <a:srgbClr val="ffcc00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eat” stands for hard work.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A pair of rhymed verse lines that contain a complete thought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8" name="WordArt 4"/>
          <p:cNvSpPr txBox="1"/>
          <p:nvPr/>
        </p:nvSpPr>
        <p:spPr>
          <a:xfrm>
            <a:off x="762120" y="762120"/>
            <a:ext cx="67053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HEROIC COUPLE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895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ut if the while I think on thee, dear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friend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ll losses are restor’d and sorrow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end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”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80" name="WordArt 4"/>
          <p:cNvSpPr txBox="1"/>
          <p:nvPr/>
        </p:nvSpPr>
        <p:spPr>
          <a:xfrm>
            <a:off x="762120" y="762120"/>
            <a:ext cx="67053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HEROIC COUPLE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81" name="Picture 5" descr="friends"/>
          <p:cNvPicPr/>
          <p:nvPr/>
        </p:nvPicPr>
        <p:blipFill>
          <a:blip r:embed="rId1"/>
          <a:stretch/>
        </p:blipFill>
        <p:spPr>
          <a:xfrm>
            <a:off x="2209680" y="4038480"/>
            <a:ext cx="480060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ff"/>
                </a:solidFill>
                <a:latin typeface="Tahoma"/>
              </a:rPr>
              <a:t>A direct comparison between two basically different things.  A simile is introduced by the words “like” or “as”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2514600" y="914400"/>
            <a:ext cx="4343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IMI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371240" y="2971800"/>
            <a:ext cx="2895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My love is like a red, red rose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2514600" y="914400"/>
            <a:ext cx="4343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IMI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35" name="Object 6" descr=""/>
          <p:cNvPicPr/>
          <p:nvPr/>
        </p:nvPicPr>
        <p:blipFill>
          <a:blip r:embed="rId1"/>
          <a:stretch/>
        </p:blipFill>
        <p:spPr>
          <a:xfrm>
            <a:off x="5334120" y="2590920"/>
            <a:ext cx="2716200" cy="3798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An implied comparison between two basically different things.  Is not introduced with the words “like” or “as”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7" name="WordArt 4"/>
          <p:cNvSpPr txBox="1"/>
          <p:nvPr/>
        </p:nvSpPr>
        <p:spPr>
          <a:xfrm>
            <a:off x="1981080" y="990720"/>
            <a:ext cx="53341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METAPH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27432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His eyes were daggers that cut right through me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9" name="WordArt 4"/>
          <p:cNvSpPr txBox="1"/>
          <p:nvPr/>
        </p:nvSpPr>
        <p:spPr>
          <a:xfrm>
            <a:off x="1981080" y="990720"/>
            <a:ext cx="53341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METAPH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40" name="Picture 5" descr="angryface"/>
          <p:cNvPicPr/>
          <p:nvPr/>
        </p:nvPicPr>
        <p:blipFill>
          <a:blip r:embed="rId3"/>
          <a:stretch/>
        </p:blipFill>
        <p:spPr>
          <a:xfrm>
            <a:off x="5334120" y="2819520"/>
            <a:ext cx="2377800" cy="3581280"/>
          </a:xfrm>
          <a:prstGeom prst="rect">
            <a:avLst/>
          </a:prstGeom>
          <a:ln w="0">
            <a:noFill/>
          </a:ln>
        </p:spPr>
      </p:pic>
      <p:pic>
        <p:nvPicPr>
          <p:cNvPr id="141" name="BACH - PHANTOM OF THE OPERA.WAV" descr=""/>
          <p:cNvPicPr/>
          <p:nvPr/>
        </p:nvPicPr>
        <p:blipFill>
          <a:blip r:embed="rId4"/>
          <a:stretch/>
        </p:blipFill>
        <p:spPr>
          <a:xfrm>
            <a:off x="45720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01:54:09Z</dcterms:created>
  <dc:creator>NNTC</dc:creator>
  <dc:description/>
  <dc:language>en-US</dc:language>
  <cp:lastModifiedBy>RomaK</cp:lastModifiedBy>
  <dcterms:modified xsi:type="dcterms:W3CDTF">2015-09-04T10:37:17Z</dcterms:modified>
  <cp:revision>45</cp:revision>
  <dc:subject/>
  <dc:title>POETIC TERMS</dc:title>
</cp:coreProperties>
</file>