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0525-1523-4659-86D2-ACDE37C4DE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try 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your own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ptive term used to characterize a person or a 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9CD-9577-42BF-AB97-554319DA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08F-EA0C-425C-82CD-D9D24482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787-8BEF-47FF-A9B4-4314BCE5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FE5-AB84-4077-8169-25611481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7733-1279-4D96-8F62-89A4504B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4E64-5704-4028-9F05-70AA8B3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EEDD5-9902-4006-9701-E91EF0AE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BC47-5A1A-4B24-B552-4E852223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E6EB-A0C2-4AFA-9C61-26A8F92D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6DBE-750A-4B3B-97D0-9C1A4EB9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8650-FC33-4B41-8331-BDECCEA8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E755-D8E4-45CE-A8D0-5ADB332F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AA9D-1978-4B48-B13D-30DFE307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94AF-B215-4B9B-BAC8-F76F40A0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EF4B-5A11-4C19-85A3-5CA1A59B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0CFB-B660-43FC-A923-322A27D9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1CFC-CC61-4B98-B018-F07CAC46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F7256-C1C1-4843-9FB1-BB17B98A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82F3-3ADA-409A-86F0-B265FA5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B069-C198-4A2D-815E-831EEF1E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1C63-45B1-45A2-8E62-9B3878F8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CF3C7-190C-4D19-A817-D0B46FB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71F-0C56-46F0-8094-9EC61221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7D467-1D8C-41E0-983F-651B2DC5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C3CA7-AF7D-44EC-B5F1-A638C64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49482-847F-4D04-BB5A-BB52C38F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23BCF-822C-487C-8C4A-1C667E4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10FEC-020A-437C-8732-C7AB5938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8DE9E-35CC-491C-B110-25D17DC0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5BEE-9F0D-4693-997F-63927BC2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B9C48-8A06-4A12-97F5-83CA6A22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28E6-E396-4B93-B8F2-4A246FE3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538AE-E4CD-44E6-8E97-2D81E628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371-1ECD-47FD-AC71-4975E987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FB090-CAD9-4908-80D5-AEFA9EEF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12342-DE9E-4A34-922E-66153FF0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B5AB-95DC-4FE6-8430-421C68C1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3E90-E17D-49D3-8A48-360372D7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6839-A910-45D7-B366-0875D0E1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91A7-5C37-4FC3-88C3-F29B4290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CCC70-E0AF-4391-8B2B-F74E9EF5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5DCD-3C2A-4CB7-A8DC-4B66AC3F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3CA27-C479-491C-92AC-626A7090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17941-1E8E-4E28-B5C2-423F4E37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10EC-3958-47EC-86EA-25D6199D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69D29-95F7-46D1-BE3D-1A85A6E4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B2656-21ED-4550-B5B7-000A5C61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DD59-F6DD-49C7-8B48-08F0CB53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1DB4-7513-4D97-BF26-79377D25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3D53-372E-40BD-842C-0D3828E0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3C70C-915E-4C11-B477-48D4EF3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45940-3C40-48B1-9C94-6EAEE82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51C8F-38CC-4D44-A812-A858619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DD85-3DA9-430B-8162-C42122DD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BADD-B872-4586-8B4B-0545D029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36D-C79D-4DC8-853C-AF3E21FE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21245-73FA-48EF-9EE5-DFE148BA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B8E95-F717-478F-9C01-C2B22742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CBA70-ED28-4DA8-8CC2-F93A5D6A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9281-6285-4754-8BC1-4E09DC1E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530EE-ABAD-431F-93DA-43A00529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CE1B1-1157-4DCA-95CA-BC42364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9F314-9A5A-4845-9D48-173537B4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B0360-55EE-4F31-97BB-4CDD7BA3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306D8-1075-47D8-977E-3EF8D63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EDF8A-9895-4DE8-9D0B-33060509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A9DA-0932-4420-B501-1292511B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8F71F-FDE7-4DE7-8BF0-9F240F9F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C32DC-6E0E-4DEB-BAB8-33C18753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9D6BD-A701-4194-96E2-931A62FD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56A-9ABE-4F45-BC5B-EB37BB4D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750-CA3C-418E-A6CE-0840BF21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C9C8-A3AB-4A40-B5C4-F05F0474088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935A-B225-4C46-B6EE-DD0C7CB39DA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4BCF-B0DD-4426-97C5-E2E9C9673BD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9109-F1DF-4876-88DA-76996F007A5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90B2-4DA9-45BC-8A00-F8B290BAAD0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A98F-661A-4FA4-BD92-915FAE0EE74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89040" y="2425680"/>
            <a:ext cx="7437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bald eagle symbolizes the United Stat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ven silver swans swam”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8080" y="23619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25146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viding human characteristics to a lifeless obj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(“This poetry gets bored of being alone, it wants to go outdoors to chew on the winds.” “Living Poetry” by Hugo Margen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088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8080" y="22860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36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2514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5142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using like or 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16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09480" y="76212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8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0880" y="20570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19807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owd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5800" y="2514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04920" y="762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800"/>
            </a:b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28600" y="4648320"/>
            <a:ext cx="7543800" cy="129528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17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28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52480" y="5335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61760" y="23619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198072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35160" indent="-306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word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g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mparison such as love “bursts into bloom.” It does no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 the comparis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38080" y="762120"/>
            <a:ext cx="7620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tory poem that often celebrates a hero or lege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dysseus or Her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3:43:08Z</dcterms:created>
  <dc:creator>Tiffany Hope</dc:creator>
  <dc:description/>
  <dc:language>en-US</dc:language>
  <cp:lastModifiedBy>RomaK</cp:lastModifiedBy>
  <dcterms:modified xsi:type="dcterms:W3CDTF">2015-09-04T10:37:33Z</dcterms:modified>
  <cp:revision>20</cp:revision>
  <dc:subject/>
  <dc:title>Slide 1</dc:title>
</cp:coreProperties>
</file>