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2F4-C87B-4024-A9AE-E91FE8CFAA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try 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your own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ptive term used to characterize a person or a 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35C-3313-4CB6-A8B5-3F210234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631-FC9C-41FF-9069-B97FD2E6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A6A-A752-4F6A-B5EE-5617311B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C56-9E5B-4B9D-8CB8-D6CC7E6B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DCC9-8D12-4E9A-AC66-FFE55733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8E53-09B3-47A0-B26B-042828B7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52CC-BABC-4AC9-9E4D-6BA0EA2A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82BF-3CC6-422E-AD4E-3FA9F32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E155-8CD1-49E2-A1E3-01D01A83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A522-E1B1-4479-B9FF-C0F0ED81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46B3-71B6-4013-97CB-14B215EF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D72-F776-4707-8130-10BB381C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0E28-2386-4E86-B973-53913097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DF85-D700-4D15-BD6F-12BF8B40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2125-1E0E-42E7-84E5-CA935C79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3B28-6913-4A60-831C-E3A87532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E75A-81DA-4958-AEB9-5E49BD46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9F5D2-7F5C-4B9F-95F2-73709DEC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DAE9-C010-4B8E-A510-EEBC9600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A239-E84E-45DF-9566-9681C62A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D07B-5174-406B-8F63-DB61DFB5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4469-0243-4A85-837F-D242097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2B3-A243-4E07-9C1A-0AF3D84D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1B7F-0B94-44C2-A150-9DDCA20D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E1EC-81B3-4AAE-92F6-396B550A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BCE5-470A-4E62-A888-609D8D0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F960-11A4-4BF2-AFF0-DA0DE742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7959-2E28-4D59-BD53-7D9AA611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2FF9-2E96-43C0-AD03-652EB00F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E2EB-5A06-4F63-BE02-41833136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A028-DF9E-4E78-A62C-CA6B0979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F6EEF-7998-4961-B556-9D052B8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E6A21-7114-48DB-A2E6-2E4978A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AF0-E0A1-47FE-A1E4-96F37540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24C0-7541-48E7-99C1-94BE18CE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7C8B-B46F-4BFD-B700-5D1123A3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9CC5-03FA-4122-BE1D-9A9A31EB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210E3-A3EC-4657-A201-28A5B6E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46FA-6B47-4E8F-A699-7E261F0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BFDC-5912-45A1-9C41-C0FB2D46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F59D-F1EA-4277-BD88-45B8EAAD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717E0-719E-484B-85FA-0AA3601E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09D2-97B7-4114-A9D5-C21C9D6E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0B30-B940-4A12-846A-AB4F656B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76D-5284-492A-B9EA-66112FEC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8570D-61CE-4179-A5F1-F5BA7926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7270-0874-4E15-A315-916AD9FE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0561-44E1-418B-A598-5A15CEAA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01F3-F7CD-486C-ACD4-8E2A5DFE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95AB-B16E-4FC7-ADB3-8FE332F9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3065-4097-48CA-B6F7-3F2AFAAA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5B86-EEA2-470A-B2C3-36D0936C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BB932-5A33-4749-B70E-5A8DF640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9CEA7-1B5E-4CF6-A29E-058E4670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F0725-21D4-45A9-9FB8-CAEA290F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77F-33F1-41AA-ACCD-85438013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3EE4-BDE0-46EC-B393-BC662FD9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A25A-4276-40C1-AB37-21351E64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46578-0E1E-4C8B-9AFC-826834C1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D3D0-D7B2-4C3A-B52A-B112D18E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3B7A1-EE4E-4442-B984-150784CE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0F01-D284-4877-99F8-9257F29C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D0660-7127-4C59-9380-FC3A1125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F06C1-AA92-46C9-B326-F2D58E2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13D6-8077-47C6-B7E5-D249AC7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784F-2C30-4D0C-A2A9-82D5FBFE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8EE-B4F8-4A13-990A-FDBA1498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A8FB-23B9-4ACB-BC17-773ADC1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0D380-BB3C-4514-BD15-2E588265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00408-FA0B-4A02-B5EB-73905D0E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A96-2451-44B1-A6C7-C72E326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31D-8427-45AD-8DAF-5AE7B33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B805-AAAC-4599-A7B4-AFF77CA99F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681-21BF-4FB7-B004-926DADB3488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BF2E-AFDC-41AA-85AA-F4A80BC3468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E050-28FD-4DF2-AF4C-8229F304CE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021-88EF-421E-B434-3DBD258485A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0AF2-C245-4CD0-A3D9-EDACBB49F2F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89040" y="2425680"/>
            <a:ext cx="7437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bald eagle symbolizes the United Stat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ven silver swans swam”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8080" y="23619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2514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viding human characteristics to a lifeless obj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(“This poetry gets bored of being alone, it wants to go outdoors to chew on the winds.” “Living Poetry” by Hugo Margen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088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80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36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2514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5142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using like or 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16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09480" y="7621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8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0880" y="20570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19807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owd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514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04920" y="762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800"/>
            </a:b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28600" y="4648320"/>
            <a:ext cx="7543800" cy="129528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17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28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52480" y="5335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61760" y="23619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19807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35160" indent="-306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word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mparison such as love “bursts into bloom.” It does no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 the comparis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762120"/>
            <a:ext cx="7620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tory poem that often celebrates a hero or leg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dysseus or Her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3:43:08Z</dcterms:created>
  <dc:creator>Tiffany Hope</dc:creator>
  <dc:description/>
  <dc:language>en-US</dc:language>
  <cp:lastModifiedBy>RomaK</cp:lastModifiedBy>
  <dcterms:modified xsi:type="dcterms:W3CDTF">2015-09-04T10:37:33Z</dcterms:modified>
  <cp:revision>20</cp:revision>
  <dc:subject/>
  <dc:title>Slide 1</dc:title>
</cp:coreProperties>
</file>