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0800-9386-4146-8FB4-610D2944D1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try 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your own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ptive term used to characterize a person or a 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F99-06CD-49D3-9CA7-B6B67FF1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9D5-E399-4EC0-A52D-08F96AF0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5D4-FA9A-4423-B290-45EEF070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2B3-A225-4CC0-96A1-7ED39460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40E8-BCE7-4A3E-8AFA-3D6E05B3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F825-93D2-4AFD-BE71-BEA71717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00AF-D545-4FDC-B871-1C108E75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411A-109E-492E-9178-C79D1241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8624-7ECE-4C91-B17C-632438DC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3A8B-015B-42E6-9743-DCC4E6AC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EBB8-1670-4D41-9F3B-4FB7E3D2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C75-6945-4EDA-AA79-AA910698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3018-978B-4F99-A9FF-8CF0FE2D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D738-B5C8-4D4D-BA41-056E8F0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A8CF-CDCF-4925-A4EE-696ED856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C3E0-77A0-4658-BF6D-72987773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C406-86E3-4D13-AB53-4ED16A4A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9089-8C7B-4091-96A1-1B8D5556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F2A6-2C9B-4800-B8CC-46C5DE73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9E0A-DD12-490B-955A-466120E3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620B-00A6-45DB-8FC9-AF6AC41E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567B-40E5-4EBD-B529-58AF7409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2DC-9BC3-40E4-9DCF-A8B5F73A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33858-CD50-4181-957F-05B89089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733E-1520-4F26-A5EE-9D626142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5054-9D80-4C2E-9A5C-36D3C7D0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759D-70F4-4593-AAE2-D0D88FF4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F18A-E18D-465A-BC64-84D5AE60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66AF-E599-4A67-9BA6-5A7E2BC9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7280-62A3-4D12-B0B1-11982F98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A4BB-82DD-4247-AEF6-87C277FA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4B45E-7C03-4166-9D88-4CAFB83B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A1302-800C-4851-8F6A-AFF98972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880-4CC4-4167-A20B-4D71826C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79F2-4215-4A6A-9414-F20B1C46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BA35-3FE2-4976-A2AD-125B4D10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56572-A5EC-4C5E-ABF2-FDBB5CFA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42A1-8DEB-4F71-894F-8E4F74DE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BCE59-FB5B-4AD1-8BFC-4B5F77EB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41ED0-0C6D-4C58-A345-95A56A8B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CFE86-F7B1-440E-8961-27507810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A487D-73B8-4085-B5EC-689BF9E5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35B47-2269-4EF2-9B52-4766F21E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43029-ACA7-42FD-A84D-91EB4B23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52B-0FCC-4496-9FB8-AADF043F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0D564-30D3-492A-B065-35C11A49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29BE2-26FA-4E1F-8827-9751DE9B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89C1-AE1D-479C-B9EE-D47FFF39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EDB71-490A-4231-8716-89F910D2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6DEA-A007-47FE-851A-C3F1D3F0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C5347-6F6E-40D0-843B-18E9EB11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D40D8-E58B-4A8D-8279-A96B72FD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D2539-00F2-4523-A97E-D643492F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8494D-9F29-42DA-AD13-4CC6F688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BDD86-DD79-42A9-9B6F-08744986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199-6B65-4985-93E0-DFD101A1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DED33-8B26-46AB-90A6-03B3F38E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044E2-7296-4658-A33D-046E9FAD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145E6-2E64-4C0F-A123-BBCC8CEC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2C3A0-B640-499E-9C52-7C3E2333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C8D4D-DC79-46AF-81F7-4027B0FE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DBAFA-3124-49F9-83B7-CD38F6A8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87724-26FF-4242-B6AF-65023E70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86BE1-5741-4190-BE18-E6444872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D0F09-601D-4A35-BD7D-978A1286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70952-C365-439B-AD53-7DEEC4AF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F9E-5637-40D1-A517-D6A8F943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7806B-5330-4A53-BF4F-FA77589F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354F-CFB1-4666-9523-33124357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357B0-7B34-401F-8346-2230C287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EAC-E5CA-4A1C-9538-3AE54F68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D29-CEE7-497E-A886-AC8DFC3D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275C-D01C-4DDB-A8DE-02261C7B63F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730E-AD50-4D82-ABE6-91363194AC3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9B83-FF38-40BE-94E5-192A64547C8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A6D9-4BA1-4D3D-ACEB-B59EB9707C7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BE05-0608-40FC-A3D2-D1BBC4E4E0B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3B89-A628-4485-A487-D26BAEA5EFD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689040" y="2425680"/>
            <a:ext cx="74372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bald eagle symbolizes the United State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ven silver swans swam”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8080" y="23619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25146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viding human characteristics to a lifeless objec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(“This poetry gets bored of being alone, it wants to go outdoors to chew on the winds.” “Living Poetry” by Hugo Margen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0880" y="762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8080" y="22860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-336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68640" indent="-336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8080" y="25142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219320" y="7621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51424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</a:t>
            </a: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without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using like or 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3160" y="18288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609480" y="76212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8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0880" y="20570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0720" y="19807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owd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85800" y="2514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04920" y="7621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800"/>
            </a:b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28600" y="4648320"/>
            <a:ext cx="7543800" cy="129528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617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28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52480" y="5335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61760" y="23619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198072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35160" indent="-306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word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g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mparison such as love “bursts into bloom.” It does no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te the comparis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38080" y="762120"/>
            <a:ext cx="7620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tory poem that often celebrates a hero or lege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dysseus or Her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80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3:43:08Z</dcterms:created>
  <dc:creator>Tiffany Hope</dc:creator>
  <dc:description/>
  <dc:language>en-US</dc:language>
  <cp:lastModifiedBy>RomaK</cp:lastModifiedBy>
  <dcterms:modified xsi:type="dcterms:W3CDTF">2015-09-04T10:37:33Z</dcterms:modified>
  <cp:revision>20</cp:revision>
  <dc:subject/>
  <dc:title>Slide 1</dc:title>
</cp:coreProperties>
</file>