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483B-CBFD-4CF3-A35F-96F7F3B512F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9FB-FC59-426E-A74C-96038F1E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BA0-03FC-4EBD-B51D-C07FFF71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4744-BA16-402D-B50D-F5C26C87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888E-632A-4F5E-B70A-2B806344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CC10-93DE-4863-B54F-EFE9AB1B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1E7-2FD1-44BC-9A4F-EF6D0861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1C2-BA72-4EC6-81DF-E070351C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026-8FC9-4005-A5CC-8BF98DBC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9DD7-7C83-410E-8018-F9AB2DD2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F90F-A7B7-49DD-829C-0183973A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729-F831-4477-960E-2ACA8360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30AA-6FE0-46CF-85CC-0751CBF7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6BA5-4B04-4F7C-B155-600489631E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and the Periodic Table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We can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assif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(arrange) elements in different ways:-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094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aturally occurring/made by scient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4343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solid/liquid/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562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etal/non-me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"/>
          <p:cNvPicPr/>
          <p:nvPr/>
        </p:nvPicPr>
        <p:blipFill>
          <a:blip r:embed="rId2"/>
          <a:stretch/>
        </p:blipFill>
        <p:spPr>
          <a:xfrm>
            <a:off x="480060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"/>
          <p:cNvPicPr/>
          <p:nvPr/>
        </p:nvPicPr>
        <p:blipFill>
          <a:blip r:embed="rId3"/>
          <a:stretch/>
        </p:blipFill>
        <p:spPr>
          <a:xfrm>
            <a:off x="624852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"/>
          <p:cNvPicPr/>
          <p:nvPr/>
        </p:nvPicPr>
        <p:blipFill>
          <a:blip r:embed="rId4"/>
          <a:stretch/>
        </p:blipFill>
        <p:spPr>
          <a:xfrm>
            <a:off x="7740720" y="4267080"/>
            <a:ext cx="1403280" cy="1051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"/>
          <p:cNvPicPr/>
          <p:nvPr/>
        </p:nvPicPr>
        <p:blipFill>
          <a:blip r:embed="rId5"/>
          <a:stretch/>
        </p:blipFill>
        <p:spPr>
          <a:xfrm>
            <a:off x="5029200" y="5486400"/>
            <a:ext cx="1447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"/>
          <p:cNvPicPr/>
          <p:nvPr/>
        </p:nvPicPr>
        <p:blipFill>
          <a:blip r:embed="rId6"/>
          <a:stretch/>
        </p:blipFill>
        <p:spPr>
          <a:xfrm>
            <a:off x="6705720" y="5486400"/>
            <a:ext cx="144756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"/>
          <p:cNvPicPr/>
          <p:nvPr/>
        </p:nvPicPr>
        <p:blipFill>
          <a:blip r:embed="rId7"/>
          <a:stretch/>
        </p:blipFill>
        <p:spPr>
          <a:xfrm>
            <a:off x="4952880" y="266688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0492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400800" y="15238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04000" y="1773360"/>
            <a:ext cx="213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O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2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553080" y="25909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227640" y="2565360"/>
            <a:ext cx="381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516720" y="31417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396252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3851280" y="1557360"/>
            <a:ext cx="2397240" cy="1951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995640" y="2924280"/>
            <a:ext cx="208908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4716360" y="3573360"/>
            <a:ext cx="1800360" cy="7192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685800" y="46483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–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mor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5562720" y="2742840"/>
            <a:ext cx="2590560" cy="20574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Isotop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Isotopes are: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toms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 element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which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different mass number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due to </a:t>
            </a:r>
            <a:r>
              <a:rPr b="1" lang="en-GB" sz="3600" spc="-1" strike="noStrike">
                <a:solidFill>
                  <a:srgbClr val="ab04cc"/>
                </a:solidFill>
                <a:latin typeface="Times New Roman"/>
              </a:rPr>
              <a:t>different numbers of neutron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n each nucleu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Most elements exist as 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mixture of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, e.g.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116000" y="51562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6765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116000" y="587700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508720" y="515628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0199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5508720" y="5877000"/>
            <a:ext cx="76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Relative atomic mas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relative atomic mas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an element is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average mass of all the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at element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relative atomic mass of chlorine is 35.5. 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71640" y="3860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55088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990720" y="4724280"/>
            <a:ext cx="76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435640" y="3860640"/>
            <a:ext cx="89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594360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5410080" y="4724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80880" y="54100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so the isotope of mass 35 is present in the largest quant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-1000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of th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lists the chemical elements in increasing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atomic number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arranges elements with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chemical properties in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s (vertical columns)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All the elements in a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chemical properti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as they have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ame number of outer electron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87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 of the element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s a useful way of classifying the elements.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vertical column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elements in the periodic table is called a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elements in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have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imilar chemical propertie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are a group of very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unreactiv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62" name="Picture 1033" descr=""/>
          <p:cNvPicPr/>
          <p:nvPr/>
        </p:nvPicPr>
        <p:blipFill>
          <a:blip r:embed="rId1"/>
          <a:stretch/>
        </p:blipFill>
        <p:spPr>
          <a:xfrm>
            <a:off x="8317080" y="1484280"/>
            <a:ext cx="68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s of elements have names: –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7621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1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21337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Between groups 2 and 3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28600" y="36576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7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8461440" y="0"/>
            <a:ext cx="682560" cy="2428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4724280" y="365760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0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5791320" y="5045040"/>
            <a:ext cx="1828800" cy="1812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4572000" y="609480"/>
            <a:ext cx="1676520" cy="1273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4"/>
          <a:stretch/>
        </p:blipFill>
        <p:spPr>
          <a:xfrm>
            <a:off x="6553080" y="2209680"/>
            <a:ext cx="1905120" cy="1465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5"/>
          <a:stretch/>
        </p:blipFill>
        <p:spPr>
          <a:xfrm>
            <a:off x="685800" y="4952880"/>
            <a:ext cx="2819520" cy="2133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5"/>
          <p:cNvSpPr/>
          <p:nvPr/>
        </p:nvSpPr>
        <p:spPr>
          <a:xfrm>
            <a:off x="324000" y="134136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alkali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80880" y="270828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transition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611280" y="4221000"/>
            <a:ext cx="373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halo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4788000" y="422100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Every element is made up of very small particles called 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5438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0" y="1773360"/>
            <a:ext cx="9144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of different elements have a different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umber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alled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ic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357336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have a very small,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l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,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with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ly 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outside the nucleu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energy leve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every atom (except hydrogen) contai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two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particles: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0" y="256536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eu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no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0" y="38098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In </a:t>
            </a:r>
            <a:r>
              <a:rPr b="1" lang="en-GB" sz="4000" spc="-1" strike="noStrike">
                <a:solidFill>
                  <a:srgbClr val="ab04cc"/>
                </a:solidFill>
                <a:latin typeface="Times New Roman"/>
              </a:rPr>
              <a:t>energy level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utside the nucleus we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0" y="18032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rot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+ve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0" y="5105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–ve charge / mas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   1/2000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are neutral because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is equal to all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dded together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581280" y="2438280"/>
            <a:ext cx="3353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581280" y="2971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286000" y="43434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ositive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2268360" y="2781360"/>
            <a:ext cx="1371600" cy="763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1676520" y="3276720"/>
            <a:ext cx="685800" cy="761760"/>
          </a:xfrm>
          <a:prstGeom prst="line">
            <a:avLst/>
          </a:prstGeom>
          <a:ln w="1260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286000" y="38862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rot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376200" y="4937040"/>
            <a:ext cx="876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tom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  <a:ea typeface="Times New Roman"/>
              </a:rPr>
              <a:t> are neutral because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number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of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  <a:ea typeface="Times New Roman"/>
              </a:rPr>
              <a:t>prot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nd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r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equal - the opposite charges canc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ato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443640" y="249228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129528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7010280" y="2362320"/>
            <a:ext cx="1440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443640" y="3284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28195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156360" y="328464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6443640" y="400536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0" y="41148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5076720" y="2205000"/>
            <a:ext cx="1371600" cy="4572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851280" y="3141720"/>
            <a:ext cx="2592360" cy="35856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4788000" y="4368600"/>
            <a:ext cx="1671480" cy="6804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0" y="48769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have no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, the number of electro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is the sam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s the number of protons. This atom has 17 electr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2860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372360" y="1628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877080" y="1773360"/>
            <a:ext cx="226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Na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43640" y="2492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084720" y="2492280"/>
            <a:ext cx="381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443640" y="3068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3860640"/>
            <a:ext cx="5181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3492360" y="1557360"/>
            <a:ext cx="2808360" cy="3589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3851280" y="2924280"/>
            <a:ext cx="216072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4788000" y="3500280"/>
            <a:ext cx="1655640" cy="6480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1066680" y="4648320"/>
            <a:ext cx="8077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+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les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V="1">
            <a:off x="4495680" y="2590920"/>
            <a:ext cx="4191120" cy="22096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02:03:51Z</dcterms:created>
  <dc:creator>Brouchamp Xavier</dc:creator>
  <dc:description/>
  <dc:language>en-US</dc:language>
  <cp:lastModifiedBy>RomaK</cp:lastModifiedBy>
  <dcterms:modified xsi:type="dcterms:W3CDTF">2015-09-01T16:17:06Z</dcterms:modified>
  <cp:revision>118</cp:revision>
  <dc:subject/>
  <dc:title>Atoms and the periodic table</dc:title>
</cp:coreProperties>
</file>