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673F-73EB-4176-8CA5-80018801A3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5C0-2972-41A2-AAD5-C86B8EF1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EC4-E07B-4459-96AC-DD9F2618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EDB-2070-455B-818D-42BB1B1A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395-70DD-4E74-B655-E7B5D490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0E81-5E28-41C4-AC99-7020B1A7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0CE7-CD70-4773-A41B-8B2F7E67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0346-42D1-4746-8562-EC0080A3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71CA-DD54-4189-9064-1F9200BA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A29B-B0FF-4D47-B512-FD2144B4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B886-212D-45FF-9FA1-06CB437C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00B0-8974-4F6C-9484-EF667BF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6FB-7F84-4C68-A083-EC37AA39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0E3A-4353-4989-87A4-C65527ED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C87B-19E9-4F8E-9F1A-B1353A61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4996-CB41-4A5E-B2CC-AE9B1F3F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D716-03C9-4671-9D32-7843DF58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4004-8FA2-4E03-AF1E-45B7C1ED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4CD-D8BF-427C-BD64-302207A8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AA7-93DC-4A35-8545-D3A7CF9D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0CF-301B-4FAC-8BA8-E6CF638D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74C-6135-4CCB-A363-2DCAA44D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1B0-0D04-43AE-9D7F-FA852FEA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673-2AEE-40BD-B879-43A40CFF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FB4-EAB7-4311-9902-5EC7F1BD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3119-DEB2-4063-B05C-EF147C602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2666-989E-4141-B9E4-206BEE13D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8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RomaK</cp:lastModifiedBy>
  <dcterms:modified xsi:type="dcterms:W3CDTF">2015-09-04T10:37:44Z</dcterms:modified>
  <cp:revision>12</cp:revision>
  <dc:subject/>
  <dc:title>Poetry</dc:title>
</cp:coreProperties>
</file>