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gif" ContentType="image/gi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70C5-0876-403B-8C11-82D2716261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hythm &amp; Rhy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ing more spirited language makes humorous situations even more humoro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orcupine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Ogden Nas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y hound a porcupine nudg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’t be blamed for harboring grudg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know one hound that laughed all wi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a porcupine that sat on a splin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hythm &amp; Rh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ing more spirited language makes humorous situations even more humor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orcupi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Ogden N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y hound a porcupine n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’t be blamed for harboring grud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know one hound that laughed all 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a porcupine that sat on a spli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take away the rhythm and rhyme, the humor vanish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hound that touches a porcup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be blamed for holding a grud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now one hound that laughed all winter lo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 porcupine that sat on a piece of w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take away the rhythm and rhyme, the humor vanis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hound that touches a porcup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be blamed for holding a gru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now one hound that laughed all winter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 porcupine that sat on a piece of w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Carrol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32-189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in En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Alice’s Adventures in Wonder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Through the Looking Gla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life was quiet and uneventful, but in works like Father William, he found escape from his serious work into a delightfully zany, topsy-turvy world that still amuses children old and you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Carrol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32-18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in En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Alice’s Adventures in Wonder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Through the Looking G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life was quiet and uneventful, but in works like Father William, he found escape from his serious work into a delightfully zany, topsy-turvy world that still amuses children old and you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William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0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poem, a young man questions his father about some rather unusual behavi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ever asked someone what they were doing and received an explanation that made very little sense at all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William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poem, a young man questions his father about some rather unusual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ever asked someone what they were doing and received an explanation that made very little sense at 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merick is a poem of five l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, second, and fifth lines have three rhythmic beats and rhyme with one ano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rd and fourth lines have two beats and rhyme with one ano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ways light-hearted, humorous poe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merick is a poem of five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, second, and fifth lines have three rhythmic beats and rhyme with one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rd and fourth lines have two beats and rhyme with one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ways light-hearted, humorous po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with no hai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ave everyone quite a scar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ot some Rogaine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out a mane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now he resembles a bear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with no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ave everyone quite a sc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ot some Roga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out a ma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now he resembles a bea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 About a Be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sh that my room had a floor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n’t care so much for a do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is walking arou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ouching the grou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etting to be quite a bor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 About a B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sh that my room had a floo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n’t care so much for a do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is walking a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ouching th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etting to be quite a b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Limeri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very small mou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lived in a very small house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cean’s spr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hed it awa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at was left was her blous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Lime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very small m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lived in a very small hous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cean’s sp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hed it awa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at was left was her blous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create a limerick similar to this one…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from Beij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his life he hoped to be K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e put on a crown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quickly fell dow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mall silly man from Beij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create a limerick similar to this o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from Beij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his life he hoped to be 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e put on a crow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quickly fell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mall silly man from Beij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blanks and create your own Limerick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_____ from _____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while she/he hoped ________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she/he ____________________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________________________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_________ from ___________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blanks and create your own Limer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_____ from 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while she/he hoped 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she/he ____________________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________________________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_________ from 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tera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 of initial consonant sou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us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erence to a well-known person, place, event, literary work, or work of a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ad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ng-like poem that tells a s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nk Vers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written in unrhymed, ten-syllable l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te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 of initial consonant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u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erence to a well-known person, place, event, literary work, or work of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ng-like poem that tells a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nk Ver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written in unrhymed, ten-syllable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. Smith’s Limerick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from Japa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while he hoped for a ta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e lay on the beach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te a ripe peach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came from a Georgia va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. Smith’s Limeri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from Jap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while he hoped for a t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e lay on the beac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te a ripe peac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came from a Georgia v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Poe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em with a shape that suggests its subje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ative Languag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that is not meant to be taken literal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Vers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not written in a regular rhythmical pattern or 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ku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hree-lined Japanese ver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Po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em with a shape that suggests its su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ative Langu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that is not meant to be taken liter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Ver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not written in a regular rhythmical pattern or 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k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hree-lined Japanese 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d or phrase that appeals to one or more of the five sen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ric Poe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musical verse that expresses the observations and feelings of a single speak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gure of speech in which something is described as though it were something el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d or phrase that appeals to one or more of the five s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ric Po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musical verse that expresses the observations and feelings of a single 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gure of speech in which something is described as though it were something 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created in the reader by a literary wor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ative Poe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ory told in ver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omatopoeia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words that imitate sou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ifica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figurative language in which a non-human subject is given human characteristi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created in the reader by a literar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ative Po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ory told in 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omatopoe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words that imitate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if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figurative language in which a non-human subject is given human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i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ly repeated line or group of lines in a po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, more than once, of any element of langu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 of sounds at the end of wor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 Sche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 pattern of rhyming words in a po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ly repeated line or group of lines in a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, more than once, of any element of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 of sounds at the end of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 Sche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 pattern of rhyming words in a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of beats or stresses in spoken or written langu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gure of speech that uses like or as to make a direct comparison between two unlike ide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za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rmal division of lines in a poem considered as a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love is like a red ro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of beats or stresses in spoken or written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gure of speech that uses like or as to make a direct comparison between two unlike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z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rmal division of lines in a poem considered as a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love is like a red r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or &amp; Poet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or &amp;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in poetry can arise from a number of sourc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pri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gge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ing together of unrelated thi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unny poems have two things in comm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in poetry can arise from a number of sou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gg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ing together of unrelated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unny poems have two things in comm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8AE7-0369-4654-8E71-EA6932F49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5363-A249-4377-BC4A-373F0475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6B0C-66F9-47AA-B6A1-5AEA8193E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919E-73EC-48A1-B380-D4595DCC5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F190-0049-499E-97B9-F71FD0FC9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FD87-FC67-4ED9-A2E2-976219FA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AC59-EDA8-483B-8F54-B4C6D5AA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7F4A-A7F7-4DD5-87A3-029A9816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D88D-D0FC-4B72-AE7C-91F3AD3B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4C79-D738-46C6-9AC3-456DCD62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8700-C979-4863-A691-219C8800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C0D5-5031-4486-BBBF-9F407067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E187-442F-468E-AD8C-7022D766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CAFD-3E05-47AB-B3CC-C3CF4EE6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65D2-ADFA-4079-84F3-A4F1F634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8EA6-7EC1-4C73-801A-56F21752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E641-83CC-4348-B3F5-5ABD8758E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ABAC-43C2-48A5-93A3-B1AAE15F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2163-9C07-4D23-AF88-DEA7F788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5AE6-7CC1-4BAC-AD51-4CBF36C3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DB00-1AD0-4A68-AA07-0B2B1866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CE39-F6A7-4AA2-B3B4-5B15AF26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3F60-1E2C-4B1A-B546-A154B990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650F-9213-4C9F-8C68-7BC90ED1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4B38-1CA2-4B81-A4FD-6718BC0F7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7815-1C9C-48CD-A1C4-0003CA3E7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hythm &amp; Rhy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more spirited language makes humorous situations even more humoro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143000" y="2057040"/>
            <a:ext cx="6934320" cy="34290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he Porcupine”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By Ogden Nash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hound a porcupine nud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’t be blamed for harboring grudg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know one hound that laughed all win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a porcupine that sat on a splin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76680" y="15228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take away the rhythm and rhyme, the humor vanish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467480" cy="34290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y hound that touches a porcup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’t be blamed for holding a grud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know one hound that laughed all winter lo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a porcupine that sat on a piece of wo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wis Carroll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832-1898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rn in Engl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ot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lice’s Adventures in Wonderl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ot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hrough the Looking Gla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s life was quiet and uneventful, but in works lik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Father Willia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he found escape from his serious work into a delightfully zany, topsy-turvy world that still amuses children old and you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ther William”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age 4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is poem, a young man questions his father about some rather unusual behavi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you ever asked someone what they were doing and received an explanation that made very little sense at all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eric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limerick is a poem of five li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irst, second, and fifth lines have three rhythmic beats and rhyme with one ano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hird and fourth lines have two beats and rhyme with one ano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are always light-hearted, humorous poe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eric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086600" cy="36576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man with no hai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gave everyone quite a sca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got some Rogain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w out a man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now he resembles a bear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4" descr="j0336472"/>
          <p:cNvPicPr/>
          <p:nvPr/>
        </p:nvPicPr>
        <p:blipFill>
          <a:blip r:embed="rId1"/>
          <a:stretch/>
        </p:blipFill>
        <p:spPr>
          <a:xfrm>
            <a:off x="6553080" y="464832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erick About a B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6553080" cy="36576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ish that my room had a floor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don’t care so much for a do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this walking arou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out touching the grou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getting to be quite a bo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4" descr="j0304465"/>
          <p:cNvPicPr/>
          <p:nvPr/>
        </p:nvPicPr>
        <p:blipFill>
          <a:blip r:embed="rId1"/>
          <a:stretch/>
        </p:blipFill>
        <p:spPr>
          <a:xfrm rot="21444600">
            <a:off x="990720" y="4419720"/>
            <a:ext cx="758880" cy="9158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j0304465"/>
          <p:cNvPicPr/>
          <p:nvPr/>
        </p:nvPicPr>
        <p:blipFill>
          <a:blip r:embed="rId2"/>
          <a:stretch/>
        </p:blipFill>
        <p:spPr>
          <a:xfrm>
            <a:off x="6324480" y="4419720"/>
            <a:ext cx="758880" cy="915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Limeric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7010280" cy="289548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very small mou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o lived in a very small hous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cean’s spr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shed it away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at was left was her blous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4" descr="j0344852"/>
          <p:cNvPicPr/>
          <p:nvPr/>
        </p:nvPicPr>
        <p:blipFill>
          <a:blip r:embed="rId1"/>
          <a:stretch/>
        </p:blipFill>
        <p:spPr>
          <a:xfrm>
            <a:off x="533520" y="533520"/>
            <a:ext cx="1652400" cy="1382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will create a limerick similar to this one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312408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man from Beij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his life he hoped to be K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he put on a crown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quickly fell dow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small silly man from Beij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0228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ll in the blanks and create your own Limerick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327672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_____ from 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e while she/he hoped __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she/he ____________________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________________________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_________ from _____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lliter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tition of initial consonant soun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llus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ference to a well-known person, place, event, literary work, or work of a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Ball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ong-like poem that tells a sto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Blan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Ver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etry written in unrhymed, ten-syllable li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rs. Smith’s Limerick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32004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man from Jap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e while he hoped for a t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he lay on the beach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ate a ripe peach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came from a Georgia v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Concre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oe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em with a shape that suggests its subje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igurati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Langua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ing that is not meant to be taken literal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Ver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etry not written in a regular rhythmical pattern or me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Haik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three-lined Japanese ver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7720" y="304920"/>
            <a:ext cx="769644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Ima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word or phrase that appeals to one or more of the five sen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Lyri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oe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ly musical verse that expresses the observations and feelings of a single speak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etaph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igure of speech in which something is described as though it were something el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304920"/>
            <a:ext cx="746784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oo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eeling created in the reader by a literary 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Narrati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oe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tory told in ver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Onomatopoei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use of words that imitate soun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ersonific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type of figurative language in which a non-human subject is given human characteris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60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frai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gularly repeated line or group of lines in a po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peti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use, more than once, of any element of langu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hy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tition of sounds at the end of wo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hy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che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gular pattern of rhyming words in a po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440" y="304560"/>
            <a:ext cx="716292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hyth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ttern of beats or stresses in spoken or written langu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imi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that use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lik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make a direct comparison between two unlike ide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tanz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ormal division of lines in a poem considered as a un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66680" y="4038480"/>
            <a:ext cx="4038840" cy="474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Comic Sans MS"/>
              </a:rPr>
              <a:t>My love is like a red rose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4" descr="j0288858"/>
          <p:cNvPicPr/>
          <p:nvPr/>
        </p:nvPicPr>
        <p:blipFill>
          <a:blip r:embed="rId1"/>
          <a:stretch/>
        </p:blipFill>
        <p:spPr>
          <a:xfrm>
            <a:off x="5715000" y="3657600"/>
            <a:ext cx="1600200" cy="1309680"/>
          </a:xfrm>
          <a:prstGeom prst="rect">
            <a:avLst/>
          </a:prstGeom>
          <a:ln w="0">
            <a:noFill/>
          </a:ln>
        </p:spPr>
      </p:pic>
      <p:sp>
        <p:nvSpPr>
          <p:cNvPr id="168" name="Line 7"/>
          <p:cNvSpPr/>
          <p:nvPr/>
        </p:nvSpPr>
        <p:spPr>
          <a:xfrm>
            <a:off x="5105520" y="4343400"/>
            <a:ext cx="6094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umor &amp; Poet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um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510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umor in poetry can arise from a number of sourc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urpris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xagger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ringing together of unrelated thing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funny poems have two things in comm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hyth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hym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4" descr="j0078722"/>
          <p:cNvPicPr/>
          <p:nvPr/>
        </p:nvPicPr>
        <p:blipFill>
          <a:blip r:embed="rId1"/>
          <a:stretch/>
        </p:blipFill>
        <p:spPr>
          <a:xfrm>
            <a:off x="5791320" y="1600200"/>
            <a:ext cx="291600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21:46:37Z</dcterms:created>
  <dc:creator>Jessica Smith</dc:creator>
  <dc:description/>
  <dc:language>en-US</dc:language>
  <cp:lastModifiedBy>RomaK</cp:lastModifiedBy>
  <dcterms:modified xsi:type="dcterms:W3CDTF">2015-09-04T10:37:44Z</dcterms:modified>
  <cp:revision>12</cp:revision>
  <dc:subject/>
  <dc:title>Poetry</dc:title>
</cp:coreProperties>
</file>