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whoosh.wav" ContentType="audio/x-wav"/>
  <Override PartName="/ppt/media/camera.wav" ContentType="audio/x-wav"/>
  <Override PartName="/ppt/media/laser.wav" ContentType="audio/x-wav"/>
  <Override PartName="/ppt/media/carbrake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move the slide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9E3DB-3EEB-41F8-88F9-F9D9D522F0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e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ile Wothersp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etry 9-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oetr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aile Wotherspo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oetry 9-1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ondee (spondaic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a foot composed of stressed syll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‘       ‘       ‘        ‘      ‘       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, real, cool.  We left schoo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pondee (spondaic)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s a foot composed of stressed syllab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‘       ‘       ‘        ‘      ‘       ‘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e, real, cool.  We left school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yrrhi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unstressed followed by a stres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  *      *   ‘       *    *     *       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ir/return,/up the/high strand,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yrrhic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ree unstressed followed by a stress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*   *      *   ‘       *    *     *       ‘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t their/return,/up the/high strand,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er –  comes from the Greek term for mea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etry written in a regular pattern of stressed and unstressed syll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cognition and naming of broad wave patterns in lines of verse (like waves on the shore or the wave patterns of sounds in physic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trodu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ter –  comes from the Greek term for measu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oetry written in a regular pattern of stressed and unstressed syllab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recognition and naming of broad wave patterns in lines of verse (like waves on the shore or the wave patterns of sounds in physic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er continu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a succession of lines or sentences that have the same metrical pattern, but is not necessarily exactly rhythmically iden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es are repeated again and again in the same broad rhythmical patterns, creating a rhythmical un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:  “To this I witness call the fools of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die for goodness, who have lived for crime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ter continu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re are a succession of lines or sentences that have the same metrical pattern, but is not necessarily exactly rhythmically identic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nes are repeated again and again in the same broad rhythmical patterns, creating a rhythmical uni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g:  “To this I witness call the fools of Tim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ich die for goodness, who have lived for crime.”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etry has Feet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chnical meaning – has one stressed syllable and one or more unstressed syllables or has one unstressed syllable and one or more stressed syll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a measurable, patterned, conventional unit of poetic rhyth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on-technical meaning – connected to how we wal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and rhythm of steps equal to pattern and rhythm of po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hythm of music connected to movement of body and rhythmical pattern of mo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oetry has Feet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technical meaning – has one stressed syllable and one or more unstressed syllables or has one unstressed syllable and one or more stressed syllab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s a measurable, patterned, conventional unit of poetic rhyth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non-technical meaning – connected to how we wal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attern and rhythm of steps equal to pattern and rhythm of poem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hythm of music connected to movement of body and rhythmical pattern of mov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ans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ystem of using symbols to represent stressed and unstressed patterns in a poem in order to be able to “read” the po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s the broad wave pattern, but doesn’t define the individual wave or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cansion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system of using symbols to represent stressed and unstressed patterns in a poem in order to be able to “read” the poe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ives the broad wave pattern, but doesn’t define the individual wave or patter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ds of pattern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amb(ic) – unstressed syllable followed by a stressed syll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    ‘     *    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ay a cro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       ‘        *    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ok down on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Kinds of patterns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amb(ic) – unstressed syllable followed by a stressed syllab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*     ‘     *    ‘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way a crow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*        ‘        *    ‘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hook down on m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ochee(trochaic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essed followed by unstress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‘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  ‘   *   ‘      *       ‘     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upon a midnight dre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rochee(trochaic)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ressed followed by unstressed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‘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*   ‘   *   ‘      *       ‘     *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nce upon a midnight drear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pest (anapestic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two unstressed syllables followed by a stressed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   *     ‘     *     *         ‘        *     *   The Assyr/ ian came down/ like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‘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   *     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lf/ on the fold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apest (anapestic)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as two unstressed syllables followed by a stressed o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*    *     ‘     *     *         ‘        *     *   The Assyr/ ian came down/ like a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‘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*    *     ‘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olf/ on the fold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cty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stressed followed by two unstres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‘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 *    ‘   *  *     ‘     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ckory, dickory, do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actyl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ne stressed followed by two unstress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‘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*  *    ‘   *  *     ‘      **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ickory, dickory, doc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A32C-AE46-47C8-86A0-A9177671F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969F-E2F5-41F7-8DB9-FD02A9C62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0D66-EE27-4299-951E-AA10DFD44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BBD6-9158-48AF-AB3A-0B10417F2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82565-5900-4174-8A12-D5422FD1A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ED532-D60E-4B38-8132-C7A831CBB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A0D16-54C0-4587-A6C2-62C84D4A3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3F95D-0C9E-4054-913F-224E3908F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051D5-52C8-48D3-9DD8-9A1A05771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2D5EA-89F2-49CC-BE4A-86378485C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B727D-CDCA-4B2F-9977-3DA78578B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ADC3-DAC3-40D3-95A6-B846FEA90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02CE8-4AB4-4AE2-B1E6-25766F21D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BC0B7-852B-4104-99B3-701AD175B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8A43B-6027-40CC-8F29-59EA2517C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88B42-3124-41B1-86F4-6A0912ABC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16366-74B9-409C-8E23-09D6CD70A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65E7-F26D-4B05-A268-A0268C13A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F2FB-CC7D-4821-98B9-6FE748F06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6186-F71E-4E38-A930-8C6CC5A16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F4E0-E85A-41DE-96DD-1C455088F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73C9-2F6A-4E02-AA25-90BD904F5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8483-836C-4C50-ABF2-1540D4A06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8D98-C452-463D-8885-B78732C06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2AD19-92F0-481C-8EEC-53C34437689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2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Arc 3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5E565-8C51-40B1-A462-E33DF67DB0E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cc"/>
                </a:solidFill>
                <a:latin typeface="Arial Narrow"/>
              </a:rPr>
              <a:t>Poetry</a:t>
            </a:r>
            <a:endParaRPr b="1" lang="en-US" sz="6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191120" y="182880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ile Wotherspo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etry 9-1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8"/>
          <p:cNvSpPr/>
          <p:nvPr/>
        </p:nvSpPr>
        <p:spPr>
          <a:xfrm>
            <a:off x="3565440" y="2362320"/>
            <a:ext cx="5197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MS Sans Serif"/>
                <a:ea typeface="Times New Roman"/>
              </a:rPr>
              <a:t>Spondee (spondaic)</a:t>
            </a: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 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S Sans Serif"/>
                <a:ea typeface="Times New Roman"/>
              </a:rPr>
              <a:t>is a foot composed of stressed sylla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S Sans Serif"/>
                <a:ea typeface="Times New Roman"/>
              </a:rPr>
              <a:t> ‘       ‘       ‘        ‘      ‘       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S Sans Serif"/>
                <a:ea typeface="Times New Roman"/>
              </a:rPr>
              <a:t>We, real, cool.  We left school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3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8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3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MS Sans Serif"/>
                <a:ea typeface="Times New Roman"/>
              </a:rPr>
              <a:t>Pyrrhic</a:t>
            </a: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 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S Sans Serif"/>
                <a:ea typeface="Times New Roman"/>
              </a:rPr>
              <a:t>three unstressed followed by a stres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S Sans Serif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S Sans Serif"/>
                <a:ea typeface="Times New Roman"/>
              </a:rPr>
              <a:t>*   *      *   ‘       *    *     *       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S Sans Serif"/>
                <a:ea typeface="Times New Roman"/>
              </a:rPr>
              <a:t>At their/return,/up the/high strand,/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Introduction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meter –  comes from the Greek term for meas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poetry written in a regular pattern of stressed and unstressed sylla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he recognition and naming of broad wave patterns in lines of verse (like waves on the shore or the wave patterns of sounds in physic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Meter continued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here are a succession of lines or sentences that have the same metrical pattern, but is not necessarily exactly rhythmically identi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lines are repeated again and again in the same broad rhythmical patterns, creating a rhythmical un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g:  “To this I witness call the fools of 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Which die for goodness, who have lived for crime.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"/>
                <a:ea typeface="Times New Roman"/>
              </a:rPr>
              <a:t>Poetry has Feet</a:t>
            </a:r>
            <a:br>
              <a:rPr sz="4800"/>
            </a:b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819160" y="1447920"/>
            <a:ext cx="609588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he technical meaning – has one stressed syllable and one or more unstressed syllables or has one unstressed syllable and one or more stressed syll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s a measurable, patterned, conventional unit of poetic rhyth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he non-technical meaning – connected to how we wal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attern and rhythm of steps equal to pattern and rhythm of po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rhythm of music connected to movement of body and rhythmical pattern of mov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3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3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3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3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3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3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3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"/>
                <a:ea typeface="Times New Roman"/>
              </a:rPr>
              <a:t>Scansion</a:t>
            </a: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 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he system of using symbols to represent stressed and unstressed patterns in a poem in order to be able to “read” the po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gives the broad wave pattern, but doesn’t define the individual wave or patter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comic"/>
                <a:ea typeface="Times New Roman"/>
              </a:rPr>
              <a:t>Kinds of patterns</a:t>
            </a:r>
            <a:br>
              <a:rPr sz="4800"/>
            </a:b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amb(ic) – unstressed syllable followed by a stressed syl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*     ‘     *    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he way a crow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*        ‘        *    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hook down on m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75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75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75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75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75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75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75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75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75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75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"/>
                <a:ea typeface="Times New Roman"/>
              </a:rPr>
              <a:t>Trochee(trochaic) 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tressed followed by unstres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  ‘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*   ‘   *   ‘      *       ‘    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nce upon a midnight dre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3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3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3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"/>
                <a:ea typeface="Times New Roman"/>
              </a:rPr>
              <a:t>Anapest (anapestic)</a:t>
            </a: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 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ha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tw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unstressed syllables followed by a stressed 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*    *     ‘     *     *         ‘        *     *   The Assyr/ ian came down/ like 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‘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*    *     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wolf/ on the fold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4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3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3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3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3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3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3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3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3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"/>
                <a:ea typeface="Times New Roman"/>
              </a:rPr>
              <a:t>Dactyl 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ne stressed followed by two unstres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‘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*  *    ‘   *  *     ‘      *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S Sans Serif"/>
                <a:ea typeface="Times New Roman"/>
              </a:rPr>
              <a:t>Hickory, dickory, do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75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75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75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75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75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75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omaK</cp:lastModifiedBy>
  <dcterms:modified xsi:type="dcterms:W3CDTF">2015-09-04T10:38:00Z</dcterms:modified>
  <cp:revision>5</cp:revision>
  <dc:subject/>
  <dc:title>Poetry meter</dc:title>
</cp:coreProperties>
</file>