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camera.wav" ContentType="audio/x-wav"/>
  <Override PartName="/ppt/media/laser.wav" ContentType="audio/x-wav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D31A-49A7-4555-8727-56E1814EE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le Wothersp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9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le Wothersp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9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dee (spond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oot composed of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‘       ‘       ‘        ‘      ‘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real, cool.  We left scho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ondee (spond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foot composed of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‘       ‘       ‘        ‘      ‘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, real, cool.  We left schoo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r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unstressed followed by a 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*      *   ‘       *    *     *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ir/return,/up the/high strand,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yrrh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unstressed followed by a 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*      *   ‘       *    *     *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ir/return,/up the/high strand,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–  comes from the Greek term for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–  comes from the Greek term for meas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 “To this I witness call the fool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e for goodness, who have lived for crim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:  “To this I witness call the fool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die for goodness, who have lived for crim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measurable, patterned, conventional unit of poetic 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-technical meaning – connected to how we 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and rhythm of steps equal to pattern and rhythm of p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measurable, patterned, conventional unit of poetic rhyth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n-technical meaning – connected to how we wa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ttern and rhythm of steps equal to pattern and rhythm of po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n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mb(ic) – unstressed syllable followed by a stressed sy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‘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c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   ‘   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k down on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amb(ic) – unstressed syllable followed by a stressed syll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‘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y a cro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   ‘   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ok down on 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chee(troch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ed followed by unstres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‘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‘   *   ‘      *       ‘    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upon a midnight dre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chee(troch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ssed followed by unstress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‘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‘   *   ‘      *       ‘     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upon a midnight dre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est (anapest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wo unstressed syllables followed by a stressed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lf/ on the fol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est (anapest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two unstressed syllables followed by a stressed 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lf/ on the fold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t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essed followed by two un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*    ‘   *  *     ‘     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ckory, dickory, d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cty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tressed followed by two un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*    ‘   *  *     ‘      *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ckory, dickory, d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432-5A7C-4C77-98EE-F5F0AD52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F7B-57BD-4F65-8801-237E4919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E51-C152-407B-99FA-4E9771E9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D05-0E4D-489A-B6CA-4D969354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62BB-24C8-4681-8DC1-471587AA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FCF7-95D4-430E-B89E-9E96F6DC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D0FC-E94B-44E1-98CC-0AE68AD3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CE8D-288A-45C5-B3B2-9770E350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DE62-1452-4665-B772-54DE9725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980E-D3F1-432A-B86D-02749B2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A98E-925B-43FE-99C1-60A4901C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BFA-8844-4B47-AC5A-24B3A4E0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8A4D-8E2A-4FF8-B4C0-87B3ACC1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C492-5955-44B5-8338-153844F7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AB14-1A2D-4508-84FA-D8679EB6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2D43-E812-4C74-8B27-4CD4D774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532B-5DF6-4F03-AC2C-42D27B48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AD3-574E-46FB-91C2-D2743787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ADB-FF14-46F9-BDC5-C5919970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C30-93CD-4DB6-978C-6487D680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31D-264E-4923-BC94-6B31C639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2D0-619F-4001-A005-BF06DD3D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E5B-A532-4C1C-9DB0-28FAA27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8A5-1261-4519-B97D-8F8E785C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3B0C-5698-46B6-8221-5A0BA1CB02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C77E-3141-4D93-B9B1-0057F14E9F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Poetry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le Wothersp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ry 9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565440" y="236232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Spondee (sponda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is a foot composed of 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‘       ‘       ‘        ‘      ‘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We, real, cool.  We left schoo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Pyrrhic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three unstressed followed by a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*   *      *   ‘       *    *     *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At their/return,/up the/high strand,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er –  comes from the Greek term for mea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etry written in a regular pattern of stressed and un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eter continu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nes are repeated again and again in the same broad rhythmical patterns, creating a rhythmical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g:  “To this I witness call the fools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die for goodness, who have lived for crim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Poetry has Feet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measurable, patterned, conventional unit of poetic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non-technical meaning – connected to how we w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tern and rhythm of steps equal to pattern and rhythm of po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hythm of music connected to movement of body and rhythmical pattern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cansion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system of using symbols to represent stressed and unstressed patterns in a poem in order to be able to “read”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ives the broad wave pattern, but doesn’t define the individual wave or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omic"/>
                <a:ea typeface="Times New Roman"/>
              </a:rPr>
              <a:t>Kinds of patterns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mb(ic) – unstressed syllable followed by a stressed sy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‘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way a cr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   ‘   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hook down on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Trochee(trochaic)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essed followed by unstres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‘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‘   *   ‘      *       ‘    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ce upon a midnight dre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Anapest (anapest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nstressed syllables followed by a stressed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     *     *         ‘        *     *   The Assyr/ ian came down/ lik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olf/ on the fol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Dactyl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e stressed followed by two un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*    ‘   *  *     ‘     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Hickory, dickory, d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38:00Z</dcterms:modified>
  <cp:revision>5</cp:revision>
  <dc:subject/>
  <dc:title>Poetry meter</dc:title>
</cp:coreProperties>
</file>