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301B-7837-45A0-894F-1CF699DEEC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021-E79D-42E8-A256-545368C1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730-78DD-44E2-84A4-1DB404F9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8D75-C61E-44DD-9955-59D954CB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55B-9FA1-41AA-9101-DE8B5BD9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25A4-4B17-4642-BE33-6FA7DEC4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C3A1-4F78-40D7-8DCF-0252BB2C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A1F6-A8BA-4FAE-913D-241E9279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3690-B0C6-4618-A995-93E4BF6C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5D73-17A1-49E9-81A5-294AF61C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E784-4525-495B-A3A2-8C78F1D0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26D5-DE36-4D49-A4A7-B902F439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C81-755C-4E4B-A8E3-34AAB78A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AA1A-2188-4A3A-A6E0-28EC350A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E92C-E418-43A6-B1DD-EE6A5BDB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22B7-8BAE-4F7E-8D27-CBCEF34E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07BD-1646-45FD-B768-D9A56DA0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243B-B5CA-4C07-A7C5-0FBBC91F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B93-55C3-4ED6-AA41-73A0F3FE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4FC-1974-4C8E-AA19-029BB3F6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318-473D-41FF-A7DD-8450EAC5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BF2-0AA8-4351-9EFD-2D8EAA3B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7A6-EBA7-4ED1-8467-6796331B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AE6-8181-4F90-AAF0-F26B886B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F82-538C-41E9-8ED7-BDBBF502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A7B7-D0BE-484E-9207-2609F86EA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8EA5-1F92-45C1-BD11-2D04467E5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18288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371600" y="228600"/>
            <a:ext cx="7315200" cy="57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you must know what the symbols mean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0"/>
            <a:ext cx="7467480" cy="70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2nd – Find the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90720" y="0"/>
            <a:ext cx="8153280" cy="66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ll you need to do is put the two togethe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//U //U //U = spondaic t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ow see if you can guess the following…….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Use your notes. </a:t>
            </a: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You know I’ll try to trick you!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4:05:32Z</dcterms:created>
  <dc:creator>Airline High School</dc:creator>
  <dc:description/>
  <dc:language>en-US</dc:language>
  <cp:lastModifiedBy>RomaK</cp:lastModifiedBy>
  <dcterms:modified xsi:type="dcterms:W3CDTF">2015-09-04T10:38:14Z</dcterms:modified>
  <cp:revision>13</cp:revision>
  <dc:subject/>
  <dc:title>rhyme and meter</dc:title>
</cp:coreProperties>
</file>