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AA47-28D3-4CD5-A7ED-D5DE717736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you must know what the symbols mea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nd – Find the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all you need to do is put the two together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//U //U //U = spondaic t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ee if you can guess the following……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note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You know I’ll try to trick you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A0D-8DC6-4349-9294-BB082B62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9B2-0B27-4CB0-BC90-912146B2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67A-F6A6-46B0-AF7B-551871B1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706-8E98-4807-8CCE-33F03E87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60F1-17DB-420C-8D5C-F828A5B3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BC30-B3AC-4097-A999-121DAEA6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DE23-7EF3-4725-B293-36E9E112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9838-BC70-4518-A3C3-26B1BC38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FA5B-6D0D-4CF5-B067-52DEF0EE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47BA-1E52-4D76-811D-80C03476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DD3C-C3D2-424A-BCFF-88133EFE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9F8-2E08-4E1D-8DDA-8CDC6C69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7983-F71B-4E94-B7A7-57ACDA66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7E18-BD89-456C-9A07-48FBA5DE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C39-BA23-4234-A9D8-91B8521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A9D3-0EA3-4300-86BA-C30472D1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A60B-3704-470F-9302-5697B570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FB8-F7CD-4C24-84BF-58D393F9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C8D-0AC7-4867-8863-6BC9E714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5C6-CC99-4814-815D-5B6C2626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ADC-B2E2-4AEB-8BDC-75356EDA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EDF-9105-44ED-9EE3-8F87958C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14D-EC1F-4661-8B6C-32C9B3C1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095-2D22-4EC4-9769-E5E995DD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DFA-8403-4A06-8911-8BF43087B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44E9-0AEF-4C8B-8D7B-78A0A9570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8288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Understanding rhyme and meter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71600" y="228600"/>
            <a:ext cx="7315200" cy="57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you must know what the symbols mean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 = un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/ = stres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0"/>
            <a:ext cx="7467480" cy="70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2nd – Find th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/ = iamb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= troch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 U / = anapest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U U = dactyl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 / U = sponda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0"/>
            <a:ext cx="8153280" cy="66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rd – You need to know that each pattern is a foot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feet do you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FOOT - mono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FEET - d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FEET - t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FEET - tetr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VE FEET - penta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ll you need to do is put the two togeth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//U //U //U = spondaic tr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w see if you can guess the following…….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Use your notes. </a:t>
            </a:r>
            <a:br>
              <a:rPr sz="6000"/>
            </a:b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You know I’ll try to trick you!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4:05:32Z</dcterms:created>
  <dc:creator>Airline High School</dc:creator>
  <dc:description/>
  <dc:language>en-US</dc:language>
  <cp:lastModifiedBy>RomaK</cp:lastModifiedBy>
  <dcterms:modified xsi:type="dcterms:W3CDTF">2015-09-04T10:38:14Z</dcterms:modified>
  <cp:revision>13</cp:revision>
  <dc:subject/>
  <dc:title>rhyme and meter</dc:title>
</cp:coreProperties>
</file>