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798A1-84CB-4D9C-ABF5-FF544437953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omeo and Juliet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 Star-crossed Romanc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and Juli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ar-crossed Rom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 Brief Introductio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omeo and Juliet was written by Shakespeare in 1594 or 1595.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omeo and Juliet was an experimental stage piece, featuring several radical departures from long-standing conventions.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themes of the play include the antithesis between love and hate, the use of a light/dark polarity, the use of time, and the use of Fate in the dreams, omens and forebodings that foreshadow the play’s tragic conclusion.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ief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and Juliet was written by Shakespeare in 1594 or 1595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and Juliet was an experimental stage piece, featuring several radical departures from long-standing conven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emes of the play include the antithesis between love and hate, the use of a light/dark polarity, the use of time, and the use of Fate in the dreams, omens and forebodings that foreshadow the play’s tragic conclus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Montague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Lord and Lady Montague – Romeo’s parent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omeo Montagu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Balthasar and Abram – servants to the Montague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Mercutio – Friend of Romeo and relative of the Princ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ntag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rd and Lady Montague – Romeo’s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Monta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thasar and Abram – servants to the Montag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rcutio – Friend of Romeo and relative of the Pr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The Capulet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Lord and Lady Capulet – Juliets parent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Juliet Capulet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Nurse – Juliets attendant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Tybalt – cousin to Juliet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Sampson and Gregory – servants to the Capulet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Capul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rd and Lady Capulet – Juliets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uliet Capu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urse – Juliets attend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ybalt – cousin to Juli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mpson and Gregory – servants to the Capul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 Very Brief Plot Summary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ct I – Shakespeare establishes an on-going feud between two families, the Montagues and Capulet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Juliet’s father decides that even though Juliet is only 13 it is time to find her a husband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omeo (a Montague) and Juliet ( A Capulet) meet and fall in lov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ery Brief Plot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 I – Shakespeare establishes an on-going feud between two families, the Montagues and Capul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iet’s father decides that even though Juliet is only 13 it is time to find her a husb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(a Montague) and Juliet ( A Capulet) meet and fall in lo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ct II – One of the Capulets challenges Romeo to a duel.  Romeo’s friends fear for his safety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Friar Laurence conspires with Romeo to arrange a secret marriag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By the end of Act II, Romeo and Juliet are married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 II – One of the Capulets challenges Romeo to a duel.  Romeo’s friends fear for his saf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ar Laurence conspires with Romeo to arrange a secret marri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Act II, Romeo and Juliet are marr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ct III – The duel between Romeo and Tybalt takes place after all, and Romeo kills Tybalt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Prince spares Romeo’s life, but banishes him from Verona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Juliet’s father announces that she shall wed Paris in 3 day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Juliet makes plans to seek the advice of Friar Laurence where unbeknownst to her Romeo is hiding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 III – The duel between Romeo and Tybalt takes place after all, and Romeo kills Tyba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ince spares Romeo’s life, but banishes him from Veron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iet’s father announces that she shall wed Paris in 3 d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iet makes plans to seek the advice of Friar Laurence where unbeknownst to her Romeo is hi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ct IV --  Juliet threatens to commit suicide rather than marry Pari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Friar Laurence convinces her to fake her death in order to be with Romeo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Juliet follows the Friar’s plan, and her corpselike body is discovered by her nurs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 IV --  Juliet threatens to commit suicide rather than marry Par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ar Laurence convinces her to fake her death in order to be with Rome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iet follows the Friar’s plan, and her corpselike body is discovered by her n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ct V – Romeo receives word that Juliet is dead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He buys a fast-acting poison and travels to Juliet’s tomb so that he may die beside her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aris is also at the tomb.  He and Romeo fight, and Paris is killed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omeo drinks the poison.  Juliet awakens and stabs herself to death with Romeo’s dagger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feuding families end their feud and erect golden statues to the lover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 V – Romeo receives word that Juliet is de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buys a fast-acting poison and travels to Juliet’s tomb so that he may die beside 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is is also at the tomb.  He and Romeo fight, and Paris is kill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drinks the poison.  Juliet awakens and stabs herself to death with Romeo’s dagg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euding families end their feud and erect golden statues to the lov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A2A1-21B7-428D-B486-305087E2B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ED49-0957-41B7-B047-4B9687F6F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08FA-8823-47CC-96EC-DF515A582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3457-2AAF-4505-84D2-93AD33B90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B2A4A-6C73-4CAE-9D5C-122583268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DF8D1-1B2C-4A46-A0A6-DD645AE66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6C456-EEA2-42FF-BD6B-020CC932C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9B9E4-11C9-4B77-9F98-18699705C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6EE96-E5A3-4150-BB69-596FD4338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75C23-BB0E-4F25-AA66-544B1266B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743EF-8593-4798-AB9C-00B82151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9607-6CB1-4709-B897-6611B3246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8FB8A-DE2D-4FAC-B96B-69AAFE3A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CD785-4FB5-4D9C-B558-AFACE859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0A72C-CB9C-4ED1-8D01-D58DC3075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7CF66-1A3F-4434-905D-C34F35E75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B5CC1-414C-4B09-A6A5-DB767CAD7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3308-A15A-4CD0-B519-821E6466C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CFE2-341F-4CB9-B8EF-8DB961E30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FB0C-057B-4792-9EEA-E37103F66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F10A-913E-446D-A91B-29CF47709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09B5-9922-47D2-99B5-435DC91B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952B-62C7-4FE9-B15A-70D56773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A78E-BC90-458F-BC97-14334B85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26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1027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1028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1029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1033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5E71F-5E51-43AE-808E-C2E1D3CDA9F1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8127F-8D7B-45C0-A29D-33ACBF2AD1DA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Romeo and Julie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 Star-crossed Romanc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 Brief Introduc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b5249"/>
                </a:solidFill>
                <a:latin typeface="Times New Roman"/>
              </a:rPr>
              <a:t>Romeo and Juliet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was written by Shakespeare in 1594 or 1595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b5249"/>
                </a:solidFill>
                <a:latin typeface="Times New Roman"/>
              </a:rPr>
              <a:t>Romeo and Juliet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was an experimental stage piece, featuring several radical departures from long-standing conventions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The themes of the play include the antithesis between love and hate, the use of a light/dark polarity, the use of time, and the use of Fate in the dreams, omens and forebodings that foreshadow the play’s tragic conclusion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533520" y="609480"/>
            <a:ext cx="8610480" cy="63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b5249"/>
                </a:solidFill>
                <a:latin typeface="Times New Roman"/>
              </a:rPr>
              <a:t>The Montagues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249"/>
                </a:solidFill>
                <a:latin typeface="Times New Roman"/>
              </a:rPr>
              <a:t>Lord and Lady Montague</a:t>
            </a: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 – Romeo’s parents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249"/>
                </a:solidFill>
                <a:latin typeface="Times New Roman"/>
              </a:rPr>
              <a:t>Romeo Montague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249"/>
                </a:solidFill>
                <a:latin typeface="Times New Roman"/>
              </a:rPr>
              <a:t>Balthasar and Abram</a:t>
            </a: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 – servants to the Montagues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Mercutio – Friend of Romeo and relative of the Prince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Capulet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Lord and Lady Capulet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 – Juliets parents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Juliet Capulet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Nurse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 – Juliets attendant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Tybalt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 – cousin to Juliet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Sampson and Gregory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 – servants to the Capulets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 Very Brief Plot Summar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ct I – Shakespeare establishes an on-going feud between two families, the Montagues and Capulet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Juliet’s father decides that even though Juliet is only 13 it is time to find her a husban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omeo (a Montague) and Juliet ( A Capulet) meet and fall in lov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ct II – One of the Capulets challenges Romeo to a duel.  Romeo’s friends fear for his safety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riar Laurence conspires with Romeo to arrange a secret marriag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By the end of Act II, Romeo and Juliet are marrie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ct III – The duel between Romeo and Tybalt takes place after all, and Romeo kills Tybal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Prince spares Romeo’s life, but banishes him from Verona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Juliet’s father announces that she shall wed Paris in 3 day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Juliet makes plans to seek the advice of Friar Laurence where unbeknownst to her Romeo is hiding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ct IV --  Juliet threatens to commit suicide rather than marry Pari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riar Laurence convinces her to fake her death in order to be with Romeo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Juliet follows the Friar’s plan, and her corpselike body is discovered by her nurs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ct V – Romeo receives word that Juliet is dea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He buys a fast-acting poison and travels to Juliet’s tomb so that he may die beside he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aris is also at the tomb.  He and Romeo fight, and Paris is kille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omeo drinks the poison.  Juliet awakens and stabs herself to death with Romeo’s dagge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feuding families end their feud and erect golden statues to the lover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9T16:33:37Z</dcterms:created>
  <dc:creator>BCC/Microsoft Campus Agreement #2218996</dc:creator>
  <dc:description/>
  <dc:language>en-US</dc:language>
  <cp:lastModifiedBy>RomaK</cp:lastModifiedBy>
  <dcterms:modified xsi:type="dcterms:W3CDTF">2015-09-04T10:38:22Z</dcterms:modified>
  <cp:revision>8</cp:revision>
  <dc:subject/>
  <dc:title>Romeo and Juliet</dc:title>
</cp:coreProperties>
</file>