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57D87-BE64-4B89-BAF4-0F038025EA3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Romeo and Juliet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A Star-crossed Romance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meo and Juli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tar-crossed Rom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A Brief Introduction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Romeo and Juliet was written by Shakespeare in 1594 or 1595. 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Romeo and Juliet was an experimental stage piece, featuring several radical departures from long-standing conventions. 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The themes of the play include the antithesis between love and hate, the use of a light/dark polarity, the use of time, and the use of Fate in the dreams, omens and forebodings that foreshadow the play’s tragic conclusion. 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Brief Intro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meo and Juliet was written by Shakespeare in 1594 or 1595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meo and Juliet was an experimental stage piece, featuring several radical departures from long-standing conventio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hemes of the play include the antithesis between love and hate, the use of a light/dark polarity, the use of time, and the use of Fate in the dreams, omens and forebodings that foreshadow the play’s tragic conclusio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The Montagues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Lord and Lady Montague – Romeo’s parents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Romeo Montague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Balthasar and Abram – servants to the Montagues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Mercutio – Friend of Romeo and relative of the Prince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ontag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rd and Lady Montague – Romeo’s par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meo Montag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lthasar and Abram – servants to the Montag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rcutio – Friend of Romeo and relative of the Pri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The Capulets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Lord and Lady Capulet – Juliets parents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Juliet Capulet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Nurse – Juliets attendant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Tybalt – cousin to Juliet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5b5249"/>
                </a:solidFill>
                <a:latin typeface="Times New Roman"/>
              </a:rPr>
              <a:t>Sampson and Gregory – servants to the Capulets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Capul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ord and Lady Capulet – Juliets par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uliet Capul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urse – Juliets attend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ybalt – cousin to Juli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ampson and Gregory – servants to the Capul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A Very Brief Plot Summary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Act I – Shakespeare establishes an on-going feud between two families, the Montagues and Capulets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Juliet’s father decides that even though Juliet is only 13 it is time to find her a husband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Romeo (a Montague) and Juliet ( A Capulet) meet and fall in love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Very Brief Plot Summ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 I – Shakespeare establishes an on-going feud between two families, the Montagues and Capule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uliet’s father decides that even though Juliet is only 13 it is time to find her a husba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meo (a Montague) and Juliet ( A Capulet) meet and fall in lo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Act II – One of the Capulets challenges Romeo to a duel.  Romeo’s friends fear for his safety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Friar Laurence conspires with Romeo to arrange a secret marriage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By the end of Act II, Romeo and Juliet are married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 II – One of the Capulets challenges Romeo to a duel.  Romeo’s friends fear for his safe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iar Laurence conspires with Romeo to arrange a secret marria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the end of Act II, Romeo and Juliet are marri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Act III – The duel between Romeo and Tybalt takes place after all, and Romeo kills Tybalt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The Prince spares Romeo’s life, but banishes him from Verona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Juliet’s father announces that she shall wed Paris in 3 days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Juliet makes plans to seek the advice of Friar Laurence where unbeknownst to her Romeo is hiding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 III – The duel between Romeo and Tybalt takes place after all, and Romeo kills Tybal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ince spares Romeo’s life, but banishes him from Veron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uliet’s father announces that she shall wed Paris in 3 day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uliet makes plans to seek the advice of Friar Laurence where unbeknownst to her Romeo is hid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Act IV --  Juliet threatens to commit suicide rather than marry Paris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Friar Laurence convinces her to fake her death in order to be with Romeo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Juliet follows the Friar’s plan, and her corpselike body is discovered by her nurse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 IV --  Juliet threatens to commit suicide rather than marry Par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iar Laurence convinces her to fake her death in order to be with Rome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uliet follows the Friar’s plan, and her corpselike body is discovered by her nur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Act V – Romeo receives word that Juliet is dead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He buys a fast-acting poison and travels to Juliet’s tomb so that he may die beside her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Paris is also at the tomb.  He and Romeo fight, and Paris is killed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Romeo drinks the poison.  Juliet awakens and stabs herself to death with Romeo’s dagger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The feuding families end their feud and erect golden statues to the lovers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 V – Romeo receives word that Juliet is dea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buys a fast-acting poison and travels to Juliet’s tomb so that he may die beside 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is is also at the tomb.  He and Romeo fight, and Paris is kill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meo drinks the poison.  Juliet awakens and stabs herself to death with Romeo’s dagg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euding families end their feud and erect golden statues to the lov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73D52-B046-4AD4-87C4-B3DCDF1AB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6418C-C12A-42E5-810A-C99835953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4B7D2-59D8-4590-9AD9-9E39D924D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75ACF-AB4C-4C8A-A36E-A4F068E15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EE9C0-D4B8-4050-818C-35E073EF1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C0D98-FDD0-4E50-81BB-4687F2231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9241F-52C2-471C-B82E-B06F9FDEC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0D395-AFA5-4737-8DAA-09B38FA89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48213-D8DB-4125-80F5-4EC4201F1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B7D82-811B-42E4-A665-5BF3F44A3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3FEE9-C03C-496E-8814-30064607B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4BF1F-B0AE-4A46-84A0-AE8B603F6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00214-B173-4AD5-8436-9B32712EC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1CB94-43A9-4EBA-BC0A-DD3E087C0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BA08E-FE8C-41B7-984D-6A878696C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4A6AC-B462-4878-ACB9-A7779F535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93699-51E4-4A18-BF78-1C50E1EFA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E2489-C20C-4CA5-89D3-8685A503D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433AE-6196-4C82-8731-AE0D405C3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86AEB-B3B5-4AE9-9388-A911DE004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6122F-559A-4A96-93F2-2E09A12F9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5956C-9DB0-4CF5-8137-2D1147AA5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ED62E-64F7-4713-AEEE-881A394E7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67D79-1BD2-4A8F-A75B-EEF487A70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26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Rectangle 1027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Rectangle 1028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Rectangle 1029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7" name="Picture 1033" descr="anabnr2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Rectangle 1034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5E333-1F16-4BF4-99D7-BC8694190C04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Picture 3" descr="ANABNR2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4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5F94F-7BE8-4FFA-8061-551F4FBBAA9B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Romeo and Julie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2038320" y="43513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A Star-crossed Romanc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A Brief Introduction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5b5249"/>
                </a:solidFill>
                <a:latin typeface="Times New Roman"/>
              </a:rPr>
              <a:t>Romeo and Juliet</a:t>
            </a: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 was written by Shakespeare in 1594 or 1595.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5b5249"/>
                </a:solidFill>
                <a:latin typeface="Times New Roman"/>
              </a:rPr>
              <a:t>Romeo and Juliet</a:t>
            </a: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 was an experimental stage piece, featuring several radical departures from long-standing conventions.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The themes of the play include the antithesis between love and hate, the use of a light/dark polarity, the use of time, and the use of Fate in the dreams, omens and forebodings that foreshadow the play’s tragic conclusion.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2"/>
          <p:cNvSpPr/>
          <p:nvPr/>
        </p:nvSpPr>
        <p:spPr>
          <a:xfrm>
            <a:off x="533520" y="609480"/>
            <a:ext cx="8610480" cy="63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b5249"/>
                </a:solidFill>
                <a:latin typeface="Times New Roman"/>
              </a:rPr>
              <a:t>The Montagues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b5249"/>
                </a:solidFill>
                <a:latin typeface="Times New Roman"/>
              </a:rPr>
              <a:t>Lord and Lady Montague</a:t>
            </a:r>
            <a:r>
              <a:rPr b="0" lang="en-US" sz="4000" spc="-1" strike="noStrike">
                <a:solidFill>
                  <a:srgbClr val="5b5249"/>
                </a:solidFill>
                <a:latin typeface="Times New Roman"/>
              </a:rPr>
              <a:t> – Romeo’s parents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b5249"/>
                </a:solidFill>
                <a:latin typeface="Times New Roman"/>
              </a:rPr>
              <a:t>Romeo Montague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b5249"/>
                </a:solidFill>
                <a:latin typeface="Times New Roman"/>
              </a:rPr>
              <a:t>Balthasar and Abram</a:t>
            </a:r>
            <a:r>
              <a:rPr b="0" lang="en-US" sz="4000" spc="-1" strike="noStrike">
                <a:solidFill>
                  <a:srgbClr val="5b5249"/>
                </a:solidFill>
                <a:latin typeface="Times New Roman"/>
              </a:rPr>
              <a:t> – servants to the Montagues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b5249"/>
                </a:solidFill>
                <a:latin typeface="Times New Roman"/>
              </a:rPr>
              <a:t>Mercutio – Friend of Romeo and relative of the Prince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The Capulet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b5249"/>
                </a:solidFill>
                <a:latin typeface="Times New Roman"/>
              </a:rPr>
              <a:t>Lord and Lady Capulet</a:t>
            </a:r>
            <a:r>
              <a:rPr b="0" lang="en-US" sz="3600" spc="-1" strike="noStrike">
                <a:solidFill>
                  <a:srgbClr val="5b5249"/>
                </a:solidFill>
                <a:latin typeface="Times New Roman"/>
              </a:rPr>
              <a:t> – Juliets parents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b5249"/>
                </a:solidFill>
                <a:latin typeface="Times New Roman"/>
              </a:rPr>
              <a:t>Juliet Capulet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b5249"/>
                </a:solidFill>
                <a:latin typeface="Times New Roman"/>
              </a:rPr>
              <a:t>Nurse</a:t>
            </a:r>
            <a:r>
              <a:rPr b="0" lang="en-US" sz="3600" spc="-1" strike="noStrike">
                <a:solidFill>
                  <a:srgbClr val="5b5249"/>
                </a:solidFill>
                <a:latin typeface="Times New Roman"/>
              </a:rPr>
              <a:t> – Juliets attendant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b5249"/>
                </a:solidFill>
                <a:latin typeface="Times New Roman"/>
              </a:rPr>
              <a:t>Tybalt</a:t>
            </a:r>
            <a:r>
              <a:rPr b="0" lang="en-US" sz="3600" spc="-1" strike="noStrike">
                <a:solidFill>
                  <a:srgbClr val="5b5249"/>
                </a:solidFill>
                <a:latin typeface="Times New Roman"/>
              </a:rPr>
              <a:t> – cousin to Juliet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b5249"/>
                </a:solidFill>
                <a:latin typeface="Times New Roman"/>
              </a:rPr>
              <a:t>Sampson and Gregory</a:t>
            </a:r>
            <a:r>
              <a:rPr b="0" lang="en-US" sz="3600" spc="-1" strike="noStrike">
                <a:solidFill>
                  <a:srgbClr val="5b5249"/>
                </a:solidFill>
                <a:latin typeface="Times New Roman"/>
              </a:rPr>
              <a:t> – servants to the Capulets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A Very Brief Plot Summary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Act I – Shakespeare establishes an on-going feud between two families, the Montagues and Capulets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Juliet’s father decides that even though Juliet is only 13 it is time to find her a husband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Romeo (a Montague) and Juliet ( A Capulet) meet and fall in love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Act II – One of the Capulets challenges Romeo to a duel.  Romeo’s friends fear for his safety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riar Laurence conspires with Romeo to arrange a secret marriage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By the end of Act II, Romeo and Juliet are married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1066680" y="1066320"/>
            <a:ext cx="7772400" cy="51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Act III – The duel between Romeo and Tybalt takes place after all, and Romeo kills Tybalt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e Prince spares Romeo’s life, but banishes him from Verona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Juliet’s father announces that she shall wed Paris in 3 days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Juliet makes plans to seek the advice of Friar Laurence where unbeknownst to her Romeo is hiding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Act IV --  Juliet threatens to commit suicide rather than marry Paris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riar Laurence convinces her to fake her death in order to be with Romeo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Juliet follows the Friar’s plan, and her corpselike body is discovered by her nurse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1066680" y="12193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Act V – Romeo receives word that Juliet is dead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He buys a fast-acting poison and travels to Juliet’s tomb so that he may die beside her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Paris is also at the tomb.  He and Romeo fight, and Paris is killed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Romeo drinks the poison.  Juliet awakens and stabs herself to death with Romeo’s dagger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e feuding families end their feud and erect golden statues to the lovers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9T16:33:37Z</dcterms:created>
  <dc:creator>BCC/Microsoft Campus Agreement #2218996</dc:creator>
  <dc:description/>
  <dc:language>en-US</dc:language>
  <cp:lastModifiedBy>RomaK</cp:lastModifiedBy>
  <dcterms:modified xsi:type="dcterms:W3CDTF">2015-09-04T10:38:22Z</dcterms:modified>
  <cp:revision>8</cp:revision>
  <dc:subject/>
  <dc:title>Romeo and Juliet</dc:title>
</cp:coreProperties>
</file>