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8.png" ContentType="image/png"/>
  <Override PartName="/ppt/media/image5.jpeg" ContentType="image/jpeg"/>
  <Override PartName="/ppt/media/image4.jpeg" ContentType="image/jpeg"/>
  <Override PartName="/ppt/media/image22.gif" ContentType="image/gif"/>
  <Override PartName="/ppt/media/whoosh.wav" ContentType="audio/x-wav"/>
  <Override PartName="/ppt/media/image2.gif" ContentType="image/gif"/>
  <Override PartName="/ppt/media/image3.png" ContentType="image/png"/>
  <Override PartName="/ppt/media/image11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cheers%20102.wav" ContentType="audio/x-wav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383B-E024-4FBA-8575-5466EF884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is stuff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kespeare’s Quotable Quotes from Romeo and Jul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ricia Coo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is stuff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kespeare’s Quotable Quotes from Romeo and Jul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ricia Coo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Rosaline my ghostly father? No I have forgot that name and that names woe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 iii 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Rosaline my ghostly father? No I have forgot that name and that names woe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 iii 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is speaking to Friar Law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tells Friar Lawrence that he has forgotten Rosaline and all the heartache associated with 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has fallen in love with Juliet and he feels certain of this because he no longer remembers Rosa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is speaking to Friar Law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tells Friar Lawrence that he has forgotten Rosaline and all the heartache associated with 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has fallen in love with Juliet and he feels certain of this because he no longer remembers Rosa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sely and slow.  They stumble that run fas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sely and slow.  They stumble that run fas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 iv 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ar Lawrence speaks to Romeo about the dangers of rushing into a sit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ar Lawerence speaking to Rom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anyone think Romeo is RUSHING into anyt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 iv 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ar Lawrence speaks to Romeo about the dangers of rushing into a sit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ar Lawerence speaking to Rom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anyone think Romeo is RUSHING into anyt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do not swear. Although I joy in thee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have no joy of this contract to n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 ii 116-1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do not swear. Although I joy in thee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have no joy of this contract to n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 ii 116-1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iet says that things are moving too quick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thinks they cannot swear their love to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will reply 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iet says that things are moving too quick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thinks they cannot swear their love to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will reply 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, you cotquean, go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V iv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, you cotquean, go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V iv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8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is speaking to Lord Capu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tquean – old woman (a man who acts like an old wom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ulet is up tending to the preparations of the fea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almost three in the mo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is making fun of him and trying to send him to 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8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is speaking to Lord Capu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tquean – old woman (a man who acts like an old wom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ulet is up tending to the preparations of the fea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almost three in the mo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is making fun of him and trying to send him to 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 lies on her like an untimely fro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the sweetest flower of the fiel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V v 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8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rd Capulet upon seeing his daughter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was too young to d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 lies on her like an untimely fro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the sweetest flower of the fiel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V v 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8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rd Capulet upon seeing his daughter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was too young to d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much to do with hate, but more with lov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child is yet a stranger in the world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hath not seen the change of fourteen year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wo more summers wither in their pr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e we may think her ripe to  be a brid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much to do with hate, but more with lov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child is yet a stranger in the world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hath not seen the change of fourteen year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wo more summers wither in their pr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e we may think her ripe to  be a brid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hope you have a great d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hope you have a great d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ng is such sweet sorrow that I shall say good night till it be morr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love you and want to be with you all the time – it’s so hard to leave you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ng is such sweet sorrow that I shall say good night till it be morr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love you and want to be with you all the time – it’s so hard to leave you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…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VE HAD ENOUGH OF YOU TODAY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…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VE HAD ENOUGH OF YOU TODAY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 9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44 (tex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daughter Juliet is only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wait two more years, then she will be ready to be marr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 9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44 (tex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daughter Juliet is only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wait two more years, then she will be ready to be marr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SEARCH!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 24-28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this up! 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eing sa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SEARCH!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 24-28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this up! 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eing sa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y – my house ton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, beautiful girls will be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forget about marrying Juliet so so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y – my house ton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, beautiful girls will be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forget about marrying Juliet so so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be not from the house of Montagues,  I pray come and crush a cup of wine. Rest you mer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 82-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be not from the house of Montagues,  I pray come and crush a cup of wine. Rest you mer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 82-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are NOT a Montague you are welcome to come to the pa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how Romeo finds out there will be a party and that Rosaline will be the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 several lines earlier for confirmation of who will be hosting the pa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are NOT a Montague you are welcome to come to the pa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how Romeo finds out there will be a party and that Rosaline will be the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 several lines earlier for confirmation of who will be hosting the pa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, girl, seek happy nights to happy day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i 1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, girl, seek happy nights to happy day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ii 1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rse is speaking to Jul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is her friend and coun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encourages Juliet to find a suitable husband so she can have a happy li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7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rse is speaking to Jul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is her friend and coun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rse encourages Juliet to find a suitable husband so she can have a happy li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C4B3-A72C-4D25-99A9-885D2928C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7422-9B4C-4896-9CFD-04DEE5D4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E5CC-3544-4E13-81D5-448D0DE7C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D986-1FE5-442D-A841-5FE7DC295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96B4-73F4-467D-AB03-858DF4D3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73AA-3C80-4F00-BA8B-A2EFF4F4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B8CC-3A66-4321-9A03-FCABA270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CF1E-271D-42DF-857B-FE36B474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B451-94C6-4E91-83E2-A29EEB66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4C9E-7AD6-4AA4-A236-27AEA778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DA90-2099-44ED-AE7A-568382CC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AD52-7B53-47D4-88B8-A66ACA58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0A48-E243-4C2E-9EC7-D17BE909E4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eers%20102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gallery2"/>
          <p:cNvPicPr/>
          <p:nvPr/>
        </p:nvPicPr>
        <p:blipFill>
          <a:blip r:embed="rId1"/>
          <a:stretch/>
        </p:blipFill>
        <p:spPr>
          <a:xfrm>
            <a:off x="2286000" y="2286000"/>
            <a:ext cx="4251240" cy="4160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is stuff?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akespeare’s Quotable Quotes from Romeo and Juli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514600" y="6095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bitha"/>
              </a:rPr>
              <a:t>By Tricia Co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  <p:sndAc>
      <p:stSnd>
        <p:snd r:embed="rId2" name="cheers%20102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woodstock"/>
          <p:cNvPicPr/>
          <p:nvPr/>
        </p:nvPicPr>
        <p:blipFill>
          <a:blip r:embed="rId1"/>
          <a:stretch/>
        </p:blipFill>
        <p:spPr>
          <a:xfrm>
            <a:off x="4076640" y="228600"/>
            <a:ext cx="1104840" cy="11048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2" name="Picture 4" descr="chuck"/>
          <p:cNvPicPr/>
          <p:nvPr/>
        </p:nvPicPr>
        <p:blipFill>
          <a:blip r:embed="rId2"/>
          <a:stretch/>
        </p:blipFill>
        <p:spPr>
          <a:xfrm>
            <a:off x="2057400" y="457200"/>
            <a:ext cx="1257480" cy="1257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3" name="Picture 5" descr="franklin"/>
          <p:cNvPicPr/>
          <p:nvPr/>
        </p:nvPicPr>
        <p:blipFill>
          <a:blip r:embed="rId3"/>
          <a:stretch/>
        </p:blipFill>
        <p:spPr>
          <a:xfrm>
            <a:off x="914400" y="3619440"/>
            <a:ext cx="1371600" cy="13716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4" name="Picture 6" descr="linus"/>
          <p:cNvPicPr/>
          <p:nvPr/>
        </p:nvPicPr>
        <p:blipFill>
          <a:blip r:embed="rId4"/>
          <a:stretch/>
        </p:blipFill>
        <p:spPr>
          <a:xfrm>
            <a:off x="6248520" y="5181480"/>
            <a:ext cx="1066680" cy="10670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5" name="Picture 7" descr="lucy"/>
          <p:cNvPicPr/>
          <p:nvPr/>
        </p:nvPicPr>
        <p:blipFill>
          <a:blip r:embed="rId5"/>
          <a:stretch/>
        </p:blipFill>
        <p:spPr>
          <a:xfrm>
            <a:off x="4038480" y="5676840"/>
            <a:ext cx="1143000" cy="1143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6" name="Picture 8" descr="marcie"/>
          <p:cNvPicPr/>
          <p:nvPr/>
        </p:nvPicPr>
        <p:blipFill>
          <a:blip r:embed="rId6"/>
          <a:stretch/>
        </p:blipFill>
        <p:spPr>
          <a:xfrm>
            <a:off x="685800" y="1790640"/>
            <a:ext cx="1333440" cy="13334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7" name="Picture 9" descr="patty"/>
          <p:cNvPicPr/>
          <p:nvPr/>
        </p:nvPicPr>
        <p:blipFill>
          <a:blip r:embed="rId7"/>
          <a:stretch/>
        </p:blipFill>
        <p:spPr>
          <a:xfrm>
            <a:off x="7162920" y="3772080"/>
            <a:ext cx="1218960" cy="1218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8" name="Picture 10" descr="pigpen"/>
          <p:cNvPicPr/>
          <p:nvPr/>
        </p:nvPicPr>
        <p:blipFill>
          <a:blip r:embed="rId8"/>
          <a:stretch/>
        </p:blipFill>
        <p:spPr>
          <a:xfrm>
            <a:off x="1600200" y="5372280"/>
            <a:ext cx="1219320" cy="1218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9" name="Picture 11" descr="sally"/>
          <p:cNvPicPr/>
          <p:nvPr/>
        </p:nvPicPr>
        <p:blipFill>
          <a:blip r:embed="rId9"/>
          <a:stretch/>
        </p:blipFill>
        <p:spPr>
          <a:xfrm>
            <a:off x="6019920" y="723960"/>
            <a:ext cx="1143000" cy="1143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90" name="Picture 12" descr="schroeder"/>
          <p:cNvPicPr/>
          <p:nvPr/>
        </p:nvPicPr>
        <p:blipFill>
          <a:blip r:embed="rId10"/>
          <a:stretch/>
        </p:blipFill>
        <p:spPr>
          <a:xfrm>
            <a:off x="6934320" y="2286000"/>
            <a:ext cx="1066680" cy="1066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sp>
        <p:nvSpPr>
          <p:cNvPr id="91" name="Oval 16"/>
          <p:cNvSpPr/>
          <p:nvPr/>
        </p:nvSpPr>
        <p:spPr>
          <a:xfrm>
            <a:off x="2666880" y="1523880"/>
            <a:ext cx="3810240" cy="4038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7" descr="meet_snoopy_big"/>
          <p:cNvPicPr/>
          <p:nvPr/>
        </p:nvPicPr>
        <p:blipFill>
          <a:blip r:embed="rId11"/>
          <a:stretch/>
        </p:blipFill>
        <p:spPr>
          <a:xfrm>
            <a:off x="3479760" y="1914480"/>
            <a:ext cx="2182680" cy="30290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meet_charlie_brown_big"/>
          <p:cNvPicPr/>
          <p:nvPr/>
        </p:nvPicPr>
        <p:blipFill>
          <a:blip r:embed="rId1"/>
          <a:stretch/>
        </p:blipFill>
        <p:spPr>
          <a:xfrm>
            <a:off x="6400800" y="1914480"/>
            <a:ext cx="2057400" cy="30290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"/>
          <p:cNvSpPr/>
          <p:nvPr/>
        </p:nvSpPr>
        <p:spPr>
          <a:xfrm>
            <a:off x="0" y="0"/>
            <a:ext cx="9144000" cy="190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1752480" y="0"/>
            <a:ext cx="182880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5410080" y="0"/>
            <a:ext cx="182880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0" y="4952880"/>
            <a:ext cx="182880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3657600" y="4946760"/>
            <a:ext cx="1828800" cy="1904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4"/>
          <p:cNvSpPr/>
          <p:nvPr/>
        </p:nvSpPr>
        <p:spPr>
          <a:xfrm>
            <a:off x="7315200" y="4952880"/>
            <a:ext cx="182880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Rosaline my ghostly father? No I have forgot that name and that names woe.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2590920" y="5410080"/>
            <a:ext cx="396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I iii 4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ec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ge 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915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omeo is speaking to Friar Lawr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omeo tells Friar Lawrence that he has forgotten Rosaline and all the heartache associated with 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omeo has fallen in love with Juliet and he feels certain of this because he no longer remembers Rosali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snoopy_logo_med"/>
          <p:cNvPicPr/>
          <p:nvPr/>
        </p:nvPicPr>
        <p:blipFill>
          <a:blip r:embed="rId1"/>
          <a:stretch/>
        </p:blipFill>
        <p:spPr>
          <a:xfrm>
            <a:off x="380880" y="990720"/>
            <a:ext cx="1676520" cy="13237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0" y="3429000"/>
            <a:ext cx="9144000" cy="3429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762120" y="3429000"/>
            <a:ext cx="8380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2514600" y="3422520"/>
            <a:ext cx="8380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4191120" y="3422520"/>
            <a:ext cx="8380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5867280" y="3422520"/>
            <a:ext cx="838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7543800" y="3422520"/>
            <a:ext cx="8380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28440" y="1371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sely and slow.  They stumble that run fast.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ffee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8000"/>
          </a:bodyPr>
          <a:p>
            <a:pPr marL="9576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I iv 9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 77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iar Lawrence speaks to Romeo about the dangers of rushing into a situ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iar Lawerence speaking to Rome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ight anyone think Romeo is RUSHING into anyth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533520" y="3276720"/>
            <a:ext cx="6476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woodstock_football"/>
          <p:cNvPicPr/>
          <p:nvPr/>
        </p:nvPicPr>
        <p:blipFill>
          <a:blip r:embed="rId1"/>
          <a:stretch/>
        </p:blipFill>
        <p:spPr>
          <a:xfrm>
            <a:off x="380880" y="3809880"/>
            <a:ext cx="3932280" cy="27432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l, do not swear. Although I joy in thee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have no joy of this contract to nigh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5257800" y="39625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I ii 116-11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afd2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liet says that things are moving too quick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 thinks they cannot swear their love ton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meo will reply 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Go, you cotquean, go.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G_Snoopy2"/>
          <p:cNvPicPr/>
          <p:nvPr/>
        </p:nvPicPr>
        <p:blipFill>
          <a:blip r:embed="rId1"/>
          <a:stretch/>
        </p:blipFill>
        <p:spPr>
          <a:xfrm>
            <a:off x="304920" y="3332160"/>
            <a:ext cx="4190760" cy="30686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5257800" y="37339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V iv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 8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rse is speaking to Lord Capu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tquean – old woman (a man who acts like an old woma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pulet is up tending to the preparations of the feas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almost three in the mo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rse is making fun of him and trying to send him to b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th lies on her like an untimely fro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Upon the sweetest flower of the field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90920" y="274320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V v 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 8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Capulet upon seeing his daughter de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 was too young to d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4" descr="Snoopy gift"/>
          <p:cNvPicPr/>
          <p:nvPr/>
        </p:nvPicPr>
        <p:blipFill>
          <a:blip r:embed="rId1"/>
          <a:stretch/>
        </p:blipFill>
        <p:spPr>
          <a:xfrm>
            <a:off x="0" y="42670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Snoopy Jumping2"/>
          <p:cNvPicPr/>
          <p:nvPr/>
        </p:nvPicPr>
        <p:blipFill>
          <a:blip r:embed="rId1"/>
          <a:stretch/>
        </p:blipFill>
        <p:spPr>
          <a:xfrm>
            <a:off x="3811680" y="2666880"/>
            <a:ext cx="1520640" cy="993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snoopy3hgv"/>
          <p:cNvPicPr/>
          <p:nvPr/>
        </p:nvPicPr>
        <p:blipFill>
          <a:blip r:embed="rId2"/>
          <a:stretch/>
        </p:blipFill>
        <p:spPr>
          <a:xfrm>
            <a:off x="3811680" y="3657600"/>
            <a:ext cx="1520640" cy="15541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0" y="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4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“</a:t>
            </a:r>
            <a:r>
              <a:rPr b="1" lang="es-GT" sz="36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here is much to do with hate, but more with lov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y child is yet a stranger in the world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e hath not seen the change of fourteen years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t two more summers wither in their prid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re we may think her ripe to  be a bride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6" descr="post snoopy"/>
          <p:cNvPicPr/>
          <p:nvPr/>
        </p:nvPicPr>
        <p:blipFill>
          <a:blip r:embed="rId1"/>
          <a:stretch/>
        </p:blipFill>
        <p:spPr>
          <a:xfrm>
            <a:off x="7238880" y="5029200"/>
            <a:ext cx="1295640" cy="12556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8"/>
          <p:cNvSpPr/>
          <p:nvPr/>
        </p:nvSpPr>
        <p:spPr>
          <a:xfrm rot="20682000">
            <a:off x="622080" y="273096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I hope you have </a:t>
            </a:r>
            <a:r>
              <a:rPr b="1" lang="es-GT" sz="4400" spc="-1" strike="noStrike">
                <a:solidFill>
                  <a:srgbClr val="ff0066"/>
                </a:solidFill>
                <a:latin typeface="Book Antiqua"/>
                <a:ea typeface="Times New Roman"/>
              </a:rPr>
              <a:t>a great da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WordArt 9"/>
          <p:cNvSpPr txBox="1"/>
          <p:nvPr/>
        </p:nvSpPr>
        <p:spPr>
          <a:xfrm rot="20609400">
            <a:off x="8726040" y="6618240"/>
            <a:ext cx="341280" cy="74520"/>
          </a:xfrm>
          <a:prstGeom prst="rect">
            <a:avLst/>
          </a:prstGeom>
        </p:spPr>
        <p:txBody>
          <a:bodyPr wrap="none" lIns="90000" rIns="90000" tIns="28080" bIns="2808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000000"/>
                    </a:gs>
                    <a:gs pos="100000">
                      <a:srgbClr val="ff0000"/>
                    </a:gs>
                  </a:gsLst>
                  <a:lin ang="20850000"/>
                </a:gradFill>
                <a:latin typeface="Book Antiqua"/>
              </a:rPr>
              <a:t>      </a:t>
            </a:r>
            <a:endParaRPr b="1" lang="en-US" sz="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000000"/>
                  </a:gs>
                  <a:gs pos="100000">
                    <a:srgbClr val="ff0000"/>
                  </a:gs>
                </a:gsLst>
                <a:lin ang="20850000"/>
              </a:gradFill>
              <a:latin typeface="Book Antiqua"/>
              <a:ea typeface="Book Antiqua"/>
            </a:endParaRPr>
          </a:p>
        </p:txBody>
      </p:sp>
    </p:spTree>
  </p:cSld>
  <p:transition spd="med" advTm="8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snoopy seasonal_hockey"/>
          <p:cNvPicPr/>
          <p:nvPr/>
        </p:nvPicPr>
        <p:blipFill>
          <a:blip r:embed="rId1"/>
          <a:stretch/>
        </p:blipFill>
        <p:spPr>
          <a:xfrm>
            <a:off x="304920" y="4791240"/>
            <a:ext cx="2438280" cy="17874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ng is such sweet sorrow that I shall say good night till it be morrow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2971800" y="419112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love you and want to be with you all the time – it’s so hard to leave you 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BUT … </a:t>
            </a:r>
            <a:br>
              <a:rPr sz="8000"/>
            </a:b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I’VE HAD ENOUGH OF YOU TODAY!!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 ii 9-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 744 (text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daughter Juliet is only 1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’s wait two more years, then she will be ready to be marri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edison snoopy"/>
          <p:cNvPicPr/>
          <p:nvPr/>
        </p:nvPicPr>
        <p:blipFill>
          <a:blip r:embed="rId2"/>
          <a:stretch/>
        </p:blipFill>
        <p:spPr>
          <a:xfrm>
            <a:off x="3932280" y="1066680"/>
            <a:ext cx="4983120" cy="49737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281952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 SEARCH!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ii 24-28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ok this up! 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eing sai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 7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arty – my house tonigh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ng, beautiful girls will be the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will forget about marrying Juliet so so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066680" y="5335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G_Snoopy2"/>
          <p:cNvPicPr/>
          <p:nvPr/>
        </p:nvPicPr>
        <p:blipFill>
          <a:blip r:embed="rId1"/>
          <a:stretch/>
        </p:blipFill>
        <p:spPr>
          <a:xfrm>
            <a:off x="5410080" y="3886200"/>
            <a:ext cx="3733920" cy="27338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457200" y="304920"/>
            <a:ext cx="7772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f you be not from the house of Montagues,  I pray come and crush a cup of wine. Rest you merr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533520" y="518148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ii 82-8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 74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you are NOT a Montague you are welcome to come to the par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is how Romeo finds out there will be a party and that Rosaline will be ther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eck several lines earlier for confirmation of who will be hosting the par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Snoopy gift"/>
          <p:cNvPicPr/>
          <p:nvPr/>
        </p:nvPicPr>
        <p:blipFill>
          <a:blip r:embed="rId1"/>
          <a:stretch/>
        </p:blipFill>
        <p:spPr>
          <a:xfrm>
            <a:off x="228600" y="24382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1752480" y="0"/>
            <a:ext cx="175284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5410080" y="0"/>
            <a:ext cx="175284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0" y="5181480"/>
            <a:ext cx="175248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3695760" y="5181480"/>
            <a:ext cx="175248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7391520" y="5181480"/>
            <a:ext cx="175248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girl, seek happy nights to happy day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2743200" y="4191120"/>
            <a:ext cx="48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iii 1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 75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urse is speaking to Juli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Nurse is her friend and coun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Nurse encourages Juliet to find a suitable husband so she can have a happy lif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23:17:37Z</dcterms:created>
  <dc:creator/>
  <dc:description/>
  <dc:language>en-US</dc:language>
  <cp:lastModifiedBy>RomaK</cp:lastModifiedBy>
  <dcterms:modified xsi:type="dcterms:W3CDTF">2015-09-04T10:38:29Z</dcterms:modified>
  <cp:revision>32</cp:revision>
  <dc:subject/>
  <dc:title>Romeo and Juliet quotes</dc:title>
</cp:coreProperties>
</file>