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7.jpeg" ContentType="image/jpeg"/>
  <Override PartName="/ppt/media/GLASS.WAV" ContentType="audio/x-wav"/>
  <Override PartName="/ppt/media/image12.png" ContentType="image/png"/>
  <Override PartName="/ppt/media/CAMERA.WAV" ContentType="audio/x-wav"/>
  <Override PartName="/ppt/media/DRUMROLL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LASER.WAV" ContentType="audio/x-wav"/>
  <Override PartName="/ppt/media/image14.wmf" ContentType="image/x-wmf"/>
  <Override PartName="/ppt/media/image6.jpeg" ContentType="image/jpeg"/>
  <Override PartName="/ppt/media/TYPE.WAV" ContentType="audio/x-wav"/>
  <Override PartName="/ppt/media/image4.png" ContentType="image/png"/>
  <Override PartName="/ppt/media/CHIMES.WAV" ContentType="audio/x-wav"/>
  <Override PartName="/ppt/media/CLAP.WAV" ContentType="audio/x-wav"/>
  <Override PartName="/ppt/media/GUNSHOT.WAV" ContentType="audio/x-wav"/>
  <Override PartName="/ppt/media/image13.jpeg" ContentType="image/jpeg"/>
  <Override PartName="/ppt/media/image3.wmf" ContentType="image/x-wmf"/>
  <Override PartName="/ppt/media/image11.jpeg" ContentType="image/jpeg"/>
  <Override PartName="/ppt/media/APPLAUSE.WAV" ContentType="audio/x-wav"/>
  <Override PartName="/ppt/media/image9.png" ContentType="image/png"/>
  <Override PartName="/ppt/media/WHOOSH.WAV" ContentType="audio/x-wav"/>
  <Override PartName="/ppt/media/PROJCTOR.WAV" ContentType="audio/x-wav"/>
  <Override PartName="/ppt/media/EXPLODE.WAV" ContentType="audio/x-wav"/>
  <Override PartName="/ppt/media/RICOCHET.WAV" ContentType="audio/x-wav"/>
  <Override PartName="/ppt/media/image2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F36B-2B60-42F1-9353-AD53D9572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Michele Douglas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raves County High School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Introduction to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Presented November 2002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Dougl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s County High Schoo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November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Heavens”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as seen by the groundling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ven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een by the groundl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bjections to Theaters</a:t>
            </a:r>
            <a:br>
              <a:rPr sz="1200"/>
            </a:b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arge assemblies of peopl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pread diseas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uilt by associatio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aters were often located outside the city walls to avoid censor by London’s Lord Mayor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ons to Theat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ssemblies of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dis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lt by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ritten in 1599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Celebrates the passion of youthful lov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Dates back to 400 AD in a Greek Romanc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Feud--a prolonged conflict between families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feud is so old that the cause has been forgotten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in 15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es the passion of youthful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s back to 400 AD in a Greek Ro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ud--a prolonged conflict between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ud is so old that the cause has been forgot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Balcony Scen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, Romeo,            Wherefore art thou  Romeo?”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emember:    Wherefore means “Why”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cony Sc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, Romeo,            Wherefore art thou  Romeo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  Wherefore means “Wh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tar Crossed Lover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is a tragedy.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In a tragedy many of the main characters die.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Crossed Lo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is a traged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tragedy many of the main characters di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illiam Shakeapeare’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ife and Tim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Shakeapeare’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all’s Croft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hakespeare was born  in 1564 in Stratford-on-Avo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on of John &amp; Mary Arde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imilar to the home young Shakespeare may have grown up in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l’s Cr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 was born  in 1564 in Stratford-on-Av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 of John &amp; Mary 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he home young Shakespeare may have grown up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illiam Shakespear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rammar School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1583 Married  Anne Hathawa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usanna, Hamnet, Judith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even Dark Year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mmar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83 Married  Anne Hath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na, Hamnet, Jud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 Dark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ndon in 1600’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Conditions in London were not pleasant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omes of the poor were small and dirt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ewage ran in open ditches in the street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vercrowding and unemployment were major problems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don in 1600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in London were not pleas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s of the poor were small and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wage ran in open ditches in the str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crowding and unemployment were major probl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ndon Bridg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eads of traitors were displayed on pikes on the city’s main bridge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don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New Globe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w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Glob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cated on the south bank of the Tham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most famous London Playhous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wned by the Burbage famil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Flew a flag to announce a performanc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Acting companies used boys to play female roles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hakespeare was a member of Lord Chamberlain’s Company.  Later called the King’s Men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the south bank of the Th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famous London Play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ned by the Burbage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w a flag to announce a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g companies used boys to play female ro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wealthy’s view of the stag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lthy’s view of the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FBF-F701-46DD-8720-9A562C2F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1BA-0D61-4517-BB8A-A9B71CB8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AC2-6F0A-486E-978F-0C36A997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586-ABCC-43A8-8559-413B8D99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29B4-C7BD-4668-97E6-832785C9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369F-D4C2-4A1D-90F5-CE605EFE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20A2-F684-48BC-8493-C43040F7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50D5-E0DE-4326-AC4C-6C8F8AE7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20B2-9043-4648-A091-99E94B4B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59FF-2EBF-4DDA-ABF8-32616498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E934-3719-432F-AD11-9CF85CB3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AA91-5AB1-4313-980B-D2B24AAD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6DB4-D43A-4940-8F49-2C13A026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F664-946C-43C2-9880-42D5867B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C6DA-2732-4305-8E85-23CF517F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B426-B6E9-4851-B0C4-25C06035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99B0-5CD3-4CF1-9768-A340E642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3BA-4480-4150-B3E8-5F8482CC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580-B9CE-456B-8077-255A04B8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728-A8E9-4998-B6F0-3ECA6098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B6B-B084-414F-B3E2-0EE832E9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CE1-73EF-4C81-AF91-FC2B0706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D51-4FEF-419E-9723-884892AA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A87-174A-4FA7-ABC4-CE5CB6E6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2B9B-3FFB-46F1-9F36-476A2B7F447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AB38-078F-44A7-95D6-2E8BD1C79E4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LAP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EXPLOD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ichele Douglas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aves County High School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 to</a:t>
            </a:r>
            <a:br>
              <a:rPr sz="4400"/>
            </a:b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resented November 200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7652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The Heavens”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s seen by the groundl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7" name="Picture 5" descr="scfrns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bjections to Theaters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rge assemblies of peop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read dise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uilt by associ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ten in 159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elebrates the passion of youthful lo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ates back to 400 AD in a Greek Ro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eud--a prolonged conflict between famili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feud is so old that the cause has been forgotten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Balcony Sce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meo, Romeo,            Wherefore art thou  Romeo?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member:    Wherefore means “Why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4" name="Picture 9" descr="Dicksee"/>
          <p:cNvPicPr/>
          <p:nvPr/>
        </p:nvPicPr>
        <p:blipFill>
          <a:blip r:embed="rId1"/>
          <a:stretch/>
        </p:blipFill>
        <p:spPr>
          <a:xfrm>
            <a:off x="4503600" y="1295280"/>
            <a:ext cx="3757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ar Crossed Lov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Romeo and Juliet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a tragedy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 a tragedy many of the main characters die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-1768320" y="552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8" name="Picture 6" descr="Leighton"/>
          <p:cNvPicPr/>
          <p:nvPr/>
        </p:nvPicPr>
        <p:blipFill>
          <a:blip r:embed="rId1"/>
          <a:stretch/>
        </p:blipFill>
        <p:spPr>
          <a:xfrm>
            <a:off x="3962520" y="1676520"/>
            <a:ext cx="4221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ahoma"/>
              </a:rPr>
              <a:t>The End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41" name="Object 4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apeare’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9814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ll’s Cro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86040" y="1599840"/>
            <a:ext cx="3352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kespeare was born  in 1564 in Stratford-on-Av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n of John &amp; Mary A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milar to the home young Shakespeare may have grown up 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Picture 5" descr="croft"/>
          <p:cNvPicPr/>
          <p:nvPr/>
        </p:nvPicPr>
        <p:blipFill>
          <a:blip r:embed="rId1"/>
          <a:stretch/>
        </p:blipFill>
        <p:spPr>
          <a:xfrm>
            <a:off x="762120" y="2536920"/>
            <a:ext cx="472428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spea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cho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583 Married  Anne Hathaw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sanna, Hamnet, Judit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 Dark Ye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Picture 6" descr="shake2"/>
          <p:cNvPicPr/>
          <p:nvPr/>
        </p:nvPicPr>
        <p:blipFill>
          <a:blip r:embed="rId1"/>
          <a:stretch/>
        </p:blipFill>
        <p:spPr>
          <a:xfrm>
            <a:off x="4867200" y="1905120"/>
            <a:ext cx="341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in 1600’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ditions in London were not pleasant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omes of the poor were small and dir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wage ran in open ditches in the stre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vercrowding and unemployment were major problems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Picture 5" descr="VisscherLondonBridgesm"/>
          <p:cNvPicPr/>
          <p:nvPr/>
        </p:nvPicPr>
        <p:blipFill>
          <a:blip r:embed="rId1"/>
          <a:stretch/>
        </p:blipFill>
        <p:spPr>
          <a:xfrm>
            <a:off x="1039680" y="1752480"/>
            <a:ext cx="3684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Brid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4" name="Picture 6" descr="londonbridgemed"/>
          <p:cNvPicPr/>
          <p:nvPr/>
        </p:nvPicPr>
        <p:blipFill>
          <a:blip r:embed="rId1"/>
          <a:stretch/>
        </p:blipFill>
        <p:spPr>
          <a:xfrm>
            <a:off x="2819520" y="1828800"/>
            <a:ext cx="5943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he New Globe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400" y="411480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51840" y="-34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8" name="Picture 6" descr="Globe99sm"/>
          <p:cNvPicPr/>
          <p:nvPr/>
        </p:nvPicPr>
        <p:blipFill>
          <a:blip r:embed="rId1"/>
          <a:stretch/>
        </p:blipFill>
        <p:spPr>
          <a:xfrm>
            <a:off x="6248520" y="5715000"/>
            <a:ext cx="228600" cy="17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newglobe"/>
          <p:cNvPicPr/>
          <p:nvPr/>
        </p:nvPicPr>
        <p:blipFill>
          <a:blip r:embed="rId2"/>
          <a:stretch/>
        </p:blipFill>
        <p:spPr>
          <a:xfrm>
            <a:off x="1981080" y="2057400"/>
            <a:ext cx="57913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Glob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ocated on the south bank of the Tham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most famous London Playh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wned by the Burbage fami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lew a flag to announce a perfor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cting companies used boys to play female role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wealthy’s view of the sta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4" name="Picture 5" descr="audi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23:48Z</dcterms:created>
  <dc:creator>GCHS</dc:creator>
  <dc:description/>
  <dc:language>en-US</dc:language>
  <cp:lastModifiedBy>RomaK</cp:lastModifiedBy>
  <dcterms:modified xsi:type="dcterms:W3CDTF">2015-09-04T10:38:35Z</dcterms:modified>
  <cp:revision>39</cp:revision>
  <dc:subject/>
  <dc:title>romeo and juliet</dc:title>
</cp:coreProperties>
</file>