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Kid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FF56-BB55-4B3A-9CFE-386741C748AC}" type="slidenum">
              <a:rPr b="0" lang="en-GB" sz="1200" spc="-1" strike="noStrike">
                <a:solidFill>
                  <a:srgbClr val="000000"/>
                </a:solidFill>
                <a:latin typeface="Kid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526-B42D-4ECF-83D2-D2EFF56C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6B4-7D8D-4089-9937-F8B7DFB6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49E-98F9-4C7F-AA69-C37347D5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102-7758-4D8A-B4B7-C89FC9F6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CCB9-5ECE-4192-946A-58AC5496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5226-C26F-4E8E-B8EF-6691E6E0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41E8-A1E6-4252-B377-A0AF69DF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F648-76A5-434D-A750-9A10BD47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C986-4E5E-4F4E-9EC9-2E4C3524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6CC6-6240-43BF-89B5-E47F44EC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A8D5-0571-45AD-AF16-2B9AEC0E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BAC-15FA-429B-BDC8-C7478237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021E-3869-4715-9817-1EAA16E5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AEDB-7C6A-4345-87ED-72A4FAD8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4EC8-F4AA-42BE-ADBB-5B3C0C8A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659A-9AD4-4A1B-8AC0-1F7EFA3D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5CE9-AEC5-4CE1-B21B-9171A943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21B-FE54-46ED-8F47-26C5AD51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6A5-8229-4B51-B027-7ADA0ADE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D96-0CB0-4D67-9FFF-F1C192FF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A15-5EC7-4467-B35F-7606D1FF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2DD-370A-4293-9BC7-D31739CD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ABA-7FF7-4374-B0BA-02ABA1A4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402-19FD-4109-B38D-464A76BD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5131-ECE3-4FF1-9224-957D59815721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0D8D-4249-4134-8B0B-0A58CDD87E41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-24843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br>
              <a:rPr sz="8800"/>
            </a:br>
            <a:br>
              <a:rPr sz="8800"/>
            </a:br>
            <a:endParaRPr b="0" i="1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600200" y="20574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torybook"/>
              </a:rPr>
              <a:t>William Shakespea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Act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ng was not considered a respectable profession by the English Purit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women’s parts were  played by bo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men did not enter the theater until much l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et would have been played by a bo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e know about Shakespeare comes from church documents and legal rec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ocuments that we have are baptismal registration, marriage license, and records of real estate trans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Famil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the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eight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April 23, 156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in Stratf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dad was a shoemaker and sometimes served as a justice of the pe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died April 23, 161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’s Lif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was an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594, he was a charter member of the theatrical company called Lord Chamberlains Men, which later become The Kings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gs Men were supported by King J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eo and Juliet was among the early plays of Shakespe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lay was written between 1594 and 159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1612 Shakespeare had written thirty-seven (37) pl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ther Play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us Caes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ml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ng 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dsummers Night’s D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nry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eath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kespeare died April 23, 1616 (52 years later on his birth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is buried under the old stone floor of Holy Trinity Church in Strat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is carved on his tombst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riend, for Jesus sake forb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g the dust enclose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ssed be the man that spares these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ursed be he that moves my b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s Theat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Burbage built the first permanent theater in En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ng companies played where they could find a sp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this would be in the courtyards of in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built the GLOBE Th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ater continue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is play Henry V Shakespeare calls his theater the Wooden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lings – people who stood around the stage for the price of a pe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4:55:36Z</dcterms:created>
  <dc:creator>Jefferson County Schools Jeff</dc:creator>
  <dc:description/>
  <dc:language>en-US</dc:language>
  <cp:lastModifiedBy>RomaK</cp:lastModifiedBy>
  <dcterms:modified xsi:type="dcterms:W3CDTF">2015-09-04T10:39:08Z</dcterms:modified>
  <cp:revision>25</cp:revision>
  <dc:subject/>
  <dc:title>shakespeares life</dc:title>
</cp:coreProperties>
</file>