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Kid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1E85-6299-4EA9-92C9-0B33F6C7A1FE}" type="slidenum">
              <a:rPr b="0" lang="en-GB" sz="1200" spc="-1" strike="noStrike">
                <a:solidFill>
                  <a:srgbClr val="000000"/>
                </a:solidFill>
                <a:latin typeface="Kid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William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was not considered a respectable profession by the English Purita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ll women’s parts were  played by bo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omen did not enter the theater until much later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uliet would have been played by a boy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Life and Ti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What we know about Shakespeare comes from church documents and legal record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ome documents that we have are baptismal registration, marriage license, and records of real estate transaction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Famil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the 3rd of eight children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April 23, 1564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born in Stratfor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dad was a shoemaker and sometimes served as a justice of the peac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’s Lif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was an acto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594, he was a charter member of the theatrical company called Lord Chamberlains Men, which later become The Kings Men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Kings Men were supported by King Jam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Romeo and Juliet was among the early plays of Shakespeare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is play was written between 1594 and 1596 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y 1612 Shakespeare had written thirty-seven (37) plays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r Play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Julius Caes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amlet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Othell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King L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acbe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Midsummers Night’s Dream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Kids"/>
              </a:rPr>
              <a:t>Henry V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Death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died April 23, 1616 (52 years later on his birthday)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He is buried under the old stone floor of Holy Trinity Church in Stratfor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 following is carved on his tombston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ood friend, for Jesus sake forbea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o dig the dust enclosed here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Blessed be the man that spares these stone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nd cursed be he that moves my bones”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s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James Burbage built the first permanent theater in England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Acting companies played where they could find a spot.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Usually this would be in the courtyards of inns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Shakespeare built the GLOBE Theater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Theater continued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In his play Henry V Shakespeare calls his theater the Wooden O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Kids"/>
              </a:rPr>
              <a:t>Groundlings – people who stood around the stage for the price of a penny</a:t>
            </a: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Kid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3308-023C-4F0E-9B52-5B0AC314A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17F-D7BC-40FA-9A0C-F10AB186D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A5BE-13C0-4745-B629-438545EC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D15C-B546-4CAB-8D58-D9BA1BE06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7BB15-14A9-4022-8526-54D47A88B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2F97-2387-4744-BCF4-DD4CF802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7C330-7576-4F3D-BC58-7BB433374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E5FC-503E-4285-BC02-B96DE3BF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A817-CA95-4602-B1D3-FFEBA3A29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DFF7-E4B1-41F4-AC40-DE3477DE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A9A4-9CAC-4B38-94DB-4C606CCD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8DD1-F301-4939-897A-D030C51C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4685-D2A5-4CBA-9700-003D2554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1FAF-FAED-46BF-B466-1E8EF2FF3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DC673-E7A7-4E1B-B179-CDB81969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9BDEB-1D45-454F-940F-BC1312F7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ED9B-429A-4718-B41D-5DE3297CD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0F77-904E-4629-B207-3FBF92F3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DCCB-7953-442C-8E8E-2FCB72EA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EBE2-284C-4848-B3FF-4F17DE1C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60EA-F26D-46C3-823D-B6576983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7337-298D-47F9-B199-4271A49FB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E349-9E5F-4720-A469-EF0E2C97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B03-F7C5-4E29-BA7E-C93E540A7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6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10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63D4-343E-4787-ACFC-BBA2AE3B7208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3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4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5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Line 8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9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Group 10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11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Group 1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13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14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Freeform 15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Freeform 16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CC8A8-7D48-4BC3-A9C2-EEAB87D9E47D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73240" y="-248436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800"/>
            </a:br>
            <a:br>
              <a:rPr sz="8800"/>
            </a:br>
            <a:br>
              <a:rPr sz="8800"/>
            </a:br>
            <a:br>
              <a:rPr sz="8800"/>
            </a:br>
            <a:endParaRPr b="0" i="1" lang="en-US" sz="8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600200" y="205740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Storybook"/>
              </a:rPr>
              <a:t>William Shakespear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Acting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ng was not considered a respectable profession by the English Purit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l women’s parts were  played by boy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omen did not enter the theater until much late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et would have been played by a bo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Life and Tim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we know about Shakespeare comes from church documents and legal record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documents that we have are baptismal registration, marriage license, and records of real estate transaction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Famil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the 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f eight childr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April 23, 1564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was born in Stratf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’s dad was a shoemaker and sometimes served as a justice of the pe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hakespeare died April 23, 1616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’s Lif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was an a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1594, he was a charter member of the theatrical company called Lord Chamberlains Men, which later become The Kings M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Kings Men were supported by King Ja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Romeo and Julie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omeo and Juliet was among the early plays of Shakespe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play was written between 1594 and 1596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y 1612 Shakespeare had written thirty-seven (37) play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ther Play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ulius Caes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ml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ll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ing Le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cbe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dsummers Night’s D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nry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Death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kespeare died April 23, 1616 (52 years later on his birthda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is buried under the old stone floor of Holy Trinity Church in Stratf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following is carved on his tombst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riend, for Jesus sake forb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ig the dust enclosed he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ssed be the man that spares these st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cursed be he that moves my bon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hakespeares Theater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mes Burbage built the first permanent theater in Eng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ng companies played where they could find a spo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ually this would be in the courtyards of in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kespeare built the GLOBE The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Theater continued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his play Henry V Shakespeare calls his theater the Wooden 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ndlings – people who stood around the stage for the price of a pen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4:55:36Z</dcterms:created>
  <dc:creator>Jefferson County Schools Jeff</dc:creator>
  <dc:description/>
  <dc:language>en-US</dc:language>
  <cp:lastModifiedBy>RomaK</cp:lastModifiedBy>
  <dcterms:modified xsi:type="dcterms:W3CDTF">2015-09-04T10:39:08Z</dcterms:modified>
  <cp:revision>25</cp:revision>
  <dc:subject/>
  <dc:title>shakespeares life</dc:title>
</cp:coreProperties>
</file>