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AA1-A6B9-48A9-8DD4-8AB8ACB3CA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BE9-D39A-4D59-87A8-6946D69C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AC8-90EF-407A-8E1A-CC41784D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FED-3CD8-461D-8336-DE0B8133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5E4-3B97-48F6-B650-18986A14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DA8-0317-44FD-9214-AA80F8AC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B96-E697-40A0-B0AD-2FD893F3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C34-E929-4571-94CC-0D5C7C13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7AB-BFCB-48E8-86A4-F8ACE087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91D-F1F3-417C-B702-66FEDDCF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80E-CEAE-4267-9BFD-FDC57C46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B73-91E7-4F8F-A1C6-EA93088F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C30-36A0-4D0D-B0E7-AFD12C7C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D855-9D33-41F0-B049-F4A5CC9ABD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aven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2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66" name="Rectangle 5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ravenII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duck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arrot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ove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nguin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nary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ravenII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RomaK</cp:lastModifiedBy>
  <dcterms:modified xsi:type="dcterms:W3CDTF">2015-09-04T10:39:49Z</dcterms:modified>
  <cp:revision>9</cp:revision>
  <dc:subject>The Raven</dc:subject>
  <dc:title>The Raven</dc:title>
</cp:coreProperties>
</file>