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whoosh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0AA8-63FC-4489-BE90-030D4C5ACC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ECA-7FC4-440F-B6F4-CBA48BA3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A0B-2F92-4B40-8894-ECB32174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339-B4B3-40D9-862F-0FA572F9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60B-2595-4538-9E5B-9D0F789F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3E4-F63C-4EEA-9514-F35C92EB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033-E6E7-4134-A597-6F7F373C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9DC-E517-4132-8F2F-79710D4A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FEB-7BDC-4D9E-8925-F4D79EE7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6EB-1063-47B3-8EC7-122C6E04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A14-778F-41EF-AE98-8C382DC3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178-42F5-496B-8B4F-5C3AE0C4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BBE-26B8-4CD0-8CBE-6DA3EF83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7205-2BD6-4D22-8AE4-436D53283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85840" y="1219320"/>
            <a:ext cx="2971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.B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Let’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Read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We Will L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little about the author, E.B.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bout the book “Trumpet of the Swa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formation about the Trumpeter Swan such as size, nesting habits,what they eat, and where we can fin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.B.Wh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as awarded the 1970 Laura Ingalls Wilder Medal for his children’s books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tuart Lit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rlotte’s Web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ved on a farm in Maine, where he found the inspiration for his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ed on October 1, 198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E"/>
          <p:cNvPicPr/>
          <p:nvPr/>
        </p:nvPicPr>
        <p:blipFill>
          <a:blip r:embed="rId1"/>
          <a:stretch/>
        </p:blipFill>
        <p:spPr>
          <a:xfrm>
            <a:off x="5216400" y="2133720"/>
            <a:ext cx="31244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Three Most Famous Boo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tuart L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Charlotte’s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re my stories true, you ask? No, they are imaginary tales, containing fantastic characters and events. I I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, a swan doesn’t blow a trumpet. Bu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 is only one kind of life – there is also the life of the imagination. And although my stories are imaginary, I like to think that there is some truth in them, too – truth about the way people and animals feel and think and ac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Trumpet of Swan"/>
          <p:cNvPicPr/>
          <p:nvPr/>
        </p:nvPicPr>
        <p:blipFill>
          <a:blip r:embed="rId1"/>
          <a:stretch/>
        </p:blipFill>
        <p:spPr>
          <a:xfrm>
            <a:off x="5689440" y="2133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er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trumpeter_swan_03"/>
          <p:cNvPicPr/>
          <p:nvPr/>
        </p:nvPicPr>
        <p:blipFill>
          <a:blip r:embed="rId2"/>
          <a:stretch/>
        </p:blipFill>
        <p:spPr>
          <a:xfrm>
            <a:off x="228600" y="228600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mpeters are the rarest swan in the world. They used to be abundant in North America but by the early 1900s, they were nearly extin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national restoration program began in the 1930s and trumpeter swans have responded well. They are still considered vulnerable in Ca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swan"/>
          <p:cNvPicPr/>
          <p:nvPr/>
        </p:nvPicPr>
        <p:blipFill>
          <a:blip r:embed="rId2"/>
          <a:stretch/>
        </p:blipFill>
        <p:spPr>
          <a:xfrm>
            <a:off x="5257800" y="1447920"/>
            <a:ext cx="3135240" cy="2438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25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"/>
          <p:cNvGrpSpPr/>
          <p:nvPr/>
        </p:nvGrpSpPr>
        <p:grpSpPr>
          <a:xfrm>
            <a:off x="0" y="2584440"/>
            <a:ext cx="482760" cy="351000"/>
            <a:chOff x="0" y="2584440"/>
            <a:chExt cx="482760" cy="351000"/>
          </a:xfrm>
        </p:grpSpPr>
        <p:sp>
          <p:nvSpPr>
            <p:cNvPr id="67" name="Rectangle 7"/>
            <p:cNvSpPr/>
            <p:nvPr/>
          </p:nvSpPr>
          <p:spPr>
            <a:xfrm>
              <a:off x="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0" y="2584440"/>
              <a:ext cx="4827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11"/>
          <p:cNvSpPr/>
          <p:nvPr/>
        </p:nvSpPr>
        <p:spPr>
          <a:xfrm>
            <a:off x="0" y="29354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3605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Nesting Ha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umpeter Swan nesting territories range from 6 to 150 acres in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est-building begins in mid-April and may take up to two wee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en the cygnets hatch in June, they weigh about 7 ounces. After a day or two, they take to the water to feed on insects and other aquatic inverteb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swanchicks"/>
          <p:cNvPicPr/>
          <p:nvPr/>
        </p:nvPicPr>
        <p:blipFill>
          <a:blip r:embed="rId2"/>
          <a:stretch/>
        </p:blipFill>
        <p:spPr>
          <a:xfrm>
            <a:off x="5105520" y="1447920"/>
            <a:ext cx="3782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Where We Find Trumpeter Sw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population map"/>
          <p:cNvPicPr/>
          <p:nvPr/>
        </p:nvPicPr>
        <p:blipFill>
          <a:blip r:embed="rId1"/>
          <a:stretch/>
        </p:blipFill>
        <p:spPr>
          <a:xfrm>
            <a:off x="1676520" y="1828800"/>
            <a:ext cx="614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1:42:25Z</dcterms:created>
  <dc:creator>.</dc:creator>
  <dc:description/>
  <dc:language>en-US</dc:language>
  <cp:lastModifiedBy>RomaK</cp:lastModifiedBy>
  <dcterms:modified xsi:type="dcterms:W3CDTF">2015-09-04T10:39:58Z</dcterms:modified>
  <cp:revision>12</cp:revision>
  <dc:subject/>
  <dc:title>The Trumpet of the Swans </dc:title>
</cp:coreProperties>
</file>