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60B0-0707-47F5-95E3-FF1EF44484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872-3789-4BCE-B2FA-0761D469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0E0-0A43-4550-87BC-20A7A671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933-4705-4300-B159-8386F574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20D-F44A-4381-9D09-D82EAFEA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E1F-07D2-4C77-B409-15D41C0E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C23-3ADA-47C6-BF8F-4C0DA16B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5EC-BED7-4BEA-A22E-F76F617E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6AD-55F2-44C6-B393-89ECEB7B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D4A-2670-4452-B310-BF5ED853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3AA-9430-4483-A485-22CBFC6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EB0-474D-4D5F-801A-13CC1C8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54C-21AE-4D4C-B168-32EAF44C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A09-B781-4096-A26D-680C5A454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1219320"/>
            <a:ext cx="2971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.B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Let’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Read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We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little about the author, E.B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bout the book “Trumpet of the Swa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ormation about the Trumpeter Swan such as size, nesting habits,what they eat, and where we can fin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.B.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as awarded the 1970 Laura Ingalls Wilder Medal for his children’s book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uart Lit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rlotte’s Web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d on a farm in Maine, where he found the inspiration for his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ed on October 1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E"/>
          <p:cNvPicPr/>
          <p:nvPr/>
        </p:nvPicPr>
        <p:blipFill>
          <a:blip r:embed="rId1"/>
          <a:stretch/>
        </p:blipFill>
        <p:spPr>
          <a:xfrm>
            <a:off x="5216400" y="2133720"/>
            <a:ext cx="3124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Three Most Famous Boo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tuart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harlotte’s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my stories true, you ask? No, they are imaginary tales, containing fantastic characters and events. I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, a swan doesn’t blow a trumpet. Bu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 is only one kind of life – there is also the life of the imagination. And although my stories are imaginary, I like to think that there is some truth in them, too – truth about the way people and animals feel and think and a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rumpet of Swan"/>
          <p:cNvPicPr/>
          <p:nvPr/>
        </p:nvPicPr>
        <p:blipFill>
          <a:blip r:embed="rId1"/>
          <a:stretch/>
        </p:blipFill>
        <p:spPr>
          <a:xfrm>
            <a:off x="5689440" y="2133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er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trumpeter_swan_03"/>
          <p:cNvPicPr/>
          <p:nvPr/>
        </p:nvPicPr>
        <p:blipFill>
          <a:blip r:embed="rId2"/>
          <a:stretch/>
        </p:blipFill>
        <p:spPr>
          <a:xfrm>
            <a:off x="228600" y="22860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peters are the rarest swan in the world. They used to be abundant in North America but by the early 1900s, they were nearly extin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restoration program began in the 1930s and trumpeter swans have responded well. They are still considered vulnerable in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swan"/>
          <p:cNvPicPr/>
          <p:nvPr/>
        </p:nvPicPr>
        <p:blipFill>
          <a:blip r:embed="rId2"/>
          <a:stretch/>
        </p:blipFill>
        <p:spPr>
          <a:xfrm>
            <a:off x="5257800" y="1447920"/>
            <a:ext cx="313524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0" y="2584440"/>
            <a:ext cx="482760" cy="351000"/>
            <a:chOff x="0" y="2584440"/>
            <a:chExt cx="482760" cy="351000"/>
          </a:xfrm>
        </p:grpSpPr>
        <p:sp>
          <p:nvSpPr>
            <p:cNvPr id="67" name="Rectangle 7"/>
            <p:cNvSpPr/>
            <p:nvPr/>
          </p:nvSpPr>
          <p:spPr>
            <a:xfrm>
              <a:off x="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0" y="2584440"/>
              <a:ext cx="4827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11"/>
          <p:cNvSpPr/>
          <p:nvPr/>
        </p:nvSpPr>
        <p:spPr>
          <a:xfrm>
            <a:off x="0" y="2935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3605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Nesting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umpeter Swan nesting territories range from 6 to 150 acres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est-building begins in mid-April and may take up to two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ygnets hatch in June, they weigh about 7 ounces. After a day or two, they take to the water to feed on insects and other aquatic inverteb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swanchicks"/>
          <p:cNvPicPr/>
          <p:nvPr/>
        </p:nvPicPr>
        <p:blipFill>
          <a:blip r:embed="rId2"/>
          <a:stretch/>
        </p:blipFill>
        <p:spPr>
          <a:xfrm>
            <a:off x="5105520" y="1447920"/>
            <a:ext cx="3782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Where We Find Trumpeter S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population map"/>
          <p:cNvPicPr/>
          <p:nvPr/>
        </p:nvPicPr>
        <p:blipFill>
          <a:blip r:embed="rId1"/>
          <a:stretch/>
        </p:blipFill>
        <p:spPr>
          <a:xfrm>
            <a:off x="1676520" y="1828800"/>
            <a:ext cx="614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1:42:25Z</dcterms:created>
  <dc:creator>.</dc:creator>
  <dc:description/>
  <dc:language>en-US</dc:language>
  <cp:lastModifiedBy>RomaK</cp:lastModifiedBy>
  <dcterms:modified xsi:type="dcterms:W3CDTF">2015-09-04T10:39:58Z</dcterms:modified>
  <cp:revision>12</cp:revision>
  <dc:subject/>
  <dc:title>The Trumpet of the Swans </dc:title>
</cp:coreProperties>
</file>