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D517-8319-4B4F-8255-B5E51724CA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205-3C5B-46EE-B0BE-3BD31D3A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73C-B5C3-4BCF-B9B6-279B0C3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436-37C5-4EA9-9DC8-08E4082B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309-7544-448C-BC99-501A67CF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A8DF-A8DE-4C1E-8A58-E1E4978A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A13E-154D-4A5A-A8A5-7208D074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512-6A7C-4937-80E0-FB22AB4E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7A16-C433-4F1A-A029-A4145E3D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1693-97E7-49DF-BD0F-ED02560C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F15F-46E0-4A19-B2B4-71F9A4CC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E6E7-B8C4-4FD7-A82E-8B357E35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1F1-ECCE-4599-884C-D6018CB0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92A2-EAAE-40BC-8B92-0AFFACF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ACF7-D0BE-44B8-8A21-7228877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42B9-7B96-43FE-8483-CB9B0818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7698-D59A-4166-975F-37DD3CB3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8034-D75B-4987-B467-37B28765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56D-F5F7-4D11-8ACC-790954E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4DE-6F47-4203-8C54-3CEDA2F9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D23-FB95-46D3-9B8C-4CB203D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F52-CC98-4BDE-B414-1158FC64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800-946C-4DAB-A70C-F47B056E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C38-85C5-4552-8F02-074D3C94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853-E880-41D8-8229-0586218F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2DFB-3CAF-458A-8DAF-B99C32FF93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BFE8-D6B3-4A45-B797-7B5ABEDCAA1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RomaK</cp:lastModifiedBy>
  <dcterms:modified xsi:type="dcterms:W3CDTF">2015-09-04T10:40:07Z</dcterms:modified>
  <cp:revision>31</cp:revision>
  <dc:subject/>
  <dc:title>To Kill a Mockingbird</dc:title>
</cp:coreProperties>
</file>