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AE7F-1D85-47D2-917A-4D3EEBA40F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ill a Mocking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hur “Boo” Rad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reputation of being a lun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ally a harmless, well-meaning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childlike in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ving for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s Jem and Scout from certa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young, harmless, innocent, hardworking black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a crippled left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be falsely accused of raping a white girl, Mayella E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 friend of Jem and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ives in Maycomb only during the summer (stays with a relat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s “big stori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deprived of love and af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oor White Famil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nninghams                  The Ew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e on very li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pay back their debts – even if it is with hickory nuts, turnips, or h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white tr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-for-n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done a day’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l-mou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-wo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fe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never take anything with paying i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f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stronger character than most of the wh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duc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iminated agai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ed about ba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ve better than what is dished out to them by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uses formal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wells use foul words and obsce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, Scout, and Dill will use slang words, typical of their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orous  (at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per L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was born in 1926 in Monroeville, Alabama (the fictional “Maycomb, Alabama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father “Amasa” was a lawyer whom she deeply adm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mother’s maiden name was “Finc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 own childhood mirrors that of the character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0 she published her only novel – “To Kill a Mockingbi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received the Pulitzer Prize for Literature in 19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1960, “To Kill a Mockingbird” has never been out of pr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ge 81, she is alive and resides in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rarely makes public appearances or gives 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ens are tried for a second time, and are again found gu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preme Court reverses the convictions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, four of the defendants are freed; the other five serve prison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Scottsboro defendant was paroled in 19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virtually impossible for a black to receive a fair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 capita income for families in Alabama (and Oklahoma) is $125 - $250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outhern blacks pick cotton for a 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klin D. Roosevelt is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comb, Alabama (fictional 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3-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During the 193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tler is Chancellor of 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ens’ biggest competitor in the long jump was a German named Luz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pite racial tensions, the two became good frie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se Owens won the gold medal and Long won the sil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egregation in Alabama, 1923-19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hite female nurses in hospitals that treat black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passenger car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waiting rooms for whites and bl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white and black convi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racial marri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water fount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regated theat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ine: A Southern Lady’s Dr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s Typical Morphine Addic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-aged or 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b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 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using morphine for medical reasons (pain relie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created by Mrs. Ward especially for the 4th Hour English I students at Warner High School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ope you enjoy the boo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ial Preju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nobb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ed for Con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:  Symbolizes Everything That is Good and Harmless in This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kingbird image or symbol appears four times in the no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Louis Finch – “Scou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’s nar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 is six when the story beg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naturally curious about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Character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ul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&amp; Frien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o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s in Maturity throughout the No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cus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Scout and J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d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torney by prof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y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citiz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lls good values and moral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 children call him “Attic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southern gentle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-sp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m Fin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ut’s older br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 up to his father Atti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looks out for Sc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older brother at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es as the story progr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pu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ch’s black housekee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watched the children since their mother’s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been a positive influence on the child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0AE6-AE29-4122-A0E2-F6A4CF4D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9AD7-7908-4F1E-8FBA-353A0CF2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8AC-2CD5-4EAE-876E-4A5386F2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5652-B4FD-4FB3-8BCF-123C6B40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E2684-0937-4F83-BB01-F1C9D0BA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D2C6-A339-43E2-8B9A-66C00BD2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F62B-6D39-4238-A68A-ABD04B98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7C65-ABCE-422D-834A-7D6AD5A7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CED7-3AAD-4C57-99DF-0A4AB056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0634-58F0-44EC-AA52-2FB0AE98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E336-5226-494D-B52F-4A372C7A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136-1F77-40B7-88D8-9A90958F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7768-5865-458E-BC7B-16BFE88A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0105-13D7-45F7-A618-2D6A6466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FE2A-866F-43CD-8697-E2E330EE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5748-CBA7-4599-B4C3-0AB1C10D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3839-5DEF-41FB-A3BD-58D71FC6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816-18B7-46EB-8FE6-0339182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DF3D-2071-4284-A711-B78AD659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481-8B4D-414D-974A-FF7CE73C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A139-494B-43D8-93B7-462A20BD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12C-C54F-497C-8243-79646AD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C08B-1C5D-4A79-86FB-571F250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15BA-0F54-4072-863D-B6E0A7E5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D6CC-34EE-4E1D-8F46-428425F5F5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5656-D1AE-446B-88A6-3014F4E27E4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teachpol.tcnj.edu/amer_pol_hist/thumbnail453.html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00600" y="1523520"/>
            <a:ext cx="3881520" cy="213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o Kill a Mockingbird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410080" y="388620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 Harper Le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1" name="Picture 6" descr="mockingbird"/>
          <p:cNvPicPr/>
          <p:nvPr/>
        </p:nvPicPr>
        <p:blipFill>
          <a:blip r:embed="rId1"/>
          <a:stretch/>
        </p:blipFill>
        <p:spPr>
          <a:xfrm>
            <a:off x="762120" y="1676520"/>
            <a:ext cx="380988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76360" y="7617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thur “Boo” Radl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2361960"/>
            <a:ext cx="8226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enigm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 adult man, whose father has “sentenced”  him to a lifetime confinement to their house because of some mischief he got into when he was a teenag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reputation of being a lunati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ically a harmless, well-meaning per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metimes childlike in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arving for love and affec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aves Jem and Scout from certain dang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Picture 5" descr="200px-Killmockingbird217"/>
          <p:cNvPicPr/>
          <p:nvPr/>
        </p:nvPicPr>
        <p:blipFill>
          <a:blip r:embed="rId1"/>
          <a:stretch/>
        </p:blipFill>
        <p:spPr>
          <a:xfrm>
            <a:off x="762120" y="135000"/>
            <a:ext cx="23619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m Robins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419720" y="1598400"/>
            <a:ext cx="426240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young, harmless, innocent, hardworking black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s a crippled left h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rried with three children. Works on a farm belonging to Mr. Link Deas, a white ma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ll be falsely accused of raping a white girl, Mayella E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Picture 5" descr="Copy_of_Mockingbird2"/>
          <p:cNvPicPr/>
          <p:nvPr/>
        </p:nvPicPr>
        <p:blipFill>
          <a:blip r:embed="rId1"/>
          <a:srcRect l="51562" t="0" r="0" b="0"/>
          <a:stretch/>
        </p:blipFill>
        <p:spPr>
          <a:xfrm>
            <a:off x="914400" y="1981080"/>
            <a:ext cx="29145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l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497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close friend of Jem and Scou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Usually lives in Maycomb only during the summer (stays with a relative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lls “big stories”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deprived of love and affec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Picture 5" descr="growing7"/>
          <p:cNvPicPr/>
          <p:nvPr/>
        </p:nvPicPr>
        <p:blipFill>
          <a:blip r:embed="rId1"/>
          <a:stretch/>
        </p:blipFill>
        <p:spPr>
          <a:xfrm>
            <a:off x="5257800" y="1905120"/>
            <a:ext cx="32004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wo Poor White Families:</a:t>
            </a:r>
            <a:br>
              <a:rPr sz="4000"/>
            </a:b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e Cunninghams                  The Ewell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fami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rvive on very lit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ways pay back their debts – even if it is with hickory nuts, turnips, or holl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or white tras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r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az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ood-for-noth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ever done a day’s wor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ul-mouthe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hon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mmor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Black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ea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rd-wor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od fear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u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ould never take anything with paying it bac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spectfu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ad stronger character than most of the whi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press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neduca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criminated agai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alked about bad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erve better than what is dished out to them by societ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219320"/>
            <a:ext cx="822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the language of Scout will be that of her as a child; other times, she will be speaking in the voice of an adu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tticus uses formal speec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lpurnia uses “white language” in the Finch house and switches to “black jargon” when amidst black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Ewells use foul words and obscenit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Jem, Scout, and Dill will use slang words, typical of their 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m Robinson uses language typical of the southern black such as “suh” for “sir” and “chillun” for “children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arious derogatory terms for blacks will be used such as “nigger,” “darky,” “Negroes,” and “colored folk” – Lee uses such language to keep her novel naturally in sync with common language of the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omber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Serious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Humorous  (at times)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32018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rper L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802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was born in 1926 in Monroeville, Alabama (the fictional “Maycomb, Alabama”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father “Amasa” was a lawyer whom she deeply admir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mother’s maiden name was “Finch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r own childhood mirrors that of the character “Scout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60 she published her only novel – “To Kill a Mockingbird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t received the Pulitzer Prize for Literature in 196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nce 1960, “To Kill a Mockingbird” has never been out of pri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t age 81, she is alive and resides in New York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he rarely makes public appearances or gives interview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7" name="Picture 7" descr="harper_lee"/>
          <p:cNvPicPr/>
          <p:nvPr/>
        </p:nvPicPr>
        <p:blipFill>
          <a:blip r:embed="rId1">
            <a:lum bright="12000"/>
          </a:blip>
          <a:srcRect l="48488" t="16668" r="0" b="0"/>
          <a:stretch/>
        </p:blipFill>
        <p:spPr>
          <a:xfrm>
            <a:off x="6172200" y="380880"/>
            <a:ext cx="1700280" cy="3200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Harper Lee receives an honorary degree from the University of Notre Dame, Indiana, US"/>
          <p:cNvPicPr/>
          <p:nvPr/>
        </p:nvPicPr>
        <p:blipFill>
          <a:blip r:embed="rId2"/>
          <a:stretch/>
        </p:blipFill>
        <p:spPr>
          <a:xfrm>
            <a:off x="5486400" y="3886200"/>
            <a:ext cx="3381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760" y="1219320"/>
            <a:ext cx="4037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ace Re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Nine black teenagers are falsely charged with raping two white women in Scottsboro, Alabama; eight are convicted and sentenced to death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U.S. Supreme Court reverses their convictions because their constitutional rights had been violat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teens are tried for a second time, and are again found guilt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Supreme Court reverses the convictions agai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ventually, four of the defendants are freed; the other five serve prison term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last Scottsboro defendant was paroled in 1950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t was virtually impossible for a black to receive a fair tria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1" name="Picture 7" descr="SCOTTS"/>
          <p:cNvPicPr/>
          <p:nvPr/>
        </p:nvPicPr>
        <p:blipFill>
          <a:blip r:embed="rId1"/>
          <a:stretch/>
        </p:blipFill>
        <p:spPr>
          <a:xfrm>
            <a:off x="4572000" y="1828800"/>
            <a:ext cx="419112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4" descr="FDR%20fireside%20chat%20March%201933"/>
          <p:cNvPicPr/>
          <p:nvPr/>
        </p:nvPicPr>
        <p:blipFill>
          <a:blip r:embed="rId1"/>
          <a:stretch/>
        </p:blipFill>
        <p:spPr>
          <a:xfrm>
            <a:off x="5562720" y="4038480"/>
            <a:ext cx="3122640" cy="23958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6720" cy="609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83772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Great Depression sweeps the nation – Many families do not even have money for basic needs such as food, clothing, and shelt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he per capita income for families in Alabama (and Oklahoma) is $125 - $250 a yea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any southern blacks pick cotton for a liv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ranklin D. Roosevelt is Presiden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Picture 5" descr="acoffee"/>
          <p:cNvPicPr/>
          <p:nvPr/>
        </p:nvPicPr>
        <p:blipFill>
          <a:blip r:embed="rId2"/>
          <a:srcRect l="0" t="0" r="0" b="17713"/>
          <a:stretch/>
        </p:blipFill>
        <p:spPr>
          <a:xfrm>
            <a:off x="5334120" y="160020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DLange"/>
          <p:cNvPicPr/>
          <p:nvPr/>
        </p:nvPicPr>
        <p:blipFill>
          <a:blip r:embed="rId3"/>
          <a:srcRect l="10978" t="13287" r="20497" b="13772"/>
          <a:stretch/>
        </p:blipFill>
        <p:spPr>
          <a:xfrm>
            <a:off x="3657600" y="4191120"/>
            <a:ext cx="1558800" cy="20574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7" descr="oldcotton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609480" y="44197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tt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aycomb, Alabama (fictional city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933-193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slavery has long been abolished, the Southerners in Maycomb continue to believe in white supremac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4" name="Picture 8" descr="Old Monroe County Courthouse"/>
          <p:cNvPicPr/>
          <p:nvPr/>
        </p:nvPicPr>
        <p:blipFill>
          <a:blip r:embed="rId1"/>
          <a:stretch/>
        </p:blipFill>
        <p:spPr>
          <a:xfrm>
            <a:off x="4419720" y="2368440"/>
            <a:ext cx="426708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2824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fe During the 1930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066680"/>
            <a:ext cx="5182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tler is Chancellor of German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e believes that Jews, African Americans, and other races are inferior to Anglo-Saxon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 1936, Jesse Owens, a black American athlete, traveled to Germany to participate in the Summer Olympics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wens’ biggest competitor in the long jump was a German named Luz Lo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spite racial tensions, the two became good friends.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Jesse Owens won the gold medal and Long won the sil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Long was later killed during World War II, and Jesse Owens traveled back to Germany to pay his respects when the war was over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0" name="Picture 7" descr="owen3"/>
          <p:cNvPicPr/>
          <p:nvPr/>
        </p:nvPicPr>
        <p:blipFill>
          <a:blip r:embed="rId1"/>
          <a:stretch/>
        </p:blipFill>
        <p:spPr>
          <a:xfrm>
            <a:off x="5943600" y="4419720"/>
            <a:ext cx="2610000" cy="20955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hitler4"/>
          <p:cNvPicPr/>
          <p:nvPr/>
        </p:nvPicPr>
        <p:blipFill>
          <a:blip r:embed="rId2"/>
          <a:stretch/>
        </p:blipFill>
        <p:spPr>
          <a:xfrm>
            <a:off x="6248520" y="1143000"/>
            <a:ext cx="2054160" cy="29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egal Segregation in Alabama, 1923-1940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white female nurses in hospitals that treat black m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passenger car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waiting rooms for whites and black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ion of white and black convi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parate school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No interracial marriag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water fountain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gregated theatr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4" name="Picture 9" descr="SEGREGATION"/>
          <p:cNvPicPr/>
          <p:nvPr/>
        </p:nvPicPr>
        <p:blipFill>
          <a:blip r:embed="rId1"/>
          <a:srcRect l="0" t="0" r="38020" b="0"/>
          <a:stretch/>
        </p:blipFill>
        <p:spPr>
          <a:xfrm>
            <a:off x="6248520" y="955800"/>
            <a:ext cx="2438280" cy="16747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2" descr="School segregation protest.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4876920" y="2819520"/>
            <a:ext cx="3254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151920"/>
            <a:ext cx="8226360" cy="762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orphine: A Southern Lady’s Drug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76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1930s Typical Morphine Addict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ite fema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iddle-aged or ol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idow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meboun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ves in the south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own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gan using morphine for medical reasons (pain relief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5080" y="990360"/>
            <a:ext cx="4037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n “To Kill a Mockingbird,” the Finch children will become acquainted with a morphine addict named Mrs. Dubose.  Although only a fictitious character, she personifies the American morphine addict of the late nineteenth and early twentieth centurie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9" name="Picture 6" descr="MrsDubose"/>
          <p:cNvPicPr/>
          <p:nvPr/>
        </p:nvPicPr>
        <p:blipFill>
          <a:blip r:embed="rId1"/>
          <a:srcRect l="9056" t="17400" r="15472" b="13000"/>
          <a:stretch/>
        </p:blipFill>
        <p:spPr>
          <a:xfrm>
            <a:off x="5486400" y="3657600"/>
            <a:ext cx="25160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605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This PowerPoint was created by Mrs. Ward especially for the 4</a:t>
            </a:r>
            <a:r>
              <a:rPr b="1" lang="en-US" sz="4800" spc="-1" strike="noStrike" baseline="30000">
                <a:solidFill>
                  <a:srgbClr val="ccecff"/>
                </a:solidFill>
                <a:latin typeface="Annie BTN"/>
              </a:rPr>
              <a:t>th</a:t>
            </a: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 Hour English I students at Warner High School.</a:t>
            </a:r>
            <a:br>
              <a:rPr sz="4800"/>
            </a:b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Annie BTN"/>
              </a:rPr>
              <a:t>I hope you enjoy the book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7257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acial Prejudi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ocial Snobbe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r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ler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at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mpa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Need for Consci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12" descr="Mkgbrd"/>
          <p:cNvPicPr/>
          <p:nvPr/>
        </p:nvPicPr>
        <p:blipFill>
          <a:blip r:embed="rId1"/>
          <a:stretch/>
        </p:blipFill>
        <p:spPr>
          <a:xfrm>
            <a:off x="5410080" y="1371600"/>
            <a:ext cx="3270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822636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ymbolis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760" y="21337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he Mockingbird:  Symbolizes Everything That is Good and Harmless in This Worl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only sings to please others and therefore it is considered a sin to shoot a mockingbird.  They are considered harmless creatures who give joy with their song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mockingbird image or symbol appears four times in the novel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wo characters in the novel symbolize the mockingbird:  Tom Robinson &amp; Boo Radley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mockingbird"/>
          <p:cNvPicPr/>
          <p:nvPr/>
        </p:nvPicPr>
        <p:blipFill>
          <a:blip r:embed="rId1"/>
          <a:stretch/>
        </p:blipFill>
        <p:spPr>
          <a:xfrm>
            <a:off x="6594480" y="304920"/>
            <a:ext cx="1347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an Louis Finch – “Scout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37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story’s nar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lthough now an adult, Scout looks back at her childhood and tells of the momentous events and influential people of those year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cout is six when the story begi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he is naturally curious about lif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3" name="Picture 5" descr="badham213"/>
          <p:cNvPicPr/>
          <p:nvPr/>
        </p:nvPicPr>
        <p:blipFill>
          <a:blip r:embed="rId1"/>
          <a:stretch/>
        </p:blipFill>
        <p:spPr>
          <a:xfrm>
            <a:off x="4913280" y="1598760"/>
            <a:ext cx="35006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cout’s Character Trai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mbo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uls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mot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arm &amp; Friendl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nsitiv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orab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ains in Maturity throughout the No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Picture 5" descr="4764scout"/>
          <p:cNvPicPr/>
          <p:nvPr/>
        </p:nvPicPr>
        <p:blipFill>
          <a:blip r:embed="rId1"/>
          <a:srcRect l="5462" t="2216" r="4435" b="11315"/>
          <a:stretch/>
        </p:blipFill>
        <p:spPr>
          <a:xfrm>
            <a:off x="4876920" y="15238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tticus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ather of Scout and J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 widow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n attorney by profes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ghly respect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ood citiz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Instills good values and morals in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is children call him “Atticus”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Hones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ypical southern gentlema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Brav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urteou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oft-spoke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9" name="Picture 5" descr="060501"/>
          <p:cNvPicPr/>
          <p:nvPr/>
        </p:nvPicPr>
        <p:blipFill>
          <a:blip r:embed="rId1"/>
          <a:stretch/>
        </p:blipFill>
        <p:spPr>
          <a:xfrm>
            <a:off x="5211720" y="1752480"/>
            <a:ext cx="3352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em Fin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1" name="Picture 7" descr="plot1.jpg"/>
          <p:cNvPicPr/>
          <p:nvPr/>
        </p:nvPicPr>
        <p:blipFill>
          <a:blip r:embed="rId1"/>
          <a:srcRect l="2671" t="9520" r="44004" b="11908"/>
          <a:stretch/>
        </p:blipFill>
        <p:spPr>
          <a:xfrm>
            <a:off x="5486400" y="1752480"/>
            <a:ext cx="2585880" cy="42674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9"/>
          <p:cNvSpPr/>
          <p:nvPr/>
        </p:nvSpPr>
        <p:spPr>
          <a:xfrm>
            <a:off x="838080" y="1752480"/>
            <a:ext cx="44197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cout’s older brot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ooks up to his father Atticu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ually looks out for Scou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ypical older brother at tim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r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ssiona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atures as the story progress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alpurn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00040" y="1598760"/>
            <a:ext cx="53341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Finch’s black housekeep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watched the children since their mother’s death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as been a positive influence on the childre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5" name="Picture 5" descr="CalandScout"/>
          <p:cNvPicPr/>
          <p:nvPr/>
        </p:nvPicPr>
        <p:blipFill>
          <a:blip r:embed="rId1"/>
          <a:srcRect l="47973" t="0" r="0" b="0"/>
          <a:stretch/>
        </p:blipFill>
        <p:spPr>
          <a:xfrm>
            <a:off x="838080" y="1219320"/>
            <a:ext cx="21463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0:58:19Z</dcterms:created>
  <dc:creator>Lisa Ward</dc:creator>
  <dc:description/>
  <dc:language>en-US</dc:language>
  <cp:lastModifiedBy>RomaK</cp:lastModifiedBy>
  <dcterms:modified xsi:type="dcterms:W3CDTF">2015-09-04T10:40:07Z</dcterms:modified>
  <cp:revision>31</cp:revision>
  <dc:subject/>
  <dc:title>To Kill a Mockingbird</dc:title>
</cp:coreProperties>
</file>