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2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9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wmf" ContentType="image/x-wmf"/>
  <Override PartName="/ppt/media/image24.wmf" ContentType="image/x-wmf"/>
  <Override PartName="/ppt/media/image9.jpeg" ContentType="image/jpeg"/>
  <Override PartName="/ppt/media/image2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D131-F90C-4A7F-BD13-07B75746FC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, Molecules and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radius ~ 100 pm = 1 x 10-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adius ~ 5 x 10-3 pm = 5 x 10-1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Model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is the Houston Astrod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the nucleus is a marble on the 50 yar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dwick’s Experiment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atoms - 1 p; He atoms - 2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He/mass H should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He/mass H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(n) is neutral (charge =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mass ~ p mass = 1.67 x 10-24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atomic Particles (Table 2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ss p = mass n = 1840 x mass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(Z) = number of proton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(A) = number of protons + 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atomic number (Z) + 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 atoms of the same element (X) with different numbers of neutrons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8 (14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protons, 5 (11 - 6) neutrons, 6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 You Understand Isot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e is an aggregate of two or more atoms in a definite arrangement held together by chemical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atomic molecule contains only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, N2, O2, Br2, HCl,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molecule contains more than two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, H2O, NH3, C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on is an atom, or group of atoms, that has a net positive or nega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ion – ion with a posi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lose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 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on – ion with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neutral atom gains one or mor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an an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 monatomic ion contains only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lyatomic ion contains more than on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, Cl-, Ca2+, O2-, Al3+, N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, CN-, NH4+,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 (180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extremely small particles called atoms.  All atoms of a given element are identical.  The atoms of one element are different from the atoms of all other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are composed of atoms of more than one element. The relative number of atoms of each element in a given compound is always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only involve the rearrangement of atoms. Atoms are not created or destroyed in chemical reac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protons, 10 (13 – 3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 protons, 36 (34 + 2)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Understand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lecular formula shows the exact number of atoms of each element in the smallest unit of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mpirical formula shows the simpl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-number ratio of the atoms in a sub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2H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compounds consist of a cation and an a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ula is always the same as the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the charges on the cation and anion in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ula unit must equal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ic compound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ula of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3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B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3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lyatomic Ions (Table 2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Nomencl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ten a metal + non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on (nonmetal), add “ide” to element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r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gnesium hydr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tassium nit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 metal ion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charge on metal with Roman num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Cl-  -2 so Fe is +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-  -3 so Fe is +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(III) chlori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2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S-2 -6 so Cr is +3 (6/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um(III) sulf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s or nonmetals + metall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NH3, CH4, C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further left in periodic table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closest to bottom of group is 1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ore than one compound can be formed from the same elements, use prefixes to indicate number of each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element ends in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d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F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triflu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lfur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Cl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tetra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nitrogen mon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ar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cid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drogen ions (H+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re substance, hydrogen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solved in water (H+ Cl-), 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xoacid is an acid that contains hydrogen, oxygen, and another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se can be defined as a substance that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xide ions (OH-) when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X2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Conservation of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J. Thomson, measured mass/charge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6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charge = -1.60 x 10-19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charge/mass of e- = -1.76 x 108 C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 mass = 9.10 x 10-28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mass of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23 Nobel Prize in Physic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Uranium compou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positive charge is concentrated 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(p) has opposite (+) charge of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 is 1840 x mass of e- (1.67 x 10-24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 velocity ~ 1.4 x 107 m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~5% speed of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908 Nobel Prize in Chemist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9DB-B4B6-4398-85AD-A9CBF810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FCD4-3E97-490D-8E75-866144AD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2D4-D033-4B4B-9DE5-75130FC4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665-83C0-472A-91F9-E21D9D52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310D-8D56-4F6A-98F9-88DC36CC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05C-92CA-49B6-812E-E71A5E0B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0CA3-0CCA-486D-94AE-032A227E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5CD6-AA1D-4E66-9C9D-E9633C13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CCF-680F-4EC8-AA82-196DD7A8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AAE-012C-4434-A5D7-02F63FA3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588-F22A-49C4-BBF7-07D57AE5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EBB6-D13D-48AC-9F51-B0A190DD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A5B2-8184-46C7-8F1A-BB054AAED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, Molecules and 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NA00119_"/>
          <p:cNvPicPr/>
          <p:nvPr/>
        </p:nvPicPr>
        <p:blipFill>
          <a:blip r:embed="rId1"/>
          <a:stretch/>
        </p:blipFill>
        <p:spPr>
          <a:xfrm>
            <a:off x="0" y="0"/>
            <a:ext cx="2320920" cy="232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NA00121_"/>
          <p:cNvPicPr/>
          <p:nvPr/>
        </p:nvPicPr>
        <p:blipFill>
          <a:blip r:embed="rId2"/>
          <a:stretch/>
        </p:blipFill>
        <p:spPr>
          <a:xfrm>
            <a:off x="5788080" y="4343400"/>
            <a:ext cx="33559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f0002_9l"/>
          <p:cNvPicPr/>
          <p:nvPr/>
        </p:nvPicPr>
        <p:blipFill>
          <a:blip r:embed="rId1"/>
          <a:srcRect l="0" t="23250" r="0" b="0"/>
          <a:stretch/>
        </p:blipFill>
        <p:spPr>
          <a:xfrm>
            <a:off x="914400" y="57240"/>
            <a:ext cx="7315200" cy="42098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486080" y="417672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radius ~ 100 pm = 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radius ~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m = 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722120" y="177840"/>
            <a:ext cx="451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therford’s Model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8"/>
          <p:cNvSpPr txBox="1"/>
          <p:nvPr/>
        </p:nvSpPr>
        <p:spPr>
          <a:xfrm>
            <a:off x="1252440" y="5410080"/>
            <a:ext cx="66582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If the atom is the Houston Astrodome 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en the nucleus is a marble on the 50 yard line</a:t>
            </a:r>
            <a:endParaRPr b="1" lang="en-US" sz="2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wick’s Experiment (193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8120" y="1832040"/>
            <a:ext cx="5257800" cy="1689840"/>
          </a:xfrm>
          <a:prstGeom prst="rect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toms - 1 p; He atoms - 2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He/mass H should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d mass He/mass H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1752480" y="1792440"/>
            <a:ext cx="855720" cy="163656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1"/>
          <p:cNvGrpSpPr/>
          <p:nvPr/>
        </p:nvGrpSpPr>
        <p:grpSpPr>
          <a:xfrm>
            <a:off x="1828800" y="4572000"/>
            <a:ext cx="5715000" cy="546120"/>
            <a:chOff x="1828800" y="4572000"/>
            <a:chExt cx="5715000" cy="546120"/>
          </a:xfrm>
        </p:grpSpPr>
        <p:sp>
          <p:nvSpPr>
            <p:cNvPr id="102" name="Text Box 6"/>
            <p:cNvSpPr/>
            <p:nvPr/>
          </p:nvSpPr>
          <p:spPr>
            <a:xfrm>
              <a:off x="1828800" y="4572000"/>
              <a:ext cx="154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3529080" y="4876920"/>
              <a:ext cx="84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8"/>
            <p:cNvSpPr/>
            <p:nvPr/>
          </p:nvSpPr>
          <p:spPr>
            <a:xfrm>
              <a:off x="4456080" y="4597560"/>
              <a:ext cx="308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 +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 + energ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9"/>
          <p:cNvSpPr/>
          <p:nvPr/>
        </p:nvSpPr>
        <p:spPr>
          <a:xfrm>
            <a:off x="685800" y="5257800"/>
            <a:ext cx="556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eutron (n) is neutral (charge =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m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 mass = 1.6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10" descr=""/>
          <p:cNvPicPr/>
          <p:nvPr/>
        </p:nvPicPr>
        <p:blipFill>
          <a:blip r:embed="rId2"/>
          <a:stretch/>
        </p:blipFill>
        <p:spPr>
          <a:xfrm>
            <a:off x="7302600" y="4495680"/>
            <a:ext cx="1841400" cy="1720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28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 (Table 2.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677880" y="2031840"/>
          <a:ext cx="7432560" cy="38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2031840"/>
                    <a:ext cx="7432560" cy="38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4"/>
          <p:cNvSpPr/>
          <p:nvPr/>
        </p:nvSpPr>
        <p:spPr>
          <a:xfrm>
            <a:off x="1295280" y="58672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ass p = mass n = 1840 x mass e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6320" y="231840"/>
            <a:ext cx="8991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omic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Z) = number of protons in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= number of protons + number of neut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atomic number (Z) + number of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to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atoms of the same element (X) with different numbers of neutrons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4178880" y="3048120"/>
            <a:ext cx="772560" cy="815040"/>
            <a:chOff x="4178880" y="3048120"/>
            <a:chExt cx="772560" cy="815040"/>
          </a:xfrm>
        </p:grpSpPr>
        <p:sp>
          <p:nvSpPr>
            <p:cNvPr id="115" name="Text Box 4"/>
            <p:cNvSpPr/>
            <p:nvPr/>
          </p:nvSpPr>
          <p:spPr>
            <a:xfrm>
              <a:off x="4439880" y="3117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417888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4213080" y="34034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478600" y="4145040"/>
            <a:ext cx="4633920" cy="751680"/>
            <a:chOff x="2478600" y="4145040"/>
            <a:chExt cx="4633920" cy="751680"/>
          </a:xfrm>
        </p:grpSpPr>
        <p:grpSp>
          <p:nvGrpSpPr>
            <p:cNvPr id="119" name="Group 8"/>
            <p:cNvGrpSpPr/>
            <p:nvPr/>
          </p:nvGrpSpPr>
          <p:grpSpPr>
            <a:xfrm>
              <a:off x="2478600" y="4145040"/>
              <a:ext cx="685440" cy="751680"/>
              <a:chOff x="2478600" y="4145040"/>
              <a:chExt cx="685440" cy="751680"/>
            </a:xfrm>
          </p:grpSpPr>
          <p:sp>
            <p:nvSpPr>
              <p:cNvPr id="120" name="Text Box 9"/>
              <p:cNvSpPr/>
              <p:nvPr/>
            </p:nvSpPr>
            <p:spPr>
              <a:xfrm>
                <a:off x="2652480" y="421632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0"/>
              <p:cNvSpPr/>
              <p:nvPr/>
            </p:nvSpPr>
            <p:spPr>
              <a:xfrm>
                <a:off x="24786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11"/>
              <p:cNvSpPr/>
              <p:nvPr/>
            </p:nvSpPr>
            <p:spPr>
              <a:xfrm>
                <a:off x="24786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2"/>
            <p:cNvGrpSpPr/>
            <p:nvPr/>
          </p:nvGrpSpPr>
          <p:grpSpPr>
            <a:xfrm>
              <a:off x="3821400" y="4145040"/>
              <a:ext cx="1447200" cy="751680"/>
              <a:chOff x="3821400" y="4145040"/>
              <a:chExt cx="1447200" cy="751680"/>
            </a:xfrm>
          </p:grpSpPr>
          <p:sp>
            <p:nvSpPr>
              <p:cNvPr id="124" name="Text Box 13"/>
              <p:cNvSpPr/>
              <p:nvPr/>
            </p:nvSpPr>
            <p:spPr>
              <a:xfrm>
                <a:off x="3995280" y="4214880"/>
                <a:ext cx="127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D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14"/>
              <p:cNvSpPr/>
              <p:nvPr/>
            </p:nvSpPr>
            <p:spPr>
              <a:xfrm>
                <a:off x="38214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5"/>
              <p:cNvSpPr/>
              <p:nvPr/>
            </p:nvSpPr>
            <p:spPr>
              <a:xfrm>
                <a:off x="38214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6"/>
            <p:cNvGrpSpPr/>
            <p:nvPr/>
          </p:nvGrpSpPr>
          <p:grpSpPr>
            <a:xfrm>
              <a:off x="5716800" y="4145040"/>
              <a:ext cx="1395720" cy="751680"/>
              <a:chOff x="5716800" y="4145040"/>
              <a:chExt cx="1395720" cy="751680"/>
            </a:xfrm>
          </p:grpSpPr>
          <p:sp>
            <p:nvSpPr>
              <p:cNvPr id="128" name="Text Box 17"/>
              <p:cNvSpPr/>
              <p:nvPr/>
            </p:nvSpPr>
            <p:spPr>
              <a:xfrm>
                <a:off x="5891040" y="4214880"/>
                <a:ext cx="1221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H (T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8"/>
              <p:cNvSpPr/>
              <p:nvPr/>
            </p:nvSpPr>
            <p:spPr>
              <a:xfrm>
                <a:off x="5716800" y="414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9"/>
              <p:cNvSpPr/>
              <p:nvPr/>
            </p:nvSpPr>
            <p:spPr>
              <a:xfrm>
                <a:off x="5716800" y="44370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28"/>
          <p:cNvGrpSpPr/>
          <p:nvPr/>
        </p:nvGrpSpPr>
        <p:grpSpPr>
          <a:xfrm>
            <a:off x="2920320" y="5180040"/>
            <a:ext cx="3152160" cy="751680"/>
            <a:chOff x="2920320" y="5180040"/>
            <a:chExt cx="3152160" cy="751680"/>
          </a:xfrm>
        </p:grpSpPr>
        <p:grpSp>
          <p:nvGrpSpPr>
            <p:cNvPr id="132" name="Group 20"/>
            <p:cNvGrpSpPr/>
            <p:nvPr/>
          </p:nvGrpSpPr>
          <p:grpSpPr>
            <a:xfrm>
              <a:off x="2920320" y="5180040"/>
              <a:ext cx="1116360" cy="751680"/>
              <a:chOff x="2920320" y="5180040"/>
              <a:chExt cx="1116360" cy="751680"/>
            </a:xfrm>
          </p:grpSpPr>
          <p:sp>
            <p:nvSpPr>
              <p:cNvPr id="133" name="Text Box 21"/>
              <p:cNvSpPr/>
              <p:nvPr/>
            </p:nvSpPr>
            <p:spPr>
              <a:xfrm>
                <a:off x="35251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2"/>
              <p:cNvSpPr/>
              <p:nvPr/>
            </p:nvSpPr>
            <p:spPr>
              <a:xfrm>
                <a:off x="292032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3"/>
              <p:cNvSpPr/>
              <p:nvPr/>
            </p:nvSpPr>
            <p:spPr>
              <a:xfrm>
                <a:off x="308484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4"/>
            <p:cNvGrpSpPr/>
            <p:nvPr/>
          </p:nvGrpSpPr>
          <p:grpSpPr>
            <a:xfrm>
              <a:off x="4955400" y="5180040"/>
              <a:ext cx="1117080" cy="751680"/>
              <a:chOff x="4955400" y="5180040"/>
              <a:chExt cx="1117080" cy="751680"/>
            </a:xfrm>
          </p:grpSpPr>
          <p:sp>
            <p:nvSpPr>
              <p:cNvPr id="137" name="Text Box 25"/>
              <p:cNvSpPr/>
              <p:nvPr/>
            </p:nvSpPr>
            <p:spPr>
              <a:xfrm>
                <a:off x="5560920" y="521316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4955400" y="518004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5120280" y="54720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38"/>
          <p:cNvGrpSpPr/>
          <p:nvPr/>
        </p:nvGrpSpPr>
        <p:grpSpPr>
          <a:xfrm>
            <a:off x="1983960" y="3030480"/>
            <a:ext cx="2223000" cy="398880"/>
            <a:chOff x="1983960" y="3030480"/>
            <a:chExt cx="2223000" cy="398880"/>
          </a:xfrm>
        </p:grpSpPr>
        <p:sp>
          <p:nvSpPr>
            <p:cNvPr id="141" name="Text Box 29"/>
            <p:cNvSpPr/>
            <p:nvPr/>
          </p:nvSpPr>
          <p:spPr>
            <a:xfrm>
              <a:off x="1983960" y="3030480"/>
              <a:ext cx="183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Mass Number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3673440" y="324468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1829520" y="3425760"/>
            <a:ext cx="2377440" cy="398880"/>
            <a:chOff x="1829520" y="3425760"/>
            <a:chExt cx="2377440" cy="398880"/>
          </a:xfrm>
        </p:grpSpPr>
        <p:sp>
          <p:nvSpPr>
            <p:cNvPr id="144" name="Text Box 30"/>
            <p:cNvSpPr/>
            <p:nvPr/>
          </p:nvSpPr>
          <p:spPr>
            <a:xfrm>
              <a:off x="1829520" y="3425760"/>
              <a:ext cx="193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Atomic Nu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2"/>
            <p:cNvSpPr/>
            <p:nvPr/>
          </p:nvSpPr>
          <p:spPr>
            <a:xfrm>
              <a:off x="3673440" y="3643200"/>
              <a:ext cx="53352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37"/>
          <p:cNvGrpSpPr/>
          <p:nvPr/>
        </p:nvGrpSpPr>
        <p:grpSpPr>
          <a:xfrm>
            <a:off x="4909680" y="3255840"/>
            <a:ext cx="2536560" cy="398880"/>
            <a:chOff x="4909680" y="3255840"/>
            <a:chExt cx="2536560" cy="398880"/>
          </a:xfrm>
        </p:grpSpPr>
        <p:sp>
          <p:nvSpPr>
            <p:cNvPr id="147" name="Text Box 35"/>
            <p:cNvSpPr/>
            <p:nvPr/>
          </p:nvSpPr>
          <p:spPr>
            <a:xfrm>
              <a:off x="5413680" y="32558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Element Symb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 flipH="1">
              <a:off x="4909680" y="3459240"/>
              <a:ext cx="533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ma02_0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3808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380880" y="1928880"/>
            <a:ext cx="8416440" cy="713520"/>
            <a:chOff x="380880" y="1928880"/>
            <a:chExt cx="8416440" cy="713520"/>
          </a:xfrm>
        </p:grpSpPr>
        <p:sp>
          <p:nvSpPr>
            <p:cNvPr id="153" name="Text Box 3"/>
            <p:cNvSpPr/>
            <p:nvPr/>
          </p:nvSpPr>
          <p:spPr>
            <a:xfrm>
              <a:off x="380880" y="20257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7621200" y="1928880"/>
              <a:ext cx="965160" cy="713520"/>
              <a:chOff x="7621200" y="1928880"/>
              <a:chExt cx="965160" cy="713520"/>
            </a:xfrm>
          </p:grpSpPr>
          <p:sp>
            <p:nvSpPr>
              <p:cNvPr id="155" name="Text Box 5"/>
              <p:cNvSpPr/>
              <p:nvPr/>
            </p:nvSpPr>
            <p:spPr>
              <a:xfrm>
                <a:off x="8100720" y="19605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6"/>
              <p:cNvSpPr/>
              <p:nvPr/>
            </p:nvSpPr>
            <p:spPr>
              <a:xfrm>
                <a:off x="7621200" y="1928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"/>
              <p:cNvSpPr/>
              <p:nvPr/>
            </p:nvSpPr>
            <p:spPr>
              <a:xfrm>
                <a:off x="7786440" y="218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8"/>
            <p:cNvSpPr/>
            <p:nvPr/>
          </p:nvSpPr>
          <p:spPr>
            <a:xfrm>
              <a:off x="8459640" y="1995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420840" y="4038480"/>
            <a:ext cx="8416440" cy="713520"/>
            <a:chOff x="420840" y="4038480"/>
            <a:chExt cx="8416440" cy="713520"/>
          </a:xfrm>
        </p:grpSpPr>
        <p:sp>
          <p:nvSpPr>
            <p:cNvPr id="160" name="Text Box 10"/>
            <p:cNvSpPr/>
            <p:nvPr/>
          </p:nvSpPr>
          <p:spPr>
            <a:xfrm>
              <a:off x="420840" y="4135320"/>
              <a:ext cx="725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, neutrons,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11"/>
            <p:cNvGrpSpPr/>
            <p:nvPr/>
          </p:nvGrpSpPr>
          <p:grpSpPr>
            <a:xfrm>
              <a:off x="7661160" y="4038480"/>
              <a:ext cx="965160" cy="713520"/>
              <a:chOff x="7661160" y="4038480"/>
              <a:chExt cx="965160" cy="713520"/>
            </a:xfrm>
          </p:grpSpPr>
          <p:sp>
            <p:nvSpPr>
              <p:cNvPr id="162" name="Text Box 12"/>
              <p:cNvSpPr/>
              <p:nvPr/>
            </p:nvSpPr>
            <p:spPr>
              <a:xfrm>
                <a:off x="8140680" y="40701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13"/>
              <p:cNvSpPr/>
              <p:nvPr/>
            </p:nvSpPr>
            <p:spPr>
              <a:xfrm>
                <a:off x="7661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14"/>
              <p:cNvSpPr/>
              <p:nvPr/>
            </p:nvSpPr>
            <p:spPr>
              <a:xfrm>
                <a:off x="7826400" y="4292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Text Box 15"/>
            <p:cNvSpPr/>
            <p:nvPr/>
          </p:nvSpPr>
          <p:spPr>
            <a:xfrm>
              <a:off x="8499600" y="41050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6"/>
          <p:cNvSpPr/>
          <p:nvPr/>
        </p:nvSpPr>
        <p:spPr>
          <a:xfrm>
            <a:off x="1212840" y="29084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8 (14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216080" y="4965840"/>
            <a:ext cx="67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protons, 5 (11 - 6) neutrons, 6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1418400" y="423720"/>
            <a:ext cx="63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soto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f0002_10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14"/>
          <p:cNvGrpSpPr/>
          <p:nvPr/>
        </p:nvGrpSpPr>
        <p:grpSpPr>
          <a:xfrm>
            <a:off x="1319040" y="2870280"/>
            <a:ext cx="2448000" cy="402840"/>
            <a:chOff x="1319040" y="2870280"/>
            <a:chExt cx="2448000" cy="402840"/>
          </a:xfrm>
        </p:grpSpPr>
        <p:sp>
          <p:nvSpPr>
            <p:cNvPr id="173" name="Text Box 4"/>
            <p:cNvSpPr/>
            <p:nvPr/>
          </p:nvSpPr>
          <p:spPr>
            <a:xfrm>
              <a:off x="2014560" y="2870280"/>
              <a:ext cx="9716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5"/>
            <p:cNvSpPr/>
            <p:nvPr/>
          </p:nvSpPr>
          <p:spPr>
            <a:xfrm>
              <a:off x="2928960" y="3073320"/>
              <a:ext cx="8380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1319040" y="3073320"/>
              <a:ext cx="685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000" bIns="-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9"/>
          <p:cNvGrpSpPr/>
          <p:nvPr/>
        </p:nvGrpSpPr>
        <p:grpSpPr>
          <a:xfrm>
            <a:off x="6628320" y="2219400"/>
            <a:ext cx="402840" cy="2419200"/>
            <a:chOff x="6628320" y="2219400"/>
            <a:chExt cx="402840" cy="2419200"/>
          </a:xfrm>
        </p:grpSpPr>
        <p:sp>
          <p:nvSpPr>
            <p:cNvPr id="177" name="Text Box 16"/>
            <p:cNvSpPr/>
            <p:nvPr/>
          </p:nvSpPr>
          <p:spPr>
            <a:xfrm rot="5400000">
              <a:off x="6359760" y="3151080"/>
              <a:ext cx="93960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6831360" y="380052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6831360" y="221940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4"/>
          <p:cNvGrpSpPr/>
          <p:nvPr/>
        </p:nvGrpSpPr>
        <p:grpSpPr>
          <a:xfrm>
            <a:off x="95760" y="1528920"/>
            <a:ext cx="402840" cy="3171240"/>
            <a:chOff x="95760" y="1528920"/>
            <a:chExt cx="402840" cy="3171240"/>
          </a:xfrm>
        </p:grpSpPr>
        <p:sp>
          <p:nvSpPr>
            <p:cNvPr id="181" name="Text Box 21"/>
            <p:cNvSpPr/>
            <p:nvPr/>
          </p:nvSpPr>
          <p:spPr>
            <a:xfrm rot="5400000">
              <a:off x="-526680" y="2829960"/>
              <a:ext cx="164808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2"/>
            <p:cNvSpPr/>
            <p:nvPr/>
          </p:nvSpPr>
          <p:spPr>
            <a:xfrm>
              <a:off x="302040" y="3862440"/>
              <a:ext cx="0" cy="837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3"/>
            <p:cNvSpPr/>
            <p:nvPr/>
          </p:nvSpPr>
          <p:spPr>
            <a:xfrm>
              <a:off x="302040" y="1528920"/>
              <a:ext cx="0" cy="685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9"/>
          <p:cNvGrpSpPr/>
          <p:nvPr/>
        </p:nvGrpSpPr>
        <p:grpSpPr>
          <a:xfrm>
            <a:off x="8669520" y="1620720"/>
            <a:ext cx="402840" cy="2928960"/>
            <a:chOff x="8669520" y="1620720"/>
            <a:chExt cx="402840" cy="2928960"/>
          </a:xfrm>
        </p:grpSpPr>
        <p:sp>
          <p:nvSpPr>
            <p:cNvPr id="185" name="Text Box 26"/>
            <p:cNvSpPr/>
            <p:nvPr/>
          </p:nvSpPr>
          <p:spPr>
            <a:xfrm rot="5400000">
              <a:off x="8105400" y="2863440"/>
              <a:ext cx="153072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ble 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>
              <a:off x="8874000" y="3711240"/>
              <a:ext cx="0" cy="83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8"/>
            <p:cNvSpPr/>
            <p:nvPr/>
          </p:nvSpPr>
          <p:spPr>
            <a:xfrm>
              <a:off x="8874000" y="16207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4"/>
          <p:cNvGrpSpPr/>
          <p:nvPr/>
        </p:nvGrpSpPr>
        <p:grpSpPr>
          <a:xfrm>
            <a:off x="8160120" y="2004840"/>
            <a:ext cx="402840" cy="2671920"/>
            <a:chOff x="8160120" y="2004840"/>
            <a:chExt cx="402840" cy="2671920"/>
          </a:xfrm>
        </p:grpSpPr>
        <p:sp>
          <p:nvSpPr>
            <p:cNvPr id="189" name="Text Box 31"/>
            <p:cNvSpPr/>
            <p:nvPr/>
          </p:nvSpPr>
          <p:spPr>
            <a:xfrm rot="5400000">
              <a:off x="7749360" y="3094920"/>
              <a:ext cx="122436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l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>
              <a:off x="8366040" y="383868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366040" y="200484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39"/>
          <p:cNvGrpSpPr/>
          <p:nvPr/>
        </p:nvGrpSpPr>
        <p:grpSpPr>
          <a:xfrm>
            <a:off x="624240" y="760320"/>
            <a:ext cx="402840" cy="3978360"/>
            <a:chOff x="624240" y="760320"/>
            <a:chExt cx="402840" cy="3978360"/>
          </a:xfrm>
        </p:grpSpPr>
        <p:sp>
          <p:nvSpPr>
            <p:cNvPr id="193" name="Text Box 36"/>
            <p:cNvSpPr/>
            <p:nvPr/>
          </p:nvSpPr>
          <p:spPr>
            <a:xfrm rot="5400000">
              <a:off x="-405360" y="2467800"/>
              <a:ext cx="2462040" cy="4028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8360" bIns="18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kali Earth Me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828720" y="3900600"/>
              <a:ext cx="0" cy="8380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>
              <a:off x="828720" y="760320"/>
              <a:ext cx="0" cy="685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18000" bIns="18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4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1280" y="380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ggregate of two or more atoms in a definite arrangement held together by chemical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2"/>
          <p:cNvGrpSpPr/>
          <p:nvPr/>
        </p:nvGrpSpPr>
        <p:grpSpPr>
          <a:xfrm>
            <a:off x="1512720" y="1523880"/>
            <a:ext cx="6116760" cy="1796040"/>
            <a:chOff x="1512720" y="1523880"/>
            <a:chExt cx="6116760" cy="1796040"/>
          </a:xfrm>
        </p:grpSpPr>
        <p:pic>
          <p:nvPicPr>
            <p:cNvPr id="199" name="Picture 3" descr="f002_12"/>
            <p:cNvPicPr/>
            <p:nvPr/>
          </p:nvPicPr>
          <p:blipFill>
            <a:blip r:embed="rId1"/>
            <a:srcRect l="24750" t="55501" r="0" b="21000"/>
            <a:stretch/>
          </p:blipFill>
          <p:spPr>
            <a:xfrm>
              <a:off x="1512720" y="1523880"/>
              <a:ext cx="611676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4"/>
            <p:cNvSpPr/>
            <p:nvPr/>
          </p:nvSpPr>
          <p:spPr>
            <a:xfrm>
              <a:off x="1761480" y="280980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170880" y="2809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496260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6548760" y="280980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9"/>
          <p:cNvSpPr/>
          <p:nvPr/>
        </p:nvSpPr>
        <p:spPr>
          <a:xfrm>
            <a:off x="533520" y="3657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884320" y="4267080"/>
            <a:ext cx="337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Cl, 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76320" y="51055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molec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two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3242160" y="5700600"/>
            <a:ext cx="266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8532360" y="64008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318960" y="22860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tom, or group of atoms, that has a net positive or negative 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21120" y="1293840"/>
            <a:ext cx="82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posi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 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07440" y="4114800"/>
            <a:ext cx="826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on with a negative ch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neutral at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r mor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ecomes an an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27"/>
          <p:cNvGrpSpPr/>
          <p:nvPr/>
        </p:nvGrpSpPr>
        <p:grpSpPr>
          <a:xfrm>
            <a:off x="1104840" y="2666880"/>
            <a:ext cx="3114360" cy="1295280"/>
            <a:chOff x="1104840" y="2666880"/>
            <a:chExt cx="3114360" cy="1295280"/>
          </a:xfrm>
        </p:grpSpPr>
        <p:grpSp>
          <p:nvGrpSpPr>
            <p:cNvPr id="213" name="Group 10"/>
            <p:cNvGrpSpPr/>
            <p:nvPr/>
          </p:nvGrpSpPr>
          <p:grpSpPr>
            <a:xfrm>
              <a:off x="1104840" y="2666880"/>
              <a:ext cx="1295280" cy="1295280"/>
              <a:chOff x="1104840" y="2666880"/>
              <a:chExt cx="1295280" cy="1295280"/>
            </a:xfrm>
          </p:grpSpPr>
          <p:sp>
            <p:nvSpPr>
              <p:cNvPr id="214" name="Oval 6"/>
              <p:cNvSpPr/>
              <p:nvPr/>
            </p:nvSpPr>
            <p:spPr>
              <a:xfrm>
                <a:off x="1104840" y="2666880"/>
                <a:ext cx="1295280" cy="12952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7"/>
              <p:cNvSpPr/>
              <p:nvPr/>
            </p:nvSpPr>
            <p:spPr>
              <a:xfrm>
                <a:off x="1411560" y="3054240"/>
                <a:ext cx="63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 Box 20"/>
            <p:cNvSpPr/>
            <p:nvPr/>
          </p:nvSpPr>
          <p:spPr>
            <a:xfrm>
              <a:off x="2649960" y="29638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8"/>
          <p:cNvGrpSpPr/>
          <p:nvPr/>
        </p:nvGrpSpPr>
        <p:grpSpPr>
          <a:xfrm>
            <a:off x="5638680" y="2819520"/>
            <a:ext cx="2896920" cy="1143000"/>
            <a:chOff x="5638680" y="2819520"/>
            <a:chExt cx="2896920" cy="1143000"/>
          </a:xfrm>
        </p:grpSpPr>
        <p:grpSp>
          <p:nvGrpSpPr>
            <p:cNvPr id="218" name="Group 11"/>
            <p:cNvGrpSpPr/>
            <p:nvPr/>
          </p:nvGrpSpPr>
          <p:grpSpPr>
            <a:xfrm>
              <a:off x="5638680" y="2819520"/>
              <a:ext cx="1143000" cy="1143000"/>
              <a:chOff x="5638680" y="2819520"/>
              <a:chExt cx="1143000" cy="1143000"/>
            </a:xfrm>
          </p:grpSpPr>
          <p:sp>
            <p:nvSpPr>
              <p:cNvPr id="219" name="Oval 8"/>
              <p:cNvSpPr/>
              <p:nvPr/>
            </p:nvSpPr>
            <p:spPr>
              <a:xfrm>
                <a:off x="5638680" y="2819520"/>
                <a:ext cx="1143000" cy="11430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9"/>
              <p:cNvSpPr/>
              <p:nvPr/>
            </p:nvSpPr>
            <p:spPr>
              <a:xfrm>
                <a:off x="5832360" y="3132360"/>
                <a:ext cx="75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Na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21"/>
            <p:cNvSpPr/>
            <p:nvPr/>
          </p:nvSpPr>
          <p:spPr>
            <a:xfrm>
              <a:off x="6966360" y="30322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9"/>
          <p:cNvGrpSpPr/>
          <p:nvPr/>
        </p:nvGrpSpPr>
        <p:grpSpPr>
          <a:xfrm>
            <a:off x="1181160" y="5486400"/>
            <a:ext cx="3038040" cy="1143000"/>
            <a:chOff x="1181160" y="5486400"/>
            <a:chExt cx="3038040" cy="1143000"/>
          </a:xfrm>
        </p:grpSpPr>
        <p:grpSp>
          <p:nvGrpSpPr>
            <p:cNvPr id="223" name="Group 23"/>
            <p:cNvGrpSpPr/>
            <p:nvPr/>
          </p:nvGrpSpPr>
          <p:grpSpPr>
            <a:xfrm>
              <a:off x="1181160" y="5486400"/>
              <a:ext cx="1143000" cy="1143000"/>
              <a:chOff x="1181160" y="5486400"/>
              <a:chExt cx="1143000" cy="1143000"/>
            </a:xfrm>
          </p:grpSpPr>
          <p:sp>
            <p:nvSpPr>
              <p:cNvPr id="224" name="Oval 14"/>
              <p:cNvSpPr/>
              <p:nvPr/>
            </p:nvSpPr>
            <p:spPr>
              <a:xfrm>
                <a:off x="1181160" y="5486400"/>
                <a:ext cx="1143000" cy="114300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15"/>
              <p:cNvSpPr/>
              <p:nvPr/>
            </p:nvSpPr>
            <p:spPr>
              <a:xfrm>
                <a:off x="1494720" y="5797800"/>
                <a:ext cx="515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22"/>
            <p:cNvSpPr/>
            <p:nvPr/>
          </p:nvSpPr>
          <p:spPr>
            <a:xfrm>
              <a:off x="2649960" y="570708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30"/>
          <p:cNvGrpSpPr/>
          <p:nvPr/>
        </p:nvGrpSpPr>
        <p:grpSpPr>
          <a:xfrm>
            <a:off x="5486400" y="5334120"/>
            <a:ext cx="3049200" cy="1447560"/>
            <a:chOff x="5486400" y="5334120"/>
            <a:chExt cx="3049200" cy="1447560"/>
          </a:xfrm>
        </p:grpSpPr>
        <p:grpSp>
          <p:nvGrpSpPr>
            <p:cNvPr id="228" name="Group 24"/>
            <p:cNvGrpSpPr/>
            <p:nvPr/>
          </p:nvGrpSpPr>
          <p:grpSpPr>
            <a:xfrm>
              <a:off x="5486400" y="5334120"/>
              <a:ext cx="1447920" cy="1447560"/>
              <a:chOff x="5486400" y="5334120"/>
              <a:chExt cx="1447920" cy="1447560"/>
            </a:xfrm>
          </p:grpSpPr>
          <p:sp>
            <p:nvSpPr>
              <p:cNvPr id="229" name="Oval 18"/>
              <p:cNvSpPr/>
              <p:nvPr/>
            </p:nvSpPr>
            <p:spPr>
              <a:xfrm>
                <a:off x="5486400" y="5334120"/>
                <a:ext cx="1447920" cy="1447560"/>
              </a:xfrm>
              <a:prstGeom prst="ellipse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9"/>
              <p:cNvSpPr/>
              <p:nvPr/>
            </p:nvSpPr>
            <p:spPr>
              <a:xfrm>
                <a:off x="5916960" y="5873760"/>
                <a:ext cx="58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l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26"/>
            <p:cNvSpPr/>
            <p:nvPr/>
          </p:nvSpPr>
          <p:spPr>
            <a:xfrm>
              <a:off x="6966360" y="5699160"/>
              <a:ext cx="156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7 prot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 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18960" y="914400"/>
            <a:ext cx="70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n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only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23280" y="3697200"/>
            <a:ext cx="77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lyatomic 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more than on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2438640" y="1461960"/>
            <a:ext cx="42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2867400" y="4357800"/>
            <a:ext cx="341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8" descr="BD04924_"/>
          <p:cNvPicPr/>
          <p:nvPr/>
        </p:nvPicPr>
        <p:blipFill>
          <a:blip r:embed="rId1"/>
          <a:stretch/>
        </p:blipFill>
        <p:spPr>
          <a:xfrm>
            <a:off x="7240680" y="98280"/>
            <a:ext cx="1903320" cy="256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9" descr="j0072955"/>
          <p:cNvPicPr/>
          <p:nvPr/>
        </p:nvPicPr>
        <p:blipFill>
          <a:blip r:embed="rId2"/>
          <a:stretch/>
        </p:blipFill>
        <p:spPr>
          <a:xfrm>
            <a:off x="0" y="5168880"/>
            <a:ext cx="16923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ton’s Atomic Theory (180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99072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extremely small particles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All atoms of a given element are identical.  The atoms of one element are different from the atoms of all other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28600" y="29336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mposed of atoms of more than one element. The relative number of atoms of each element in a given compound is alway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8769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only involve the rearrangement of atoms. Atoms are not created or destroyed in chemical reaction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6"/>
          <p:cNvSpPr/>
          <p:nvPr/>
        </p:nvSpPr>
        <p:spPr>
          <a:xfrm>
            <a:off x="1923480" y="2908440"/>
            <a:ext cx="53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protons, 10 (13 – 3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918800" y="496584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protons, 36 (34 + 2)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1850400" y="423720"/>
            <a:ext cx="54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Understand 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19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5720" cy="1636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0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994320" y="1905120"/>
            <a:ext cx="7156440" cy="713520"/>
            <a:chOff x="994320" y="1905120"/>
            <a:chExt cx="7156440" cy="713520"/>
          </a:xfrm>
        </p:grpSpPr>
        <p:sp>
          <p:nvSpPr>
            <p:cNvPr id="246" name="Text Box 3"/>
            <p:cNvSpPr/>
            <p:nvPr/>
          </p:nvSpPr>
          <p:spPr>
            <a:xfrm>
              <a:off x="994320" y="2001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"/>
            <p:cNvSpPr/>
            <p:nvPr/>
          </p:nvSpPr>
          <p:spPr>
            <a:xfrm>
              <a:off x="7016760" y="193680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Times New Roman"/>
                </a:rPr>
                <a:t>A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6665760" y="1905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6673680" y="2158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7636320" y="1981080"/>
              <a:ext cx="5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2"/>
            <p:cNvSpPr/>
            <p:nvPr/>
          </p:nvSpPr>
          <p:spPr>
            <a:xfrm>
              <a:off x="7467480" y="19051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2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3"/>
          <p:cNvGrpSpPr/>
          <p:nvPr/>
        </p:nvGrpSpPr>
        <p:grpSpPr>
          <a:xfrm>
            <a:off x="978480" y="4038480"/>
            <a:ext cx="7209720" cy="713520"/>
            <a:chOff x="978480" y="4038480"/>
            <a:chExt cx="7209720" cy="713520"/>
          </a:xfrm>
        </p:grpSpPr>
        <p:sp>
          <p:nvSpPr>
            <p:cNvPr id="253" name="Text Box 26"/>
            <p:cNvSpPr/>
            <p:nvPr/>
          </p:nvSpPr>
          <p:spPr>
            <a:xfrm>
              <a:off x="978480" y="4125960"/>
              <a:ext cx="576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How many protons and electrons are 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27"/>
            <p:cNvGrpSpPr/>
            <p:nvPr/>
          </p:nvGrpSpPr>
          <p:grpSpPr>
            <a:xfrm>
              <a:off x="6707160" y="4038480"/>
              <a:ext cx="1190880" cy="713520"/>
              <a:chOff x="6707160" y="4038480"/>
              <a:chExt cx="1190880" cy="713520"/>
            </a:xfrm>
          </p:grpSpPr>
          <p:sp>
            <p:nvSpPr>
              <p:cNvPr id="255" name="Text Box 28"/>
              <p:cNvSpPr/>
              <p:nvPr/>
            </p:nvSpPr>
            <p:spPr>
              <a:xfrm>
                <a:off x="7072560" y="4117680"/>
                <a:ext cx="535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33cc"/>
                    </a:solidFill>
                    <a:latin typeface="Times New Roman"/>
                  </a:rPr>
                  <a:t>S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29"/>
              <p:cNvSpPr/>
              <p:nvPr/>
            </p:nvSpPr>
            <p:spPr>
              <a:xfrm>
                <a:off x="670716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7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30"/>
              <p:cNvSpPr/>
              <p:nvPr/>
            </p:nvSpPr>
            <p:spPr>
              <a:xfrm>
                <a:off x="6719760" y="42922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3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31"/>
              <p:cNvSpPr/>
              <p:nvPr/>
            </p:nvSpPr>
            <p:spPr>
              <a:xfrm>
                <a:off x="7462800" y="4051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Times New Roman"/>
                  </a:rPr>
                  <a:t>2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 Box 32"/>
            <p:cNvSpPr/>
            <p:nvPr/>
          </p:nvSpPr>
          <p:spPr>
            <a:xfrm>
              <a:off x="7850520" y="409248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7" descr="f002_11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f002_12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500040" y="36684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exact number of atoms of each element in the smallest unit of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502560" y="2057400"/>
            <a:ext cx="768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mpirical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s the simpl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-number ratio of the atoms in a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5602320" y="38559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6"/>
          <p:cNvGrpSpPr/>
          <p:nvPr/>
        </p:nvGrpSpPr>
        <p:grpSpPr>
          <a:xfrm>
            <a:off x="2059920" y="3276720"/>
            <a:ext cx="4826520" cy="1160640"/>
            <a:chOff x="2059920" y="3276720"/>
            <a:chExt cx="4826520" cy="1160640"/>
          </a:xfrm>
        </p:grpSpPr>
        <p:sp>
          <p:nvSpPr>
            <p:cNvPr id="268" name="Text Box 6"/>
            <p:cNvSpPr/>
            <p:nvPr/>
          </p:nvSpPr>
          <p:spPr>
            <a:xfrm>
              <a:off x="2576520" y="3857760"/>
              <a:ext cx="82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8"/>
            <p:cNvSpPr/>
            <p:nvPr/>
          </p:nvSpPr>
          <p:spPr>
            <a:xfrm>
              <a:off x="2059920" y="3276720"/>
              <a:ext cx="186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molecul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5143680" y="3276720"/>
              <a:ext cx="174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empiri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0"/>
          <p:cNvSpPr/>
          <p:nvPr/>
        </p:nvSpPr>
        <p:spPr>
          <a:xfrm>
            <a:off x="2276280" y="4483080"/>
            <a:ext cx="1425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474160" y="4481640"/>
            <a:ext cx="108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2704680" y="521640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5786640" y="52164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2528280" y="5803920"/>
            <a:ext cx="92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5610600" y="580392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f002_13l"/>
          <p:cNvPicPr/>
          <p:nvPr/>
        </p:nvPicPr>
        <p:blipFill>
          <a:blip r:embed="rId1"/>
          <a:srcRect l="0" t="30001" r="0" b="19500"/>
          <a:stretch/>
        </p:blipFill>
        <p:spPr>
          <a:xfrm>
            <a:off x="507960" y="3276720"/>
            <a:ext cx="8128080" cy="307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228600" y="304920"/>
            <a:ext cx="86868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 of a cation and an a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 is always the same as the empirical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the charges on the cation and anion in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 unit must equa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444400" y="2681280"/>
            <a:ext cx="42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ic compound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1888560" y="182520"/>
            <a:ext cx="539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of Io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070880" y="160020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3"/>
          <p:cNvGrpSpPr/>
          <p:nvPr/>
        </p:nvGrpSpPr>
        <p:grpSpPr>
          <a:xfrm>
            <a:off x="2664360" y="1143000"/>
            <a:ext cx="3625920" cy="533520"/>
            <a:chOff x="2664360" y="1143000"/>
            <a:chExt cx="3625920" cy="533520"/>
          </a:xfrm>
        </p:grpSpPr>
        <p:grpSp>
          <p:nvGrpSpPr>
            <p:cNvPr id="286" name="Group 9"/>
            <p:cNvGrpSpPr/>
            <p:nvPr/>
          </p:nvGrpSpPr>
          <p:grpSpPr>
            <a:xfrm>
              <a:off x="2664360" y="1143000"/>
              <a:ext cx="1526760" cy="533520"/>
              <a:chOff x="2664360" y="1143000"/>
              <a:chExt cx="1526760" cy="533520"/>
            </a:xfrm>
          </p:grpSpPr>
          <p:sp>
            <p:nvSpPr>
              <p:cNvPr id="287" name="Text Box 4"/>
              <p:cNvSpPr/>
              <p:nvPr/>
            </p:nvSpPr>
            <p:spPr>
              <a:xfrm>
                <a:off x="2664360" y="11430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+3 = +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7"/>
              <p:cNvSpPr/>
              <p:nvPr/>
            </p:nvSpPr>
            <p:spPr>
              <a:xfrm>
                <a:off x="4038480" y="14479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0"/>
            <p:cNvGrpSpPr/>
            <p:nvPr/>
          </p:nvGrpSpPr>
          <p:grpSpPr>
            <a:xfrm>
              <a:off x="4876560" y="1143000"/>
              <a:ext cx="1413720" cy="533520"/>
              <a:chOff x="4876560" y="1143000"/>
              <a:chExt cx="1413720" cy="533520"/>
            </a:xfrm>
          </p:grpSpPr>
          <p:sp>
            <p:nvSpPr>
              <p:cNvPr id="290" name="Text Box 6"/>
              <p:cNvSpPr/>
              <p:nvPr/>
            </p:nvSpPr>
            <p:spPr>
              <a:xfrm>
                <a:off x="4955760" y="11430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3 x -2 = -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8"/>
              <p:cNvSpPr/>
              <p:nvPr/>
            </p:nvSpPr>
            <p:spPr>
              <a:xfrm flipH="1">
                <a:off x="4876560" y="14479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Text Box 11"/>
          <p:cNvSpPr/>
          <p:nvPr/>
        </p:nvSpPr>
        <p:spPr>
          <a:xfrm>
            <a:off x="3223080" y="1981080"/>
            <a:ext cx="7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23880" y="1981080"/>
            <a:ext cx="6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4017960" y="3267000"/>
            <a:ext cx="1104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32"/>
          <p:cNvGrpSpPr/>
          <p:nvPr/>
        </p:nvGrpSpPr>
        <p:grpSpPr>
          <a:xfrm>
            <a:off x="2664360" y="2809800"/>
            <a:ext cx="3625920" cy="533520"/>
            <a:chOff x="2664360" y="2809800"/>
            <a:chExt cx="3625920" cy="533520"/>
          </a:xfrm>
        </p:grpSpPr>
        <p:grpSp>
          <p:nvGrpSpPr>
            <p:cNvPr id="296" name="Group 14"/>
            <p:cNvGrpSpPr/>
            <p:nvPr/>
          </p:nvGrpSpPr>
          <p:grpSpPr>
            <a:xfrm>
              <a:off x="2664360" y="2809800"/>
              <a:ext cx="1526760" cy="533520"/>
              <a:chOff x="2664360" y="2809800"/>
              <a:chExt cx="1526760" cy="533520"/>
            </a:xfrm>
          </p:grpSpPr>
          <p:sp>
            <p:nvSpPr>
              <p:cNvPr id="297" name="Text Box 15"/>
              <p:cNvSpPr/>
              <p:nvPr/>
            </p:nvSpPr>
            <p:spPr>
              <a:xfrm>
                <a:off x="2664360" y="28098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6"/>
              <p:cNvSpPr/>
              <p:nvPr/>
            </p:nvSpPr>
            <p:spPr>
              <a:xfrm>
                <a:off x="4038480" y="3114720"/>
                <a:ext cx="15264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7"/>
            <p:cNvGrpSpPr/>
            <p:nvPr/>
          </p:nvGrpSpPr>
          <p:grpSpPr>
            <a:xfrm>
              <a:off x="4876560" y="2809800"/>
              <a:ext cx="1413720" cy="533520"/>
              <a:chOff x="4876560" y="2809800"/>
              <a:chExt cx="1413720" cy="533520"/>
            </a:xfrm>
          </p:grpSpPr>
          <p:sp>
            <p:nvSpPr>
              <p:cNvPr id="300" name="Text Box 18"/>
              <p:cNvSpPr/>
              <p:nvPr/>
            </p:nvSpPr>
            <p:spPr>
              <a:xfrm>
                <a:off x="4955760" y="28098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2 x -1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9"/>
              <p:cNvSpPr/>
              <p:nvPr/>
            </p:nvSpPr>
            <p:spPr>
              <a:xfrm flipH="1">
                <a:off x="4876560" y="31147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 Box 20"/>
          <p:cNvSpPr/>
          <p:nvPr/>
        </p:nvSpPr>
        <p:spPr>
          <a:xfrm>
            <a:off x="3153600" y="364824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5140440" y="3648240"/>
            <a:ext cx="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r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3874680" y="5257800"/>
            <a:ext cx="139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1"/>
          <p:cNvGrpSpPr/>
          <p:nvPr/>
        </p:nvGrpSpPr>
        <p:grpSpPr>
          <a:xfrm>
            <a:off x="2666160" y="4800600"/>
            <a:ext cx="3625560" cy="533520"/>
            <a:chOff x="2666160" y="4800600"/>
            <a:chExt cx="3625560" cy="533520"/>
          </a:xfrm>
        </p:grpSpPr>
        <p:grpSp>
          <p:nvGrpSpPr>
            <p:cNvPr id="306" name="Group 23"/>
            <p:cNvGrpSpPr/>
            <p:nvPr/>
          </p:nvGrpSpPr>
          <p:grpSpPr>
            <a:xfrm>
              <a:off x="2666160" y="4800600"/>
              <a:ext cx="1526040" cy="533520"/>
              <a:chOff x="2666160" y="4800600"/>
              <a:chExt cx="1526040" cy="533520"/>
            </a:xfrm>
          </p:grpSpPr>
          <p:sp>
            <p:nvSpPr>
              <p:cNvPr id="307" name="Text Box 24"/>
              <p:cNvSpPr/>
              <p:nvPr/>
            </p:nvSpPr>
            <p:spPr>
              <a:xfrm>
                <a:off x="2666160" y="480060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+2 = +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5"/>
              <p:cNvSpPr/>
              <p:nvPr/>
            </p:nvSpPr>
            <p:spPr>
              <a:xfrm>
                <a:off x="403992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26"/>
            <p:cNvGrpSpPr/>
            <p:nvPr/>
          </p:nvGrpSpPr>
          <p:grpSpPr>
            <a:xfrm>
              <a:off x="4878000" y="4800600"/>
              <a:ext cx="1413720" cy="533520"/>
              <a:chOff x="4878000" y="4800600"/>
              <a:chExt cx="1413720" cy="533520"/>
            </a:xfrm>
          </p:grpSpPr>
          <p:sp>
            <p:nvSpPr>
              <p:cNvPr id="310" name="Text Box 27"/>
              <p:cNvSpPr/>
              <p:nvPr/>
            </p:nvSpPr>
            <p:spPr>
              <a:xfrm>
                <a:off x="4957200" y="4800600"/>
                <a:ext cx="1334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1 x -2 = -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28"/>
              <p:cNvSpPr/>
              <p:nvPr/>
            </p:nvSpPr>
            <p:spPr>
              <a:xfrm flipH="1">
                <a:off x="4878000" y="5105520"/>
                <a:ext cx="152280" cy="22860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" name="Text Box 29"/>
          <p:cNvSpPr/>
          <p:nvPr/>
        </p:nvSpPr>
        <p:spPr>
          <a:xfrm>
            <a:off x="3211560" y="56386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5209200" y="5638680"/>
            <a:ext cx="101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lyatomic Ions (Table 2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3"/>
          <p:cNvGraphicFramePr/>
          <p:nvPr/>
        </p:nvGraphicFramePr>
        <p:xfrm>
          <a:off x="692280" y="1676520"/>
          <a:ext cx="7634160" cy="40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76520"/>
                    <a:ext cx="76341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Nomencl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 metal + nonm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on (nonmetal), add “ide” to element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298600" y="3092400"/>
            <a:ext cx="1064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956120" y="309096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298240" y="3701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4955040" y="370044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2299680" y="4311720"/>
            <a:ext cx="1558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4956480" y="4309920"/>
            <a:ext cx="36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298600" y="5035680"/>
            <a:ext cx="1063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4954680" y="5033880"/>
            <a:ext cx="289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 ni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metal ionic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charge on metal with Roman num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94200" y="248112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758600" y="248292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2 so Fe is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5734800" y="2427120"/>
            <a:ext cx="264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) chlor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94200" y="3319560"/>
            <a:ext cx="104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758600" y="3321000"/>
            <a:ext cx="32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3 so Fe is 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5734080" y="335124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(III) chlor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403920" y="4113360"/>
            <a:ext cx="102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1768680" y="411480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6 so Cr is +3 (6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5734800" y="411480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ium(III) sulf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metals or nonmetals + metall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further left in periodic table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 closest to bottom of group i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re than one compound can be formed from the same elements, use prefixes to indicate number of each kind of a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element ends in 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0002_2l"/>
          <p:cNvPicPr/>
          <p:nvPr/>
        </p:nvPicPr>
        <p:blipFill>
          <a:blip r:embed="rId1"/>
          <a:stretch/>
        </p:blipFill>
        <p:spPr>
          <a:xfrm>
            <a:off x="501480" y="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04920" y="5181480"/>
            <a:ext cx="41148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88280" y="3927600"/>
            <a:ext cx="32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2243160" y="5486400"/>
            <a:ext cx="464832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Multiple Proportion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992520" y="1293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669760" y="1293840"/>
            <a:ext cx="27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003680" y="2093760"/>
            <a:ext cx="767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669400" y="2093760"/>
            <a:ext cx="30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002960" y="2855880"/>
            <a:ext cx="8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668680" y="2855880"/>
            <a:ext cx="22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014120" y="3656160"/>
            <a:ext cx="10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669760" y="3656160"/>
            <a:ext cx="38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t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1003320" y="449424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2669760" y="4494240"/>
            <a:ext cx="26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1003320" y="525636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2670480" y="525636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og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2552760" y="33192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lecular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9"/>
          <p:cNvGrpSpPr/>
          <p:nvPr/>
        </p:nvGrpSpPr>
        <p:grpSpPr>
          <a:xfrm>
            <a:off x="5718600" y="4114800"/>
            <a:ext cx="3041280" cy="1066680"/>
            <a:chOff x="5718600" y="4114800"/>
            <a:chExt cx="3041280" cy="1066680"/>
          </a:xfrm>
        </p:grpSpPr>
        <p:sp>
          <p:nvSpPr>
            <p:cNvPr id="357" name="Text Box 14"/>
            <p:cNvSpPr/>
            <p:nvPr/>
          </p:nvSpPr>
          <p:spPr>
            <a:xfrm>
              <a:off x="5718600" y="445788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OXI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Picture 18" descr="SY00732_"/>
            <p:cNvPicPr/>
            <p:nvPr/>
          </p:nvPicPr>
          <p:blipFill>
            <a:blip r:embed="rId1"/>
            <a:stretch/>
          </p:blipFill>
          <p:spPr>
            <a:xfrm>
              <a:off x="7238880" y="4114800"/>
              <a:ext cx="152100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Group 21"/>
          <p:cNvGrpSpPr/>
          <p:nvPr/>
        </p:nvGrpSpPr>
        <p:grpSpPr>
          <a:xfrm>
            <a:off x="6518880" y="5256360"/>
            <a:ext cx="2286720" cy="1404720"/>
            <a:chOff x="6518880" y="5256360"/>
            <a:chExt cx="2286720" cy="1404720"/>
          </a:xfrm>
        </p:grpSpPr>
        <p:sp>
          <p:nvSpPr>
            <p:cNvPr id="360" name="Text Box 15"/>
            <p:cNvSpPr/>
            <p:nvPr/>
          </p:nvSpPr>
          <p:spPr>
            <a:xfrm>
              <a:off x="6518880" y="5256360"/>
              <a:ext cx="22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aughin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G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Picture 20" descr="j0139029"/>
            <p:cNvPicPr/>
            <p:nvPr/>
          </p:nvPicPr>
          <p:blipFill>
            <a:blip r:embed="rId2"/>
            <a:stretch/>
          </p:blipFill>
          <p:spPr>
            <a:xfrm>
              <a:off x="7086600" y="5715000"/>
              <a:ext cx="987480" cy="94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304560" y="304920"/>
            <a:ext cx="816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ions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701280" y="1371600"/>
            <a:ext cx="774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substance, hydrogen chlo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 (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hydrochlo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04920" y="32004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xo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cid that contains hydrogen, oxygen, and anoth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Group 11"/>
          <p:cNvGrpSpPr/>
          <p:nvPr/>
        </p:nvGrpSpPr>
        <p:grpSpPr>
          <a:xfrm>
            <a:off x="2592360" y="4451400"/>
            <a:ext cx="3973680" cy="581040"/>
            <a:chOff x="2592360" y="4451400"/>
            <a:chExt cx="3973680" cy="581040"/>
          </a:xfrm>
        </p:grpSpPr>
        <p:sp>
          <p:nvSpPr>
            <p:cNvPr id="366" name="Text Box 5"/>
            <p:cNvSpPr/>
            <p:nvPr/>
          </p:nvSpPr>
          <p:spPr>
            <a:xfrm>
              <a:off x="2592360" y="445284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6"/>
            <p:cNvSpPr/>
            <p:nvPr/>
          </p:nvSpPr>
          <p:spPr>
            <a:xfrm>
              <a:off x="4879440" y="4451400"/>
              <a:ext cx="168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it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2"/>
          <p:cNvGrpSpPr/>
          <p:nvPr/>
        </p:nvGrpSpPr>
        <p:grpSpPr>
          <a:xfrm>
            <a:off x="2615760" y="5133960"/>
            <a:ext cx="4545360" cy="581040"/>
            <a:chOff x="2615760" y="5133960"/>
            <a:chExt cx="4545360" cy="581040"/>
          </a:xfrm>
        </p:grpSpPr>
        <p:sp>
          <p:nvSpPr>
            <p:cNvPr id="369" name="Text Box 7"/>
            <p:cNvSpPr/>
            <p:nvPr/>
          </p:nvSpPr>
          <p:spPr>
            <a:xfrm>
              <a:off x="2615760" y="5135400"/>
              <a:ext cx="1197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4880160" y="5133960"/>
              <a:ext cx="22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arbon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2615400" y="5818320"/>
            <a:ext cx="4326840" cy="579600"/>
            <a:chOff x="2615400" y="5818320"/>
            <a:chExt cx="4326840" cy="579600"/>
          </a:xfrm>
        </p:grpSpPr>
        <p:sp>
          <p:nvSpPr>
            <p:cNvPr id="372" name="Text Box 8"/>
            <p:cNvSpPr/>
            <p:nvPr/>
          </p:nvSpPr>
          <p:spPr>
            <a:xfrm>
              <a:off x="2615400" y="5818320"/>
              <a:ext cx="1177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0"/>
            <p:cNvSpPr/>
            <p:nvPr/>
          </p:nvSpPr>
          <p:spPr>
            <a:xfrm>
              <a:off x="4879440" y="5818320"/>
              <a:ext cx="206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ulfur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f002_14l"/>
          <p:cNvPicPr/>
          <p:nvPr/>
        </p:nvPicPr>
        <p:blipFill>
          <a:blip r:embed="rId1"/>
          <a:stretch/>
        </p:blipFill>
        <p:spPr>
          <a:xfrm>
            <a:off x="507960" y="152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304920" y="806400"/>
            <a:ext cx="80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fined as a substance that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xide ions (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when dissolved in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15"/>
          <p:cNvGrpSpPr/>
          <p:nvPr/>
        </p:nvGrpSpPr>
        <p:grpSpPr>
          <a:xfrm>
            <a:off x="2362320" y="2362320"/>
            <a:ext cx="5408640" cy="522000"/>
            <a:chOff x="2362320" y="2362320"/>
            <a:chExt cx="5408640" cy="522000"/>
          </a:xfrm>
        </p:grpSpPr>
        <p:sp>
          <p:nvSpPr>
            <p:cNvPr id="379" name="Text Box 6"/>
            <p:cNvSpPr/>
            <p:nvPr/>
          </p:nvSpPr>
          <p:spPr>
            <a:xfrm>
              <a:off x="2362320" y="2363760"/>
              <a:ext cx="129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a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4648320" y="2362320"/>
              <a:ext cx="312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sod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8"/>
          <p:cNvGrpSpPr/>
          <p:nvPr/>
        </p:nvGrpSpPr>
        <p:grpSpPr>
          <a:xfrm>
            <a:off x="2364840" y="3044880"/>
            <a:ext cx="5733720" cy="522000"/>
            <a:chOff x="2364840" y="3044880"/>
            <a:chExt cx="5733720" cy="522000"/>
          </a:xfrm>
        </p:grpSpPr>
        <p:sp>
          <p:nvSpPr>
            <p:cNvPr id="382" name="Text Box 9"/>
            <p:cNvSpPr/>
            <p:nvPr/>
          </p:nvSpPr>
          <p:spPr>
            <a:xfrm>
              <a:off x="2364840" y="3046320"/>
              <a:ext cx="94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K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4650480" y="3044880"/>
              <a:ext cx="344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otass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11"/>
          <p:cNvGrpSpPr/>
          <p:nvPr/>
        </p:nvGrpSpPr>
        <p:grpSpPr>
          <a:xfrm>
            <a:off x="2375280" y="3728880"/>
            <a:ext cx="5188680" cy="579600"/>
            <a:chOff x="2375280" y="3728880"/>
            <a:chExt cx="5188680" cy="579600"/>
          </a:xfrm>
        </p:grpSpPr>
        <p:sp>
          <p:nvSpPr>
            <p:cNvPr id="385" name="Text Box 12"/>
            <p:cNvSpPr/>
            <p:nvPr/>
          </p:nvSpPr>
          <p:spPr>
            <a:xfrm>
              <a:off x="2375280" y="3728880"/>
              <a:ext cx="1499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>
              <a:off x="4650840" y="3728880"/>
              <a:ext cx="291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rium hydrox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6" descr="BD05176_"/>
          <p:cNvPicPr/>
          <p:nvPr/>
        </p:nvPicPr>
        <p:blipFill>
          <a:blip r:embed="rId1"/>
          <a:stretch/>
        </p:blipFill>
        <p:spPr>
          <a:xfrm>
            <a:off x="228600" y="4495680"/>
            <a:ext cx="2187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0002_1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152280"/>
            <a:ext cx="8128080" cy="5639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24382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238880" y="5105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6954480" y="5029200"/>
            <a:ext cx="1003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8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2"/>
          <p:cNvGrpSpPr/>
          <p:nvPr/>
        </p:nvGrpSpPr>
        <p:grpSpPr>
          <a:xfrm>
            <a:off x="928440" y="5030640"/>
            <a:ext cx="3502800" cy="520560"/>
            <a:chOff x="928440" y="5030640"/>
            <a:chExt cx="3502800" cy="520560"/>
          </a:xfrm>
        </p:grpSpPr>
        <p:sp>
          <p:nvSpPr>
            <p:cNvPr id="67" name="Text Box 7"/>
            <p:cNvSpPr/>
            <p:nvPr/>
          </p:nvSpPr>
          <p:spPr>
            <a:xfrm>
              <a:off x="928440" y="5030640"/>
              <a:ext cx="88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16 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3753720" y="5030640"/>
              <a:ext cx="67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Unicode MS"/>
                </a:rPr>
                <a:t>8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2589480" y="5030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11"/>
          <p:cNvSpPr/>
          <p:nvPr/>
        </p:nvSpPr>
        <p:spPr>
          <a:xfrm>
            <a:off x="5105520" y="532116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3"/>
          <p:cNvSpPr txBox="1"/>
          <p:nvPr/>
        </p:nvSpPr>
        <p:spPr>
          <a:xfrm>
            <a:off x="2171880" y="5715000"/>
            <a:ext cx="48006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Law of Conservation of Mass</a:t>
            </a:r>
            <a:endParaRPr b="1" lang="en-US" sz="32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f0002_3l"/>
          <p:cNvPicPr/>
          <p:nvPr/>
        </p:nvPicPr>
        <p:blipFill>
          <a:blip r:embed="rId1"/>
          <a:stretch/>
        </p:blipFill>
        <p:spPr>
          <a:xfrm>
            <a:off x="990720" y="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895480" y="5638680"/>
            <a:ext cx="6324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.J. Thomson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/charge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6 Nobel Prize in Phys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f0002_5l"/>
          <p:cNvPicPr/>
          <p:nvPr/>
        </p:nvPicPr>
        <p:blipFill>
          <a:blip r:embed="rId1"/>
          <a:stretch/>
        </p:blipFill>
        <p:spPr>
          <a:xfrm>
            <a:off x="76320" y="38160"/>
            <a:ext cx="6248160" cy="46861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04920" y="49528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1295280" y="502920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= -1.6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son’s charge/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.76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s = 9.1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559480" y="1676520"/>
            <a:ext cx="35229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d mass of e</a:t>
            </a:r>
            <a:r>
              <a:rPr b="0" lang="en-US" sz="24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923 Nobel Prize in Phy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0002_6l"/>
          <p:cNvPicPr/>
          <p:nvPr/>
        </p:nvPicPr>
        <p:blipFill>
          <a:blip r:embed="rId1"/>
          <a:stretch/>
        </p:blipFill>
        <p:spPr>
          <a:xfrm>
            <a:off x="507960" y="763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568120" y="596412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ranium comp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0002_7l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0002_8l"/>
          <p:cNvPicPr/>
          <p:nvPr/>
        </p:nvPicPr>
        <p:blipFill>
          <a:blip r:embed="rId1"/>
          <a:srcRect l="0" t="7500" r="0" b="0"/>
          <a:stretch/>
        </p:blipFill>
        <p:spPr>
          <a:xfrm>
            <a:off x="507960" y="76320"/>
            <a:ext cx="812808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14600" y="5029200"/>
            <a:ext cx="533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934320" y="5029200"/>
            <a:ext cx="533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18920" y="5265720"/>
            <a:ext cx="771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toms positive charge is concentrated in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n (p) has opposite (+) charge of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 of p is 1840 x mass of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.67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240160" y="4348080"/>
            <a:ext cx="39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velocity ~ 1.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~5% speed of l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322720" y="11415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08 Nobel Prize in Chemi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8532360" y="6384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7T01:59:52Z</dcterms:created>
  <dc:creator>J. David Robertson</dc:creator>
  <dc:description/>
  <dc:language>en-US</dc:language>
  <cp:lastModifiedBy>RomaK</cp:lastModifiedBy>
  <dcterms:modified xsi:type="dcterms:W3CDTF">2015-09-01T16:17:33Z</dcterms:modified>
  <cp:revision>35</cp:revision>
  <dc:subject/>
  <dc:title>Atoms, Molecules and Ions</dc:title>
</cp:coreProperties>
</file>