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3C85-FD64-4FC7-B362-37B4ABE2B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giraffe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44" name="Picture 7" descr="lioncubs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on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lephants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zebra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aboon2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VM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ap-Africa-Elev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Sahara2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ertmap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ahara9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932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ahara Desertific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981080"/>
            <a:ext cx="5257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hel land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ap-Africa-Sahel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reat Rift Valley-1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ap-Africa-Great Rift Valley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Great Rift Valley-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Seismic Activity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map-Africa-Seismic Hazard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1143000"/>
            <a:ext cx="47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Trade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ap-Africa-Linking WInd-Precipitation-Vegetation"/>
          <p:cNvPicPr/>
          <p:nvPr/>
        </p:nvPicPr>
        <p:blipFill>
          <a:blip r:embed="rId1"/>
          <a:stretch/>
        </p:blipFill>
        <p:spPr>
          <a:xfrm>
            <a:off x="762120" y="1447920"/>
            <a:ext cx="7824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0" descr="map-Africa-Satellite view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West Africa: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Home of our Hurric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rican hurricanes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90800"/>
          </a:xfrm>
          <a:prstGeom prst="rect">
            <a:avLst/>
          </a:prstGeom>
          <a:ln w="0">
            <a:noFill/>
          </a:ln>
        </p:spPr>
      </p:pic>
      <p:sp>
        <p:nvSpPr>
          <p:cNvPr id="140" name="Oval 5"/>
          <p:cNvSpPr/>
          <p:nvPr/>
        </p:nvSpPr>
        <p:spPr>
          <a:xfrm>
            <a:off x="1219320" y="4038480"/>
            <a:ext cx="4572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ap-Africa-vegetation zones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savannah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avannah-1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frican rain fores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map-African rain forest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remlin-twin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irdfly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Kilimanjar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p-Africa-Natural Resources"/>
          <p:cNvPicPr/>
          <p:nvPr/>
        </p:nvPicPr>
        <p:blipFill>
          <a:blip r:embed="rId1"/>
          <a:stretch/>
        </p:blipFill>
        <p:spPr>
          <a:xfrm>
            <a:off x="2354400" y="990720"/>
            <a:ext cx="473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-Africa in size relationship to other countries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50292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 ½ times the size of the U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The Mighty Nile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7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Cong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p-Congo River Basi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1523880"/>
            <a:ext cx="4800600" cy="4618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10080" y="2057400"/>
            <a:ext cx="3581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12% of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9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72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99% of the country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f Zaire is in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go River ba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Niger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096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7.5% of the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10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60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p-Niger River Basin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6002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Hydroelectric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p-Africa-Major African Dams"/>
          <p:cNvPicPr/>
          <p:nvPr/>
        </p:nvPicPr>
        <p:blipFill>
          <a:blip r:embed="rId1"/>
          <a:stretch/>
        </p:blipFill>
        <p:spPr>
          <a:xfrm>
            <a:off x="1162080" y="1306440"/>
            <a:ext cx="6991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; Mr. Clutter</dc:creator>
  <dc:description/>
  <dc:language>en-US</dc:language>
  <cp:lastModifiedBy>RomaK</cp:lastModifiedBy>
  <dcterms:modified xsi:type="dcterms:W3CDTF">2015-09-04T09:39:50Z</dcterms:modified>
  <cp:revision>83</cp:revision>
  <dc:subject/>
  <dc:title>Geography of Africa</dc:title>
</cp:coreProperties>
</file>