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75A5-DC4B-4BF4-9DFF-716BA0927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B4A-2137-48FC-9E81-16501723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715-9475-4E51-9251-CCAC95FD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F36-F23C-4651-BA8F-0ACA014C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8F6-46BB-47CB-A011-3889962F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DEFF-7404-4005-8F61-2B0EDF70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ACD6-89D0-48D7-9CAA-0CBF3693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3352-578E-40B6-A5BE-72C4D727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071C-A318-4C28-95F7-F5DD50C6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332F-B4CC-4873-ACE9-3D8B24BD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BD6E-D21B-46B5-BC8C-826D34D3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C82A-365F-4160-BA77-171323B1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E6F-0010-45EA-AAED-B43AC807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886D-D5E2-464C-85B0-8FAE0DE2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2667-24FD-4F44-B032-B726C52C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345D-78A1-427E-AC24-8DFE4A74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2CC2-4A80-4DD9-965B-BE41C385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13CB-C8E0-405A-8E5A-420D1810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5E6-F1FF-44F4-9BEF-4DAE3568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C54-A504-4CC5-9D2A-31851F97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91B-1083-4663-BBC1-BBB6D703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3C5-9E04-4BD3-8D1B-CE873E58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69B-7079-40AE-8624-D7728AB3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154-E247-4EA9-9CBB-BCC8C3D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580-9EA5-44B6-8B1A-BCA14CC5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81CF-31F0-4600-9B23-AA73830A1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C5F-6860-4943-8FA6-A7C529828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4800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a</a:t>
            </a:r>
            <a:br>
              <a:rPr sz="4400"/>
            </a:b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 Continent Ser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59432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agnetic South P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609480" y="136692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105520" cy="435924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1433160" y="1270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hysical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la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% of the continent                      is ice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ntarctic grass"/>
          <p:cNvPicPr/>
          <p:nvPr/>
        </p:nvPicPr>
        <p:blipFill>
          <a:blip r:embed="rId1"/>
          <a:stretch/>
        </p:blipFill>
        <p:spPr>
          <a:xfrm>
            <a:off x="5486400" y="3886200"/>
            <a:ext cx="111924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native%20antarctic%20foliage"/>
          <p:cNvPicPr/>
          <p:nvPr/>
        </p:nvPicPr>
        <p:blipFill>
          <a:blip r:embed="rId2"/>
          <a:stretch/>
        </p:blipFill>
        <p:spPr>
          <a:xfrm>
            <a:off x="3657600" y="243828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5489280" y="2971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 m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16440" y="4989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rtic Hair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Frullania_pycnantha,I_MVK1"/>
          <p:cNvPicPr/>
          <p:nvPr/>
        </p:nvPicPr>
        <p:blipFill>
          <a:blip r:embed="rId3"/>
          <a:stretch/>
        </p:blipFill>
        <p:spPr>
          <a:xfrm>
            <a:off x="457200" y="334800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2347200" y="4195800"/>
            <a:ext cx="172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ne liver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210px-Lichen_squamulose"/>
          <p:cNvPicPr/>
          <p:nvPr/>
        </p:nvPicPr>
        <p:blipFill>
          <a:blip r:embed="rId4"/>
          <a:stretch/>
        </p:blipFill>
        <p:spPr>
          <a:xfrm>
            <a:off x="4267080" y="380880"/>
            <a:ext cx="2000520" cy="180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6539040" y="1865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50 lic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imal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delie_fact"/>
          <p:cNvPicPr/>
          <p:nvPr/>
        </p:nvPicPr>
        <p:blipFill>
          <a:blip r:embed="rId1"/>
          <a:stretch/>
        </p:blipFill>
        <p:spPr>
          <a:xfrm>
            <a:off x="838080" y="160020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90720" y="3276720"/>
            <a:ext cx="288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elie pengu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0 inches tall, 1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6040" y="319680"/>
            <a:ext cx="232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ddell se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up to 18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Weddell_seal_WEB"/>
          <p:cNvPicPr/>
          <p:nvPr/>
        </p:nvPicPr>
        <p:blipFill>
          <a:blip r:embed="rId2"/>
          <a:stretch/>
        </p:blipFill>
        <p:spPr>
          <a:xfrm>
            <a:off x="4572000" y="99072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krill_fact"/>
          <p:cNvPicPr/>
          <p:nvPr/>
        </p:nvPicPr>
        <p:blipFill>
          <a:blip r:embed="rId3"/>
          <a:stretch/>
        </p:blipFill>
        <p:spPr>
          <a:xfrm>
            <a:off x="3886200" y="3352680"/>
            <a:ext cx="1895400" cy="1400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6327720" y="5836320"/>
            <a:ext cx="194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now Pe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14-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Snow_petrel_pose2"/>
          <p:cNvPicPr/>
          <p:nvPr/>
        </p:nvPicPr>
        <p:blipFill>
          <a:blip r:embed="rId4"/>
          <a:stretch/>
        </p:blipFill>
        <p:spPr>
          <a:xfrm>
            <a:off x="6477120" y="449568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505680" y="4799520"/>
            <a:ext cx="264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r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y are 1-6” i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Killer whale or Orca looking around having broken thin ice for a breathing hole, picture courtesy NOAA"/>
          <p:cNvPicPr/>
          <p:nvPr/>
        </p:nvPicPr>
        <p:blipFill>
          <a:blip r:embed="rId5"/>
          <a:stretch/>
        </p:blipFill>
        <p:spPr>
          <a:xfrm>
            <a:off x="6095880" y="2895480"/>
            <a:ext cx="1752840" cy="1098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7848720" y="1905120"/>
            <a:ext cx="167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Hump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the_end"/>
          <p:cNvPicPr/>
          <p:nvPr/>
        </p:nvPicPr>
        <p:blipFill>
          <a:blip r:embed="rId1"/>
          <a:srcRect l="12877" t="2408" r="0" b="3739"/>
          <a:stretch/>
        </p:blipFill>
        <p:spPr>
          <a:xfrm>
            <a:off x="2743200" y="990720"/>
            <a:ext cx="5029200" cy="414000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atellite vie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atellite-image-of-antarctica"/>
          <p:cNvPicPr/>
          <p:nvPr/>
        </p:nvPicPr>
        <p:blipFill>
          <a:blip r:embed="rId1"/>
          <a:stretch/>
        </p:blipFill>
        <p:spPr>
          <a:xfrm>
            <a:off x="3200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world image"/>
          <p:cNvPicPr/>
          <p:nvPr/>
        </p:nvPicPr>
        <p:blipFill>
          <a:blip r:embed="rId1"/>
          <a:stretch/>
        </p:blipFill>
        <p:spPr>
          <a:xfrm>
            <a:off x="2590920" y="213372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e of the biggest icebergs ever (possibly the biggest iceberg ever)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roke free from the Ross ice shelf in Antarctica in 2000. {183 miles long and 23 miles wide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 part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argest land animal in Antarctica is an insect, a wingless midge,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Belgica antarctica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less than 1.3cm (0.5in) lo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Antarctic Midge"/>
          <p:cNvPicPr/>
          <p:nvPr/>
        </p:nvPicPr>
        <p:blipFill>
          <a:blip r:embed="rId1"/>
          <a:stretch/>
        </p:blipFill>
        <p:spPr>
          <a:xfrm>
            <a:off x="3581280" y="5715000"/>
            <a:ext cx="457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erritories"/>
          <p:cNvPicPr/>
          <p:nvPr/>
        </p:nvPicPr>
        <p:blipFill>
          <a:blip r:embed="rId1"/>
          <a:stretch/>
        </p:blipFill>
        <p:spPr>
          <a:xfrm>
            <a:off x="3276720" y="1295280"/>
            <a:ext cx="4572000" cy="454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92560" y="127080"/>
            <a:ext cx="67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Territorial Water Cla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01"/>
          <p:cNvSpPr/>
          <p:nvPr/>
        </p:nvSpPr>
        <p:spPr>
          <a:xfrm>
            <a:off x="6858000" y="228600"/>
            <a:ext cx="20574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Amundsen-Scott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Maitri Ind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Novolazarevskaya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 *Marion Island South Af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Syowa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 Molodezhnaya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 *Alfred Faure, Iles Crozet 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 Mawson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 *Port aux Français, Iles Kerguelen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Zhongshan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Progress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 *Martin de Viviès, Ile Amsterdam Franc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 Davis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 Mirny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 Vostok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 Casey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 Dumont d’Urville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 *Macquarie Island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 McMurdo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Scott Base New Zea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 Rothera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 San Martin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 Vernadsky Ukrain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 Palmer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 Capitan Arturo Prat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 +Presidente Eduardo Frei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 +Escudero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 +Great Wall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 +Bellingshausen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+Artigas Urugua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 +King Sejong Kore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 +Jubany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 +Arctowski Po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 +Comandante Ferraz Brazil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 General Bernardo O’Higgins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 Esperanza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 Marambio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 Orcadas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 *Bird Island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*King Edward Point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 Belgrano II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 Halley United King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 *Gough Island South Afr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 Neumayer German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 SANAE South Afric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 Troll, 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 Concordia, France/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Stations north of 60°S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84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51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6"/>
          <p:cNvSpPr/>
          <p:nvPr/>
        </p:nvSpPr>
        <p:spPr>
          <a:xfrm>
            <a:off x="3125520" y="5108400"/>
            <a:ext cx="370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mundsen-Sco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9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2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81280" cy="23875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USA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267080" cy="284796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5105520" cy="9493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12" name="Text Box 10"/>
          <p:cNvSpPr/>
          <p:nvPr/>
        </p:nvSpPr>
        <p:spPr>
          <a:xfrm>
            <a:off x="162360" y="381312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mundsen-Scott 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437600" y="25178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ffff"/>
                </a:solidFill>
                <a:latin typeface="Times New Roman"/>
              </a:rPr>
              <a:t>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112880" y="5946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Ge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290988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14:26Z</dcterms:created>
  <dc:creator>Mr. Clutter</dc:creator>
  <dc:description/>
  <dc:language>en-US</dc:language>
  <cp:lastModifiedBy>RomaK</cp:lastModifiedBy>
  <dcterms:modified xsi:type="dcterms:W3CDTF">2015-09-04T09:40:11Z</dcterms:modified>
  <cp:revision>26</cp:revision>
  <dc:subject/>
  <dc:title>Antartica the continent</dc:title>
</cp:coreProperties>
</file>