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3345-1290-42DB-83C5-8DC987DB05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rounding air o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rounding air o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ers of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 layers in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the troposphere, mesosphere, thermosphere, and 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ers of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 layers in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the troposphere, mesosphere, thermosphere, and 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layer that is closest to the surface o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0 to 1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layer that is closest to the surface o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0 to 1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sits on top of the trop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10 km to around 2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contains the ozone layer, which protects us from harmful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sits on top of the trop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10 km to around 2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contains the ozone layer, which protects us from harmful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is above the 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25 to 1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is above the 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25 to 1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osp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highest layer of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height ranges from 100 to 4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ere most small meteorites burn up and is also the location in the atmosphere that the northern lights occur (aurora boreal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osp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highest layer of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height ranges from 100 to 4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ere most small meteorites burn up and is also the location in the atmosphere that the northern lights occur (aurora boreal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ion of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different types of gasses in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include nitrogen, oxygen, argon, carbon dioxide and other noble g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s that is most abundant is 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ion of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different types of gasses in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include nitrogen, oxygen, argon, carbon dioxide and other noble g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s that is most abundant is 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B664-9AE7-4595-835D-FA2007704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72A3-B989-4691-9005-B4575537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AC41-B35C-4B9A-9571-7A4FF7EF4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A414-86F1-4EAA-B2F0-056C51B97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731F-95D3-41D8-BFE4-F0988958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F84D-E13C-491E-9FA0-54E574AF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19BD-6EA6-4200-9AF5-00305C1C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3F1F-7C51-4642-B7BF-43AB57A4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F797-1653-461E-83B8-A1A2F66A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ADD3-135D-47F3-BFD4-61A7C8D5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107E-4EA0-4015-8494-5653A1CF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29AB-328C-45BB-A039-3AE13865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550D-80C6-4E75-B5AD-497AA286F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jcmr.org/distils/lab/ozone/layer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aftan.com/thermodynamics/AIR.GIF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6171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rrounding air of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atmosphere"/>
          <p:cNvPicPr/>
          <p:nvPr/>
        </p:nvPicPr>
        <p:blipFill>
          <a:blip r:embed="rId1"/>
          <a:stretch/>
        </p:blipFill>
        <p:spPr>
          <a:xfrm>
            <a:off x="1066680" y="596880"/>
            <a:ext cx="708660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s of the atm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4 layers in the 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the troposphere, mesosphere, thermosphere, and strat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atmosphere"/>
          <p:cNvPicPr/>
          <p:nvPr/>
        </p:nvPicPr>
        <p:blipFill>
          <a:blip r:embed="rId1"/>
          <a:stretch/>
        </p:blipFill>
        <p:spPr>
          <a:xfrm>
            <a:off x="4191120" y="1371600"/>
            <a:ext cx="4952880" cy="49528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0"/>
          <p:cNvSpPr/>
          <p:nvPr/>
        </p:nvSpPr>
        <p:spPr>
          <a:xfrm>
            <a:off x="7543800" y="137160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p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the layer that is closest to the surface of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elevation ranges from 0 to 10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atmos"/>
          <p:cNvPicPr/>
          <p:nvPr/>
        </p:nvPicPr>
        <p:blipFill>
          <a:blip r:embed="rId1"/>
          <a:stretch/>
        </p:blipFill>
        <p:spPr>
          <a:xfrm>
            <a:off x="0" y="30492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ayer sits on top of the trop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elevation ranges from 10 km to around 25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ayer contains the ozone layer, which protects us from harmful sun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atmosphere"/>
          <p:cNvPicPr/>
          <p:nvPr/>
        </p:nvPicPr>
        <p:blipFill>
          <a:blip r:embed="rId1"/>
          <a:stretch/>
        </p:blipFill>
        <p:spPr>
          <a:xfrm>
            <a:off x="4343400" y="1371600"/>
            <a:ext cx="4800600" cy="35812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>
            <a:off x="4343400" y="167652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ayer is above the strat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elevation ranges from 25 to 100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lay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295280"/>
            <a:ext cx="457200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sphe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highest layer of the 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height ranges from 100 to 400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where most small meteorites burn up and is also the location in the atmosphere that the northern lights occur (aurora boreal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atmos"/>
          <p:cNvPicPr/>
          <p:nvPr/>
        </p:nvPicPr>
        <p:blipFill>
          <a:blip r:embed="rId1"/>
          <a:stretch/>
        </p:blipFill>
        <p:spPr>
          <a:xfrm>
            <a:off x="4419720" y="12193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sition of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many different types of gasses in the 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include nitrogen, oxygen, argon, carbon dioxide and other noble g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as that is most abundant is nit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AI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267080"/>
            <a:ext cx="4267080" cy="2360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airgraph"/>
          <p:cNvPicPr/>
          <p:nvPr/>
        </p:nvPicPr>
        <p:blipFill>
          <a:blip r:embed="rId3"/>
          <a:stretch/>
        </p:blipFill>
        <p:spPr>
          <a:xfrm>
            <a:off x="0" y="914400"/>
            <a:ext cx="4648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22:36:14Z</dcterms:created>
  <dc:creator>John Hubbard</dc:creator>
  <dc:description/>
  <dc:language>en-US</dc:language>
  <cp:lastModifiedBy>RomaK</cp:lastModifiedBy>
  <dcterms:modified xsi:type="dcterms:W3CDTF">2015-09-04T09:40:35Z</dcterms:modified>
  <cp:revision>10</cp:revision>
  <dc:subject/>
  <dc:title>Atmosphere</dc:title>
</cp:coreProperties>
</file>