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6.png" ContentType="image/png"/>
  <Override PartName="/ppt/media/camera.wav" ContentType="audio/x-wav"/>
  <Override PartName="/ppt/media/image21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903A-CFF3-4EF5-9487-682FBC10B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E6A-1146-4718-A318-9A14863A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9CD-1B17-4067-B0C4-E9DE481D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EA4-C6AB-454F-9BFE-702AA84F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5F7-C346-4472-880D-D670C3A6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E8FB-26A6-47E9-944B-2528B9F8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6CD7-4F2E-4F15-923C-4951441C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ACF7-C32B-4285-86D3-9ED95551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1660-33B8-4CBC-BF19-E5AD5EF4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9382-B16B-47ED-A623-DE018D76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7856-BD7A-4656-9338-75D5F56C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B652-8165-4E44-BD4A-23B5D74C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194-E48D-4C9B-BBB2-16963EF6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C534-2DC0-419A-990F-F439DE3D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411E-9441-43FF-A7F5-454BD957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C5E0-DCAC-467E-B0B6-FBB78ECD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565F-28D0-4928-AB93-E268B083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7025-4BBD-4562-BB22-2051F72B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A92-F5AC-4C6A-940D-2AABC720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7EA-25D2-405E-B056-85485707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8CB-DB8D-42D1-ACDD-E294F8C8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088-2334-4540-A48B-A5EFB34F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867-4AC2-485B-A4FF-38FA1752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CB1-0A67-4557-B214-B447CAC8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2C1-9A4C-4D88-B085-A08FC909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EE34-20ED-4D93-9DE0-FD54E61A8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0006-3316-4ADE-AD6D-7F001A8AB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m.gov.au/" TargetMode="External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ainforest-australia.com/index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ainforest-australia.com/Waterfalls.htm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rainforest-australia.com/Rainforest_Walks.htm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rainforest-australia.com/rainforest_turtles.htm" TargetMode="External"/><Relationship Id="rId8" Type="http://schemas.openxmlformats.org/officeDocument/2006/relationships/image" Target="../media/image11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rragalleria.com/pacific/australia/great-barrier-reef/picture.aust2550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terragalleria.com/pacific/australia/great-barrier-reef/picture.aust6189.html" TargetMode="External"/><Relationship Id="rId6" Type="http://schemas.openxmlformats.org/officeDocument/2006/relationships/image" Target="../media/image1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Australia</a:t>
            </a:r>
            <a:br>
              <a:rPr sz="7200"/>
            </a:b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he Continent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5160" y="60195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8% of the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an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Little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turt S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i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0d1202035385-deserts-world-gibson-desert-australia"/>
          <p:cNvPicPr/>
          <p:nvPr/>
        </p:nvPicPr>
        <p:blipFill>
          <a:blip r:embed="rId1"/>
          <a:stretch/>
        </p:blipFill>
        <p:spPr>
          <a:xfrm>
            <a:off x="4648320" y="2590920"/>
            <a:ext cx="3504960" cy="232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u3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276720" y="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back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rough%20fescue%20grassland%20in%20landscape"/>
          <p:cNvPicPr/>
          <p:nvPr/>
        </p:nvPicPr>
        <p:blipFill>
          <a:blip r:embed="rId1"/>
          <a:stretch/>
        </p:blipFill>
        <p:spPr>
          <a:xfrm>
            <a:off x="3429000" y="3429000"/>
            <a:ext cx="35812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au13"/>
          <p:cNvPicPr/>
          <p:nvPr/>
        </p:nvPicPr>
        <p:blipFill>
          <a:blip r:embed="rId1"/>
          <a:stretch/>
        </p:blipFill>
        <p:spPr>
          <a:xfrm>
            <a:off x="0" y="0"/>
            <a:ext cx="5181480" cy="396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u02"/>
          <p:cNvPicPr/>
          <p:nvPr/>
        </p:nvPicPr>
        <p:blipFill>
          <a:blip r:embed="rId2"/>
          <a:stretch/>
        </p:blipFill>
        <p:spPr>
          <a:xfrm>
            <a:off x="2895480" y="3276720"/>
            <a:ext cx="6248520" cy="3581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928120" y="955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sb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-90720" y="51465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41840" y="1641600"/>
            <a:ext cx="33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ther city slides cl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au46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5410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u36"/>
          <p:cNvPicPr/>
          <p:nvPr/>
        </p:nvPicPr>
        <p:blipFill>
          <a:blip r:embed="rId2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19120" y="422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yer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17920" y="3459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al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atellite-image-of-australia"/>
          <p:cNvPicPr/>
          <p:nvPr/>
        </p:nvPicPr>
        <p:blipFill>
          <a:blip r:embed="rId1"/>
          <a:stretch/>
        </p:blipFill>
        <p:spPr>
          <a:xfrm>
            <a:off x="3429000" y="1447920"/>
            <a:ext cx="4971960" cy="467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Getting to know Austral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ustralia political map"/>
          <p:cNvPicPr/>
          <p:nvPr/>
        </p:nvPicPr>
        <p:blipFill>
          <a:blip r:embed="rId1"/>
          <a:stretch/>
        </p:blipFill>
        <p:spPr>
          <a:xfrm>
            <a:off x="3048120" y="1600200"/>
            <a:ext cx="450684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Longitude / La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orld image"/>
          <p:cNvPicPr/>
          <p:nvPr/>
        </p:nvPicPr>
        <p:blipFill>
          <a:blip r:embed="rId1"/>
          <a:stretch/>
        </p:blipFill>
        <p:spPr>
          <a:xfrm>
            <a:off x="1905120" y="1447920"/>
            <a:ext cx="6400800" cy="291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iv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A map of Australia showing major river systems"/>
          <p:cNvPicPr/>
          <p:nvPr/>
        </p:nvPicPr>
        <p:blipFill>
          <a:blip r:embed="rId1"/>
          <a:stretch/>
        </p:blipFill>
        <p:spPr>
          <a:xfrm>
            <a:off x="3124080" y="1752480"/>
            <a:ext cx="476280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ustralia Climate Zo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371600"/>
            <a:ext cx="5410440" cy="489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-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ainforest Can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362320"/>
            <a:ext cx="2209680" cy="141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arron Fa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43828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Lake Barrine Wal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429080"/>
            <a:ext cx="1628640" cy="24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Australian snapping turt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572000"/>
            <a:ext cx="27432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9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erial view of a sand bar  near Cairns. The Great Barrier Reef, Queensland, Austral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erial view of an island  near Cairns. The Great Barrier Reef, Queensland, Australia"/>
          <p:cNvPicPr/>
          <p:nvPr/>
        </p:nvPicPr>
        <p:blipFill>
          <a:blip r:embed="rId3"/>
          <a:stretch/>
        </p:blipFill>
        <p:spPr>
          <a:xfrm>
            <a:off x="0" y="2286000"/>
            <a:ext cx="6019920" cy="45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erial view of a sand bar and reef near Cairns. The Great Barrier Reef, Queensland, Australia"/>
          <p:cNvPicPr/>
          <p:nvPr/>
        </p:nvPicPr>
        <p:blipFill>
          <a:blip r:embed="rId4"/>
          <a:stretch/>
        </p:blipFill>
        <p:spPr>
          <a:xfrm>
            <a:off x="3352680" y="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sland. The Great Barrier Reef, Queensland, Austral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01080" y="0"/>
            <a:ext cx="194292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6842160" y="339408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7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Underwater view of Coral and fish. The Great Barrier Reef, Queensland, Australia"/>
          <p:cNvPicPr/>
          <p:nvPr/>
        </p:nvPicPr>
        <p:blipFill>
          <a:blip r:embed="rId1"/>
          <a:stretch/>
        </p:blipFill>
        <p:spPr>
          <a:xfrm>
            <a:off x="0" y="327672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cuba divers and huge potate cod fish. The Great Barrier Reef, Queensland, Australia"/>
          <p:cNvPicPr/>
          <p:nvPr/>
        </p:nvPicPr>
        <p:blipFill>
          <a:blip r:embed="rId2"/>
          <a:stretch/>
        </p:blipFill>
        <p:spPr>
          <a:xfrm>
            <a:off x="3429000" y="32767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from the scorpian fish family related to the stone fish"/>
          <p:cNvPicPr/>
          <p:nvPr/>
        </p:nvPicPr>
        <p:blipFill>
          <a:blip r:embed="rId3"/>
          <a:stretch/>
        </p:blipFill>
        <p:spPr>
          <a:xfrm>
            <a:off x="6248520" y="327672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dam"/>
          <p:cNvPicPr/>
          <p:nvPr/>
        </p:nvPicPr>
        <p:blipFill>
          <a:blip r:embed="rId4"/>
          <a:stretch/>
        </p:blipFill>
        <p:spPr>
          <a:xfrm>
            <a:off x="0" y="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lick here to enlarge"/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4403880" y="49860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6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35:40Z</dcterms:created>
  <dc:creator>Mr. Clutter</dc:creator>
  <dc:description/>
  <dc:language>en-US</dc:language>
  <cp:lastModifiedBy>RomaK</cp:lastModifiedBy>
  <dcterms:modified xsi:type="dcterms:W3CDTF">2015-09-04T09:40:42Z</dcterms:modified>
  <cp:revision>13</cp:revision>
  <dc:subject/>
  <dc:title>Geography of Australia</dc:title>
</cp:coreProperties>
</file>