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ECFD-7536-40DB-B376-C8BDB3E08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8BB-6935-4339-BE4B-CC01D310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769-62B6-4F2F-8353-7195ED18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6B5-A155-409B-B31A-405E00DE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32E-6F33-43D6-B789-116D5A6D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9EAC-8128-4D13-BF20-DDC714BB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EDB3-D203-4ED2-A0A6-862BBC58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EBD9-9535-439D-ADD7-41B1189F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C833-0FDF-4849-862A-C723A29B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D975-028D-4590-8295-CB1F3268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5FE6-6A05-40DF-BEC0-3BC2AFBA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03D7-6EED-46A2-A442-17D9F7D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CA7-6A5F-4BAD-9890-A42B5D8F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E082-60F7-45C1-A577-FD7AA1D4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DF6E-7BBA-4835-811E-76C356D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135C-DA71-4FD3-9106-004B86AB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10FD-4101-4733-8B8E-0C579C98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99D2-B503-4808-B034-34916723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0AA-51AF-46BB-A4E5-F89A849D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2AC-9DAE-405D-B7F4-5CE7F024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FC3-D66A-4944-973C-0FC7D1D6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919-8B39-415D-80C0-CACBDF99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3E8-5B9E-49F6-89BB-A0CD97AA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81E-3AD1-46CA-8251-5801D38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731-6A95-47A1-9125-6E2081A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30D6-2174-40FF-8A55-4EE31BB10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A48D-0E14-4669-B670-CB3E819E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m.gov.au/" TargetMode="Externa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ainforest-australia.com/index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ainforest-australia.com/Waterfalls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rainforest-australia.com/Rainforest_Walks.htm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rainforest-australia.com/rainforest_turtles.htm" TargetMode="External"/><Relationship Id="rId8" Type="http://schemas.openxmlformats.org/officeDocument/2006/relationships/image" Target="../media/image11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rragalleria.com/pacific/australia/great-barrier-reef/picture.aust255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terragalleria.com/pacific/australia/great-barrier-reef/picture.aust6189.html" TargetMode="External"/><Relationship Id="rId6" Type="http://schemas.openxmlformats.org/officeDocument/2006/relationships/image" Target="../media/image1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ustralia</a:t>
            </a:r>
            <a:br>
              <a:rPr sz="72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e Continent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60195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8% of the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an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ittle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turt S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i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0d1202035385-deserts-world-gibson-desert-australia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32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u3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276720" y="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ack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rough%20fescue%20grassland%20in%20landscape"/>
          <p:cNvPicPr/>
          <p:nvPr/>
        </p:nvPicPr>
        <p:blipFill>
          <a:blip r:embed="rId1"/>
          <a:stretch/>
        </p:blipFill>
        <p:spPr>
          <a:xfrm>
            <a:off x="3429000" y="342900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au13"/>
          <p:cNvPicPr/>
          <p:nvPr/>
        </p:nvPicPr>
        <p:blipFill>
          <a:blip r:embed="rId1"/>
          <a:stretch/>
        </p:blipFill>
        <p:spPr>
          <a:xfrm>
            <a:off x="0" y="0"/>
            <a:ext cx="518148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u02"/>
          <p:cNvPicPr/>
          <p:nvPr/>
        </p:nvPicPr>
        <p:blipFill>
          <a:blip r:embed="rId2"/>
          <a:stretch/>
        </p:blipFill>
        <p:spPr>
          <a:xfrm>
            <a:off x="2895480" y="3276720"/>
            <a:ext cx="624852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928120" y="955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sb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-90720" y="51465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41840" y="164160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ity slides c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au46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5410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u36"/>
          <p:cNvPicPr/>
          <p:nvPr/>
        </p:nvPicPr>
        <p:blipFill>
          <a:blip r:embed="rId2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9120" y="422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er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17920" y="345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al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atellite-image-of-australia"/>
          <p:cNvPicPr/>
          <p:nvPr/>
        </p:nvPicPr>
        <p:blipFill>
          <a:blip r:embed="rId1"/>
          <a:stretch/>
        </p:blipFill>
        <p:spPr>
          <a:xfrm>
            <a:off x="3429000" y="1447920"/>
            <a:ext cx="497196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Getting to know 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ustralia political map"/>
          <p:cNvPicPr/>
          <p:nvPr/>
        </p:nvPicPr>
        <p:blipFill>
          <a:blip r:embed="rId1"/>
          <a:stretch/>
        </p:blipFill>
        <p:spPr>
          <a:xfrm>
            <a:off x="3048120" y="1600200"/>
            <a:ext cx="450684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Longitude / La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orld image"/>
          <p:cNvPicPr/>
          <p:nvPr/>
        </p:nvPicPr>
        <p:blipFill>
          <a:blip r:embed="rId1"/>
          <a:stretch/>
        </p:blipFill>
        <p:spPr>
          <a:xfrm>
            <a:off x="1905120" y="1447920"/>
            <a:ext cx="6400800" cy="29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iv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 map of Australia showing major river systems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ustralia Climate 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71600"/>
            <a:ext cx="541044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-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ainforest Can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2209680" cy="141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rron Fa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43828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ake Barrine Wal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29080"/>
            <a:ext cx="1628640" cy="24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Australian snapping turt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0"/>
            <a:ext cx="27432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erial view of a sand bar  near Cairns. The Great Barrier Reef, Queensland,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erial view of an island  near Cairns. The Great Barrier Reef, Queensland, Australia"/>
          <p:cNvPicPr/>
          <p:nvPr/>
        </p:nvPicPr>
        <p:blipFill>
          <a:blip r:embed="rId3"/>
          <a:stretch/>
        </p:blipFill>
        <p:spPr>
          <a:xfrm>
            <a:off x="0" y="2286000"/>
            <a:ext cx="601992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erial view of a sand bar and reef near Cairns. The Great Barrier Reef, Queensland, Australia"/>
          <p:cNvPicPr/>
          <p:nvPr/>
        </p:nvPicPr>
        <p:blipFill>
          <a:blip r:embed="rId4"/>
          <a:stretch/>
        </p:blipFill>
        <p:spPr>
          <a:xfrm>
            <a:off x="3352680" y="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sland. The Great Barrier Reef, Queensland, Austral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01080" y="0"/>
            <a:ext cx="194292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6842160" y="339408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7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Underwater view of Coral and fish. The Great Barrier Reef, Queensland, Australia"/>
          <p:cNvPicPr/>
          <p:nvPr/>
        </p:nvPicPr>
        <p:blipFill>
          <a:blip r:embed="rId1"/>
          <a:stretch/>
        </p:blipFill>
        <p:spPr>
          <a:xfrm>
            <a:off x="0" y="32767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cuba divers and huge potate cod fish. The Great Barrier Reef, Queensland, Australia"/>
          <p:cNvPicPr/>
          <p:nvPr/>
        </p:nvPicPr>
        <p:blipFill>
          <a:blip r:embed="rId2"/>
          <a:stretch/>
        </p:blipFill>
        <p:spPr>
          <a:xfrm>
            <a:off x="3429000" y="32767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from the scorpian fish family related to the stone fish"/>
          <p:cNvPicPr/>
          <p:nvPr/>
        </p:nvPicPr>
        <p:blipFill>
          <a:blip r:embed="rId3"/>
          <a:stretch/>
        </p:blipFill>
        <p:spPr>
          <a:xfrm>
            <a:off x="6248520" y="327672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dam"/>
          <p:cNvPicPr/>
          <p:nvPr/>
        </p:nvPicPr>
        <p:blipFill>
          <a:blip r:embed="rId4"/>
          <a:stretch/>
        </p:blipFill>
        <p:spPr>
          <a:xfrm>
            <a:off x="0" y="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lick here to enlarge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403880" y="49860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35:40Z</dcterms:created>
  <dc:creator>Mr. Clutter</dc:creator>
  <dc:description/>
  <dc:language>en-US</dc:language>
  <cp:lastModifiedBy>RomaK</cp:lastModifiedBy>
  <dcterms:modified xsi:type="dcterms:W3CDTF">2015-09-04T09:40:42Z</dcterms:modified>
  <cp:revision>13</cp:revision>
  <dc:subject/>
  <dc:title>Geography of Australia</dc:title>
</cp:coreProperties>
</file>