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12.jpeg" ContentType="image/jpeg"/>
  <Override PartName="/ppt/media/image6.png" ContentType="image/png"/>
  <Override PartName="/ppt/media/camera.wav" ContentType="audio/x-wav"/>
  <Override PartName="/ppt/media/image21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A998-0BA8-4A1C-A00C-3DBE9CDCA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% of the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San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am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b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San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rt St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r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% of the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San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am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b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San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rt St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r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back 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back 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s are open habitats covered mainly in grass, but also with other plants, wildflowers and a small number of trees and low shrubs. Grasslands contain the most species of plants in Austral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s are open habitats covered mainly in grass, but also with other plants, wildflowers and a small number of trees and low shrubs. Grasslands contain the most species of plants in Austral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sb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other city slides cli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 P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sb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other city slides cli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 P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yers R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riginal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yers R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riginal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ting to know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tting to know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v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al Are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-91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e Barrine Walk     Snapping Tur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al Are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-91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e Barrine Walk     Snapping Tur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4C02-BAA1-4DCE-A817-1DF0EA5CA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20A3-4AC8-40E6-9A5C-37AA240F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011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FBA2-E57F-4D0C-9FD1-D5832161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256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88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256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88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E633-382C-436F-8E38-6C2FED6A3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5B64-5A96-495C-A23A-A9DF9B722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FC1E-5A09-4F20-A08A-92415320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82FF-A74F-469F-89EF-663C0796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8FC9-6ECD-4574-B91F-18B605CE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A50E-27EE-4CCC-83E7-B949E651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D8DB-B9C6-4316-9EBA-E5E03FF0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ADCF-28DD-408C-9E44-697850B7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CAFF-28FB-43B3-9128-86D9EBEF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011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E50C-BCB2-41D8-9A0D-87C21F90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EC55-D68E-4713-A73A-F2BB88C3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587F-8B53-47CA-B80B-674B6956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011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4FFB-ED8D-4379-AB37-BC4495C65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256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988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256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988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A37B-7808-4AF9-B21A-731E40B24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AB18-75AA-459B-B657-52A37FCF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32E4-A0BC-432A-B2C1-59D8C6D7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92B7-ED06-4BE4-987F-F09F28B5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8935-30B5-4CA8-BC37-19467DE9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5D7D-B6E7-4834-A2B9-360FCD64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011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D2FB-7D01-4BB7-A3FA-7A7A1903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963C-50A1-4EC7-857D-97B4C3D1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271D-F14F-46DE-9B6D-8BF83F288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94A7-C7B3-406E-B312-7C2AC3AB8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om.gov.au/" TargetMode="External"/><Relationship Id="rId2" Type="http://schemas.openxmlformats.org/officeDocument/2006/relationships/image" Target="../media/image7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ainforest-australia.com/index.html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rainforest-australia.com/Waterfalls.htm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rainforest-australia.com/Rainforest_Walks.htm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rainforest-australia.com/rainforest_turtles.htm" TargetMode="External"/><Relationship Id="rId8" Type="http://schemas.openxmlformats.org/officeDocument/2006/relationships/image" Target="../media/image11.jpeg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erragalleria.com/pacific/australia/great-barrier-reef/picture.aust2550.html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hyperlink" Target="http://www.terragalleria.com/pacific/australia/great-barrier-reef/picture.aust6189.html" TargetMode="External"/><Relationship Id="rId6" Type="http://schemas.openxmlformats.org/officeDocument/2006/relationships/image" Target="../media/image15.jpe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Australia</a:t>
            </a:r>
            <a:br>
              <a:rPr sz="7200"/>
            </a:b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The Continent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105160" y="6019560"/>
            <a:ext cx="38098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VMS Library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Dese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18% of the conti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Great Vic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Great San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Tanam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Gib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Little San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Sturt St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Tir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20d1202035385-deserts-world-gibson-desert-australia"/>
          <p:cNvPicPr/>
          <p:nvPr/>
        </p:nvPicPr>
        <p:blipFill>
          <a:blip r:embed="rId1"/>
          <a:stretch/>
        </p:blipFill>
        <p:spPr>
          <a:xfrm>
            <a:off x="4648320" y="2590920"/>
            <a:ext cx="3504960" cy="2327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au32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3276720" y="0"/>
            <a:ext cx="20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back R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Grass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rasslands are open habitats covered mainly in grass, but also with other plants, wildflowers and a small number of trees and low shrubs. Grasslands contain the most species of plants in Austral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rough%20fescue%20grassland%20in%20landscape"/>
          <p:cNvPicPr/>
          <p:nvPr/>
        </p:nvPicPr>
        <p:blipFill>
          <a:blip r:embed="rId1"/>
          <a:stretch/>
        </p:blipFill>
        <p:spPr>
          <a:xfrm>
            <a:off x="3429000" y="3429000"/>
            <a:ext cx="3581280" cy="2425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p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au13"/>
          <p:cNvPicPr/>
          <p:nvPr/>
        </p:nvPicPr>
        <p:blipFill>
          <a:blip r:embed="rId1"/>
          <a:stretch/>
        </p:blipFill>
        <p:spPr>
          <a:xfrm>
            <a:off x="0" y="0"/>
            <a:ext cx="5181480" cy="3962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au02"/>
          <p:cNvPicPr/>
          <p:nvPr/>
        </p:nvPicPr>
        <p:blipFill>
          <a:blip r:embed="rId2"/>
          <a:stretch/>
        </p:blipFill>
        <p:spPr>
          <a:xfrm>
            <a:off x="2895480" y="3276720"/>
            <a:ext cx="6248520" cy="3581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5928120" y="9558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sb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-90720" y="514656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d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5541840" y="1641600"/>
            <a:ext cx="33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other city slides cli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tralia 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3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au46"/>
          <p:cNvPicPr/>
          <p:nvPr/>
        </p:nvPicPr>
        <p:blipFill>
          <a:blip r:embed="rId1"/>
          <a:stretch/>
        </p:blipFill>
        <p:spPr>
          <a:xfrm>
            <a:off x="0" y="1447920"/>
            <a:ext cx="3886200" cy="5410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au36"/>
          <p:cNvPicPr/>
          <p:nvPr/>
        </p:nvPicPr>
        <p:blipFill>
          <a:blip r:embed="rId2"/>
          <a:stretch/>
        </p:blipFill>
        <p:spPr>
          <a:xfrm>
            <a:off x="3886200" y="1447920"/>
            <a:ext cx="5257800" cy="5410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8"/>
          <p:cNvSpPr/>
          <p:nvPr/>
        </p:nvSpPr>
        <p:spPr>
          <a:xfrm>
            <a:off x="519120" y="42228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yers R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317920" y="34596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riginal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3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Satellite 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satellite-image-of-australia"/>
          <p:cNvPicPr/>
          <p:nvPr/>
        </p:nvPicPr>
        <p:blipFill>
          <a:blip r:embed="rId1"/>
          <a:stretch/>
        </p:blipFill>
        <p:spPr>
          <a:xfrm>
            <a:off x="3429000" y="1447920"/>
            <a:ext cx="4971960" cy="4676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Getting to know Austral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Australia political map"/>
          <p:cNvPicPr/>
          <p:nvPr/>
        </p:nvPicPr>
        <p:blipFill>
          <a:blip r:embed="rId1"/>
          <a:stretch/>
        </p:blipFill>
        <p:spPr>
          <a:xfrm>
            <a:off x="3048120" y="1600200"/>
            <a:ext cx="4506840" cy="4876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Times New Roman"/>
              </a:rPr>
              <a:t>Longitude / Latitu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world image"/>
          <p:cNvPicPr/>
          <p:nvPr/>
        </p:nvPicPr>
        <p:blipFill>
          <a:blip r:embed="rId1"/>
          <a:stretch/>
        </p:blipFill>
        <p:spPr>
          <a:xfrm>
            <a:off x="1905120" y="1447920"/>
            <a:ext cx="6400800" cy="2911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River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A map of Australia showing major river systems"/>
          <p:cNvPicPr/>
          <p:nvPr/>
        </p:nvPicPr>
        <p:blipFill>
          <a:blip r:embed="rId1"/>
          <a:stretch/>
        </p:blipFill>
        <p:spPr>
          <a:xfrm>
            <a:off x="3124080" y="1752480"/>
            <a:ext cx="4762800" cy="4353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Australia Climate Zon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1371600"/>
            <a:ext cx="5410440" cy="4890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opical Area 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-9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8288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ke Barrine Walk     Snapping Tur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Rainforest Can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362320"/>
            <a:ext cx="2209680" cy="1414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Barron Fall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4120" y="2438280"/>
            <a:ext cx="2133360" cy="1414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Lake Barrine Walk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4429080"/>
            <a:ext cx="1628640" cy="2428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Australian snapping turtl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95880" y="4572000"/>
            <a:ext cx="2743200" cy="1733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9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Aerial view of a sand bar  near Cairns. The Great Barrier Reef, Queensland, Austral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35268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Aerial view of an island  near Cairns. The Great Barrier Reef, Queensland, Australia"/>
          <p:cNvPicPr/>
          <p:nvPr/>
        </p:nvPicPr>
        <p:blipFill>
          <a:blip r:embed="rId3"/>
          <a:stretch/>
        </p:blipFill>
        <p:spPr>
          <a:xfrm>
            <a:off x="0" y="2286000"/>
            <a:ext cx="6019920" cy="4572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Aerial view of a sand bar and reef near Cairns. The Great Barrier Reef, Queensland, Australia"/>
          <p:cNvPicPr/>
          <p:nvPr/>
        </p:nvPicPr>
        <p:blipFill>
          <a:blip r:embed="rId4"/>
          <a:stretch/>
        </p:blipFill>
        <p:spPr>
          <a:xfrm>
            <a:off x="3352680" y="0"/>
            <a:ext cx="3886200" cy="2362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Island. The Great Barrier Reef, Queensland, Australia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01080" y="0"/>
            <a:ext cx="1942920" cy="2362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2"/>
          <p:cNvSpPr/>
          <p:nvPr/>
        </p:nvSpPr>
        <p:spPr>
          <a:xfrm>
            <a:off x="6842160" y="3394080"/>
            <a:ext cx="104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7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Underwater view of Coral and fish. The Great Barrier Reef, Queensland, Australia"/>
          <p:cNvPicPr/>
          <p:nvPr/>
        </p:nvPicPr>
        <p:blipFill>
          <a:blip r:embed="rId1"/>
          <a:stretch/>
        </p:blipFill>
        <p:spPr>
          <a:xfrm>
            <a:off x="0" y="3276720"/>
            <a:ext cx="3429000" cy="3581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Scuba divers and huge potate cod fish. The Great Barrier Reef, Queensland, Australia"/>
          <p:cNvPicPr/>
          <p:nvPr/>
        </p:nvPicPr>
        <p:blipFill>
          <a:blip r:embed="rId2"/>
          <a:stretch/>
        </p:blipFill>
        <p:spPr>
          <a:xfrm>
            <a:off x="3429000" y="3276720"/>
            <a:ext cx="2819520" cy="3581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from the scorpian fish family related to the stone fish"/>
          <p:cNvPicPr/>
          <p:nvPr/>
        </p:nvPicPr>
        <p:blipFill>
          <a:blip r:embed="rId3"/>
          <a:stretch/>
        </p:blipFill>
        <p:spPr>
          <a:xfrm>
            <a:off x="6248520" y="3276720"/>
            <a:ext cx="2895480" cy="3581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adam"/>
          <p:cNvPicPr/>
          <p:nvPr/>
        </p:nvPicPr>
        <p:blipFill>
          <a:blip r:embed="rId4"/>
          <a:stretch/>
        </p:blipFill>
        <p:spPr>
          <a:xfrm>
            <a:off x="0" y="0"/>
            <a:ext cx="4114800" cy="327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click here to enlarge"/>
          <p:cNvPicPr/>
          <p:nvPr/>
        </p:nvPicPr>
        <p:blipFill>
          <a:blip r:embed="rId5"/>
          <a:stretch/>
        </p:blipFill>
        <p:spPr>
          <a:xfrm>
            <a:off x="5943600" y="0"/>
            <a:ext cx="320040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4"/>
          <p:cNvSpPr/>
          <p:nvPr/>
        </p:nvSpPr>
        <p:spPr>
          <a:xfrm>
            <a:off x="4403880" y="498600"/>
            <a:ext cx="104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6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35:40Z</dcterms:created>
  <dc:creator>Mr. Clutter</dc:creator>
  <dc:description/>
  <dc:language>en-US</dc:language>
  <cp:lastModifiedBy>RomaK</cp:lastModifiedBy>
  <dcterms:modified xsi:type="dcterms:W3CDTF">2015-09-04T09:40:42Z</dcterms:modified>
  <cp:revision>13</cp:revision>
  <dc:subject/>
  <dc:title>Geography of Australia</dc:title>
</cp:coreProperties>
</file>