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12.jpeg" ContentType="image/jpeg"/>
  <Override PartName="/ppt/media/image6.png" ContentType="image/png"/>
  <Override PartName="/ppt/media/camera.wav" ContentType="audio/x-wav"/>
  <Override PartName="/ppt/media/image21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28B8-C59F-46AA-A59B-CD0BA6767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of the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a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b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rt S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r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of the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a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b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rt S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r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ack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back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city slides cl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city slides cl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yer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riginal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yer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riginal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to know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ting to know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v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-91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-91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B0F-D213-428A-BE5D-70EF46FD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2BB-A94A-4ECD-A4A1-043B2B96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1C3-B25C-40F8-8FD4-CBC32DD6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5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8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5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8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7D5-7CF1-4EA9-85C9-1FB0BF72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902C-F950-44B7-82CE-CBDB56DF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FB73-5393-4F22-9A84-B77B1075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061D-EBC2-49FA-8B6A-49BBF347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15E2-5B6E-4CCC-BD6A-C50D8847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A62B-2D59-4A96-B1FE-42A9295A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2EF7-F898-4867-BDDB-729C004B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1621-3811-4A4D-AB25-2ED5B6AF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833-4124-480E-9884-7AC83CAF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C453-1871-4E1A-8CCA-FDE1EB82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8CAA-DEED-40C5-AF3D-7983A47F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A417-D902-4D38-ABC8-3B1FB65E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0E6C-8096-4609-9A48-CB11456F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5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98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5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98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6172-10B0-45EF-84E2-2E195BC3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BEC4-35E5-4436-92BD-32F8EA98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B8DA-38DF-43EF-B9C6-4C5E5415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6DF-DFA8-4CC2-8F56-173F330E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D6A8-0004-457D-B061-3533D0EE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622F-6122-4E1F-9CFF-54FF3367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7AC-C956-492F-9275-E95061FC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1C3-865E-4D16-9655-09D677FC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9DA3-D7BE-438A-9F17-4F81E5277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B1F1-8737-466D-8260-E027C2F1D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om.gov.au/" TargetMode="External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ainforest-australia.com/index.htm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ainforest-australia.com/Waterfalls.htm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rainforest-australia.com/Rainforest_Walks.htm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rainforest-australia.com/rainforest_turtles.htm" TargetMode="External"/><Relationship Id="rId8" Type="http://schemas.openxmlformats.org/officeDocument/2006/relationships/image" Target="../media/image11.jpe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rragalleria.com/pacific/australia/great-barrier-reef/picture.aust2550.htm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terragalleria.com/pacific/australia/great-barrier-reef/picture.aust6189.html" TargetMode="External"/><Relationship Id="rId6" Type="http://schemas.openxmlformats.org/officeDocument/2006/relationships/image" Target="../media/image15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Australia</a:t>
            </a:r>
            <a:br>
              <a:rPr sz="7200"/>
            </a:b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The Continent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05160" y="6019560"/>
            <a:ext cx="38098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8% of the 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reat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reat San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ana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i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Little San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Sturt S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i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20d1202035385-deserts-world-gibson-desert-australia"/>
          <p:cNvPicPr/>
          <p:nvPr/>
        </p:nvPicPr>
        <p:blipFill>
          <a:blip r:embed="rId1"/>
          <a:stretch/>
        </p:blipFill>
        <p:spPr>
          <a:xfrm>
            <a:off x="4648320" y="2590920"/>
            <a:ext cx="3504960" cy="232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au32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3276720" y="0"/>
            <a:ext cx="20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back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rough%20fescue%20grassland%20in%20landscape"/>
          <p:cNvPicPr/>
          <p:nvPr/>
        </p:nvPicPr>
        <p:blipFill>
          <a:blip r:embed="rId1"/>
          <a:stretch/>
        </p:blipFill>
        <p:spPr>
          <a:xfrm>
            <a:off x="3429000" y="3429000"/>
            <a:ext cx="358128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au13"/>
          <p:cNvPicPr/>
          <p:nvPr/>
        </p:nvPicPr>
        <p:blipFill>
          <a:blip r:embed="rId1"/>
          <a:stretch/>
        </p:blipFill>
        <p:spPr>
          <a:xfrm>
            <a:off x="0" y="0"/>
            <a:ext cx="5181480" cy="3962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u02"/>
          <p:cNvPicPr/>
          <p:nvPr/>
        </p:nvPicPr>
        <p:blipFill>
          <a:blip r:embed="rId2"/>
          <a:stretch/>
        </p:blipFill>
        <p:spPr>
          <a:xfrm>
            <a:off x="2895480" y="3276720"/>
            <a:ext cx="6248520" cy="3581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5928120" y="955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sb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-90720" y="51465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541840" y="1641600"/>
            <a:ext cx="33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other city slides cli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alia 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au46"/>
          <p:cNvPicPr/>
          <p:nvPr/>
        </p:nvPicPr>
        <p:blipFill>
          <a:blip r:embed="rId1"/>
          <a:stretch/>
        </p:blipFill>
        <p:spPr>
          <a:xfrm>
            <a:off x="0" y="1447920"/>
            <a:ext cx="3886200" cy="5410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au36"/>
          <p:cNvPicPr/>
          <p:nvPr/>
        </p:nvPicPr>
        <p:blipFill>
          <a:blip r:embed="rId2"/>
          <a:stretch/>
        </p:blipFill>
        <p:spPr>
          <a:xfrm>
            <a:off x="3886200" y="1447920"/>
            <a:ext cx="5257800" cy="5410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519120" y="4222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yers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317920" y="34596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riginal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satellite-image-of-australia"/>
          <p:cNvPicPr/>
          <p:nvPr/>
        </p:nvPicPr>
        <p:blipFill>
          <a:blip r:embed="rId1"/>
          <a:stretch/>
        </p:blipFill>
        <p:spPr>
          <a:xfrm>
            <a:off x="3429000" y="1447920"/>
            <a:ext cx="4971960" cy="4676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Getting to know Austral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ustralia political map"/>
          <p:cNvPicPr/>
          <p:nvPr/>
        </p:nvPicPr>
        <p:blipFill>
          <a:blip r:embed="rId1"/>
          <a:stretch/>
        </p:blipFill>
        <p:spPr>
          <a:xfrm>
            <a:off x="3048120" y="1600200"/>
            <a:ext cx="450684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Longitude / Latitu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world image"/>
          <p:cNvPicPr/>
          <p:nvPr/>
        </p:nvPicPr>
        <p:blipFill>
          <a:blip r:embed="rId1"/>
          <a:stretch/>
        </p:blipFill>
        <p:spPr>
          <a:xfrm>
            <a:off x="1905120" y="1447920"/>
            <a:ext cx="6400800" cy="291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River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A map of Australia showing major river systems"/>
          <p:cNvPicPr/>
          <p:nvPr/>
        </p:nvPicPr>
        <p:blipFill>
          <a:blip r:embed="rId1"/>
          <a:stretch/>
        </p:blipFill>
        <p:spPr>
          <a:xfrm>
            <a:off x="3124080" y="1752480"/>
            <a:ext cx="4762800" cy="435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ustralia Climate Zo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371600"/>
            <a:ext cx="5410440" cy="4890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-9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Rainforest Can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362320"/>
            <a:ext cx="2209680" cy="1414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Barron Fall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2438280"/>
            <a:ext cx="2133360" cy="1414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Lake Barrine Wal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4429080"/>
            <a:ext cx="1628640" cy="2428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Australian snapping turt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4572000"/>
            <a:ext cx="2743200" cy="1733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9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Aerial view of a sand bar  near Cairns. The Great Barrier Reef, Queensland, Austral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Aerial view of an island  near Cairns. The Great Barrier Reef, Queensland, Australia"/>
          <p:cNvPicPr/>
          <p:nvPr/>
        </p:nvPicPr>
        <p:blipFill>
          <a:blip r:embed="rId3"/>
          <a:stretch/>
        </p:blipFill>
        <p:spPr>
          <a:xfrm>
            <a:off x="0" y="2286000"/>
            <a:ext cx="6019920" cy="457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Aerial view of a sand bar and reef near Cairns. The Great Barrier Reef, Queensland, Australia"/>
          <p:cNvPicPr/>
          <p:nvPr/>
        </p:nvPicPr>
        <p:blipFill>
          <a:blip r:embed="rId4"/>
          <a:stretch/>
        </p:blipFill>
        <p:spPr>
          <a:xfrm>
            <a:off x="3352680" y="0"/>
            <a:ext cx="3886200" cy="2362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Island. The Great Barrier Reef, Queensland, Australi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01080" y="0"/>
            <a:ext cx="1942920" cy="2362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6842160" y="3394080"/>
            <a:ext cx="10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7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Underwater view of Coral and fish. The Great Barrier Reef, Queensland, Australia"/>
          <p:cNvPicPr/>
          <p:nvPr/>
        </p:nvPicPr>
        <p:blipFill>
          <a:blip r:embed="rId1"/>
          <a:stretch/>
        </p:blipFill>
        <p:spPr>
          <a:xfrm>
            <a:off x="0" y="3276720"/>
            <a:ext cx="3429000" cy="358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Scuba divers and huge potate cod fish. The Great Barrier Reef, Queensland, Australia"/>
          <p:cNvPicPr/>
          <p:nvPr/>
        </p:nvPicPr>
        <p:blipFill>
          <a:blip r:embed="rId2"/>
          <a:stretch/>
        </p:blipFill>
        <p:spPr>
          <a:xfrm>
            <a:off x="3429000" y="3276720"/>
            <a:ext cx="2819520" cy="3581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from the scorpian fish family related to the stone fish"/>
          <p:cNvPicPr/>
          <p:nvPr/>
        </p:nvPicPr>
        <p:blipFill>
          <a:blip r:embed="rId3"/>
          <a:stretch/>
        </p:blipFill>
        <p:spPr>
          <a:xfrm>
            <a:off x="6248520" y="3276720"/>
            <a:ext cx="289548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adam"/>
          <p:cNvPicPr/>
          <p:nvPr/>
        </p:nvPicPr>
        <p:blipFill>
          <a:blip r:embed="rId4"/>
          <a:stretch/>
        </p:blipFill>
        <p:spPr>
          <a:xfrm>
            <a:off x="0" y="0"/>
            <a:ext cx="4114800" cy="32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click here to enlarge"/>
          <p:cNvPicPr/>
          <p:nvPr/>
        </p:nvPicPr>
        <p:blipFill>
          <a:blip r:embed="rId5"/>
          <a:stretch/>
        </p:blipFill>
        <p:spPr>
          <a:xfrm>
            <a:off x="5943600" y="0"/>
            <a:ext cx="320040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4"/>
          <p:cNvSpPr/>
          <p:nvPr/>
        </p:nvSpPr>
        <p:spPr>
          <a:xfrm>
            <a:off x="4403880" y="498600"/>
            <a:ext cx="10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6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35:40Z</dcterms:created>
  <dc:creator>Mr. Clutter</dc:creator>
  <dc:description/>
  <dc:language>en-US</dc:language>
  <cp:lastModifiedBy>RomaK</cp:lastModifiedBy>
  <dcterms:modified xsi:type="dcterms:W3CDTF">2015-09-04T09:40:42Z</dcterms:modified>
  <cp:revision>13</cp:revision>
  <dc:subject/>
  <dc:title>Geography of Australia</dc:title>
</cp:coreProperties>
</file>