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C67C-5FD4-4D92-B357-F44813B5D4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A66-3487-4586-9BE9-D458C0D8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A9A-AF4C-415F-8716-46E60EC1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D97-8B1F-4F3A-A5A5-F3EC6A5A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222-AF79-46F0-B70D-ED8A5DE0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F67-7C12-4477-BC12-4B472DF6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D23-5612-4EB7-8114-463380FD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377-1AD1-4695-B9BC-025CED01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5D4-8165-431E-8597-B8D2A994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A7E-D47A-4A1C-AD47-EE249EDA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8EF-5FC9-4D02-8DEF-1E1E1CCF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435-F2B0-4CCC-BEE0-0B407B1A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131-2B7E-449C-B081-AA57875C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50000">
              <a:srgbClr val="99ccff"/>
            </a:gs>
            <a:gs pos="100000">
              <a:srgbClr val="47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37DD-5F64-4918-85F9-1B9F3E2C3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onners Ferry Slide, 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09480" y="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oking from the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0574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5"/>
          <p:cNvPicPr/>
          <p:nvPr/>
        </p:nvPicPr>
        <p:blipFill>
          <a:blip r:embed="rId1"/>
          <a:stretch/>
        </p:blipFill>
        <p:spPr>
          <a:xfrm>
            <a:off x="-7621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666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17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ls and hanging tie from rail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21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094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7:41:19Z</dcterms:created>
  <dc:creator>Greg Cossette</dc:creator>
  <dc:description/>
  <dc:language>en-US</dc:language>
  <cp:lastModifiedBy>RomaK</cp:lastModifiedBy>
  <dcterms:modified xsi:type="dcterms:W3CDTF">2015-09-04T09:40:48Z</dcterms:modified>
  <cp:revision>11</cp:revision>
  <dc:subject/>
  <dc:title>Bonners Ferry Slide, 1998</dc:title>
</cp:coreProperties>
</file>