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E8D80-937B-4C87-8450-ADEC3506963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nners Ferry Slide, 199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mid-October of 1998, a section of hillside north of Bonners Ferry, Idaho, moved in response to gravity, wiping out a portion of HW95, the railway and powerlines. See the damage for yourself in the following photo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ners Ferry Slide, 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id-October of 1998, a section of hillside north of Bonners Ferry, Idaho, moved in response to gravity, wiping out a portion of HW95, the railway and powerlines. See the damage for yourself in the following photo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ing from the No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from the No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your eval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ype of mass wasting occurred he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 and defend your evaluation of this ev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 it out and hand it in for scor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sired response is on the la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your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ype of mass wasting occurred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and defend your evaluation of this ev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it out and hand it in for sco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sired response is on the las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nners Ferry slide was a major  mudflow (as evidenced in slides 2-8) followed by slump (slides 9-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nners Ferry slide was a major  mudflow (as evidenced in slides 2-8) followed by slump (slides 9-1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erial View of the Slide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erial View of the Slide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ing from the E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from the E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ilroad rails and hanging t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lroad rails and hanging t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ils and hanging tie from railro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ls and hanging tie from railro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ing from the Sou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from the So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96E3-83F0-4DEF-9844-ED0AE002F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D897-E9E8-433F-AB8A-34F0F32BD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F6BD-4FA0-4D22-84A1-2C375A327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5DF2-7871-49D3-B5D2-5B6483C07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772B-930D-4888-9FEB-D4A1BB531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405D-9982-4617-8F93-9A74AB847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56C9-D77E-4F49-982F-416D01EEB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8B35-B6BA-458B-8F60-D513020F4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7743-046E-43B3-8648-45CE8A92C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E693-138B-4923-BAE7-994B99DE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C40F-5582-4D03-821E-E8B0DA81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1B6E-5D3F-4D1A-8E7B-6870CC1D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5e76"/>
            </a:gs>
            <a:gs pos="50000">
              <a:srgbClr val="99ccff"/>
            </a:gs>
            <a:gs pos="100000">
              <a:srgbClr val="475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F1573-A14F-4E40-8C58-A9FB692EBA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Bonners Ferry Slide, 19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8960" y="1828800"/>
            <a:ext cx="647676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 mid-October of 1998, a section of hillside north of Bonners Ferry, Idaho, moved in response to gravity, wiping out a portion of HW95, the railway and powerlines. See the damage for yourself in the following photo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PIC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609480" y="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ooking from the No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ite your eval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type of mass wasting occurred 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 and defend your evaluation of this ev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 it out and hand it in for sco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esired response is on the last sl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Bonners Ferry slide was a major  mudflow (as evidenced in slides 2-8) followed by slump (slides 9-10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PIC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2057400" y="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erial View of the Slide A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PIC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PIC5"/>
          <p:cNvPicPr/>
          <p:nvPr/>
        </p:nvPicPr>
        <p:blipFill>
          <a:blip r:embed="rId1"/>
          <a:stretch/>
        </p:blipFill>
        <p:spPr>
          <a:xfrm>
            <a:off x="-762120" y="0"/>
            <a:ext cx="10515600" cy="70866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2666880" y="457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oking from the 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PIC17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PIC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PIC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457200" y="24382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ilroad rails and hanging 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PIC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533520" y="23623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ils and hanging tie from railro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PIC21"/>
          <p:cNvPicPr/>
          <p:nvPr/>
        </p:nvPicPr>
        <p:blipFill>
          <a:blip r:embed="rId1"/>
          <a:stretch/>
        </p:blipFill>
        <p:spPr>
          <a:xfrm>
            <a:off x="0" y="0"/>
            <a:ext cx="967752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609480" y="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oking from the Sou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1T17:41:19Z</dcterms:created>
  <dc:creator>Greg Cossette</dc:creator>
  <dc:description/>
  <dc:language>en-US</dc:language>
  <cp:lastModifiedBy>RomaK</cp:lastModifiedBy>
  <dcterms:modified xsi:type="dcterms:W3CDTF">2015-09-04T09:40:48Z</dcterms:modified>
  <cp:revision>11</cp:revision>
  <dc:subject/>
  <dc:title>Bonners Ferry Slide, 1998</dc:title>
</cp:coreProperties>
</file>