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4C98-25A2-405C-B2B9-D8E2AD0682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635-1C9C-4311-ABB8-71D57090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EB5-CE5D-4EE9-89A3-C7224F6A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675-9C20-44FB-AB84-AA59B8C1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08E3-39A0-4F43-9842-7D600114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7E9-FF77-4AB8-9442-9AD58BBA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A4E-69C4-4EFF-ABE8-186EDBE9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25A-5D19-4A6B-9DB9-68A22404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485-34F6-4655-9836-60E18E27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DF7-7DE1-4A85-A5F7-0A828F3B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0AB-9C9C-4F19-BB35-4484531F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0F2-0210-4C5E-BFA2-22F27CC5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018-E019-484F-938A-DD7E2D10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50000">
              <a:srgbClr val="99ccff"/>
            </a:gs>
            <a:gs pos="100000">
              <a:srgbClr val="47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4AC7-C68E-4587-8BA8-451B52BDA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onners Ferry Slide, 19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609480" y="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oking from the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057400" y="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5"/>
          <p:cNvPicPr/>
          <p:nvPr/>
        </p:nvPicPr>
        <p:blipFill>
          <a:blip r:embed="rId1"/>
          <a:stretch/>
        </p:blipFill>
        <p:spPr>
          <a:xfrm>
            <a:off x="-76212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66688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17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IC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5720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352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ls and hanging tie from rail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IC21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6094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7:41:19Z</dcterms:created>
  <dc:creator>Greg Cossette</dc:creator>
  <dc:description/>
  <dc:language>en-US</dc:language>
  <cp:lastModifiedBy>RomaK</cp:lastModifiedBy>
  <dcterms:modified xsi:type="dcterms:W3CDTF">2015-09-04T09:40:48Z</dcterms:modified>
  <cp:revision>11</cp:revision>
  <dc:subject/>
  <dc:title>Bonners Ferry Slide, 1998</dc:title>
</cp:coreProperties>
</file>