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F56F-E275-49A7-92FB-5B17E6D82E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A3E-2B2C-42D7-BE2C-11E65A0E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5D1-FB22-4094-87B1-971983EC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D61A7-55C7-4DFB-ACC2-7C5E4CE7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ADDC2-B283-46DC-AE3F-1DBC2FAA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E8907-A047-4ADD-ADFA-3CD50A8D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54902-E2E6-442C-A9C6-02B1AB80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52803-8D23-4BDE-BDF9-39FB7EA4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C0FEB4-24E5-4E48-BB79-AB9730D1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23FDA-90DD-4EBC-AA39-C4F03DF6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F5A07-D4AC-4D67-B579-7DFF102A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5A101-9B29-4155-8AD3-01F6FD51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B614C-B6D8-4B98-8501-29890FE8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AC2-9387-47D7-BED8-B166D318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059F5-46CA-4327-9A0B-A51EACDF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B47A53-7762-4F46-80DA-0151781D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69A82-7B61-417F-8E08-C5C5A562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A28DF-FAE2-47F6-B041-C8F3573A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B0887-B8D8-46C0-A22E-474B922F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1ADFB-8D81-45E4-9D67-D816B251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4889A-9649-4942-B122-DD126052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F7091-C243-4895-A0FD-A5F82415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5CE20-8EC1-4918-ABA0-21877977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546903-9394-4F8D-8B94-F1DD3ABC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238-08F4-4E23-AFD0-750D0099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3115D7-7247-4F7D-A6E9-13AC3724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A124C-9A38-4B2E-B13F-8D92CAF9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B4B5D-E5DF-42D5-8540-5A441C6F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FF2E5-C270-48A0-B613-8117649A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D1041-29D8-4BB8-8F0E-AAF2CDB0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C3453-9700-4DCE-A82F-063F741A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63ED6-CF4F-4F66-94CC-49E89F6A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2E220-E21F-4FB4-B52A-64BFACAA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B40E0-E3AE-4FC5-806B-6625D682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9C67D-391A-4901-BEAD-44403174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C887-A9D4-41FF-B7E2-8FDC2D7A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737CC-E890-4E0B-8159-DB9E52BA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43982-474D-48F8-AD33-B1BCCC98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DB2A3-0DE6-4471-A889-CECA4755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81695-21A6-48D6-8EC4-14C49300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1663C-F971-4783-8224-CB00ED63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3C3785-33E6-4ABF-AE9D-4298BC50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F0FFD-1E79-4EED-9D64-EE07A7B9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F8703-0A1F-4035-99E9-8A7F0DFF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A1077A-AC13-471B-8C8B-5EDAF006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11301-3940-480B-AA2F-323780A6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6A1B-5499-4A65-8AA5-023EB4DE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FD9298-5C2F-458D-974F-6C07C1A6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78482-5693-42F1-8754-54E1E122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09B5D-06EC-49F6-A910-1518B9D4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BE7F5-6AD7-489E-B7AD-B2762AD5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8056A-A980-4415-97AB-57508537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B75D-93CB-4440-81E3-D8BE7C76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EC19-030D-47EC-98C2-4529B71F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E3D6-12D8-4FA2-8ADD-02FD3698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AD65-79A0-4920-A4CF-108E67B9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7D24-7F37-49C8-BDA4-4C4747E9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0DB-78C7-410C-9634-F1C70341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D36E-E318-4D38-AB7F-68950E07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2876-B7DE-4940-B333-EDDDDA4D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37BC-DA5B-49EB-A778-9C7C5098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E8F4-97E6-4EC3-A955-4B1B3B55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685F-47A7-4C3C-9481-7921ED88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59A1F-8AFF-444A-8111-41681AF7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2435B-BA8F-4AF1-9814-CF5F5531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C2DE9-A3D6-4BF7-9246-86DE8A47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F198-DC33-472E-88DE-D523C6E8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3D095-7BA0-41C7-A543-87B48032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31A-4859-4018-B10B-92ED45A9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2D01A-879A-44CC-A924-A87C14C6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F7781-BBB6-4039-9AEE-796E0945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E15F1-F1F4-4C4C-9C29-01F3027B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3BB7B-02C8-47A5-9977-E3657F0D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D7779-9316-4B42-B7D0-9CE1D890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BCD8E-1342-4E6C-92F7-95DE509D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A084B-8A3B-4976-BCDC-CA1B16F6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71711-B0F6-4F52-9A02-C51A9C78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265F8-8C18-4FDC-9ACD-DD1016BB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0993-CE7B-4326-B715-AE9CAA5A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0FD-7A52-4DDB-9BC3-3AC816E6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314C9-4ACF-4223-9052-587C00FC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B160B-1071-48D7-9190-53D7A8F3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030FC-02E8-48C3-8217-56AD73C2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16A63-E9EB-49A1-A9E0-2747B27E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6DF16-D154-4614-B85C-0E7423E4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8B71-136D-4B36-ADFA-48B30699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D697F-96A1-495B-A7DF-4DA112C5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AC26E-247E-467D-B725-FBBC22E4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9F129-48D6-4577-95B5-0B993CDD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F1583-E005-4F65-B01B-B0A579D5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B4D-6E0F-4FD1-A1FB-EB4E21EF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50967-2E19-4890-B0A4-4D906393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D1C63-0BF8-4107-A6CF-3A08E62B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0078A-CCDC-46AB-87EB-4C0FFC5F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6E227-75AB-4837-ACF9-35D121BE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9266C-6803-457C-A1A8-89798290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63189-21B6-455E-8CBE-FF09E6AD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8F469-67BC-4D9F-B179-32479697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83DF5-7160-4D9E-AAAA-517C1D9B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78744-155A-4C89-9A18-57439B02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D5FC7-7985-4D09-85D3-248E47F4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B11-580C-40C2-ACA6-C4CEBAAB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A2479-A942-4FD5-AD2A-C4D98C29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CA065-6094-4F3E-AF02-9295A943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1111E-EDF7-4D07-B3D7-50735672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98046-6C45-4744-89D4-B6A2FB39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BBAF7-0D9F-42C0-AA00-B08BA767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06454-43A9-4A5B-872A-EB40F826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0BD8E-E49B-4CF2-8F9A-ABE0C256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9F1D3-FF9A-4F78-BC3F-1465CA55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E1A57-5A69-4702-8B76-E2E58F25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2D108-7D31-4D71-B14B-2F4D38F9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2A7-992A-4BDA-B376-D5151417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7AFBA-4222-44F3-92CA-7FCD363E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B7193-9464-4648-8128-0C720184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7E238-C993-4D6A-BF71-676B1FA1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573EE-7C6B-48EE-A53B-8FC64023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153C3-489F-459C-B73F-B68432D8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BC10B-4CB6-431C-9DEA-ED5B6D14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3F0AC-65B0-4829-9E40-1477C32C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B7634-E369-4647-9FA0-2DE27C41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27F4E-9C80-4BAF-92F6-7F382C9F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BCF02-C39E-47C4-BAAA-939D488B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1FF-751D-4B7B-9C27-2B3DF877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B5F40-542B-4A46-A716-7A514AE0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3D21E-7E56-4354-AB5A-F3D39F7A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E3C14-A8FA-4BE1-B981-370B9B61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19669-28CA-4DA1-BE09-62A9E803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419D5-CDA8-4878-BF50-140E7556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284BB-4FBF-4B77-B452-527AFE2E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C60D7-0D0F-4820-8DBD-5E5F7AEA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9F7D5-CC2E-48C4-BACD-5F118ED9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40654-A922-4E95-B74B-360957F4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1C47B-A16A-4F0C-B56B-DE1485E6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FE3-0FAF-4219-A7CC-10CAC1BC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01B1D-07EF-48B2-A510-A2353038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2D0BC-EC72-4EAF-A05A-6C5DE617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70762-9FA6-4CF8-A67E-FAF4A79F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2DAF9-5C36-4F2A-9B50-F9E5D2EB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D7252-F7E8-4255-8E9B-6C282DC5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FB080-29CF-47AF-A4D0-B8170061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5C050-996F-4242-BD3A-0A37CBCB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87C5C-5842-4BE1-8B07-87E78CDD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F5425-047F-4C7C-B567-E2DF3D42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08471-1539-4421-A3E9-F6247E3A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F58F-7F45-43E8-A958-3BFBA443322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F2FC-1E9A-4D44-AE1E-71DF2D66053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C584-0F28-4A7F-A917-3386F7DEE38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0F2F-B6FA-4564-9138-46D9F62F705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1A19-FAA1-4B93-A803-22DF889C11D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7149-A7D1-4F24-A279-EE63B7EEF3C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C303-EDF9-4D96-AD4B-7617E17AE57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5B31-BDA9-4CAE-B87E-1263987B827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F5F4-68BD-4649-B116-1609FA1C115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5ED9-1959-4A40-A70B-87363859356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D87E-DD9C-4BD9-83A3-914B43F17E87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593E-986F-440D-BE93-B841A933711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RIDG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C:\Documents and Settings\carolyn.kinne\Local Settings\Temporary Internet Files\Content.IE5\60TCN93U\MCj04063640000[1].wmf"/>
          <p:cNvPicPr/>
          <p:nvPr/>
        </p:nvPicPr>
        <p:blipFill>
          <a:blip r:embed="rId1"/>
          <a:stretch/>
        </p:blipFill>
        <p:spPr>
          <a:xfrm>
            <a:off x="1676520" y="2801880"/>
            <a:ext cx="5715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lden Gate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6" name="Content Placeholder 3" descr="GoldenGateBridge.jpg"/>
          <p:cNvPicPr/>
          <p:nvPr/>
        </p:nvPicPr>
        <p:blipFill>
          <a:blip r:embed="rId1"/>
          <a:stretch/>
        </p:blipFill>
        <p:spPr>
          <a:xfrm>
            <a:off x="1828800" y="1905120"/>
            <a:ext cx="55627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 let’s get to building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: to build one bridge a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instru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nd learn the history and important facts about each brid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days will be to tear down the bridge in preparation for starting a new one the next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FU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a bridg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bridge is a way to get across someth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can span a canyon, waterway, or r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Documents and Settings\carolyn.kinne\Local Settings\Temporary Internet Files\Content.IE5\E2LUDJLQ\MCj02336580000[1].wmf"/>
          <p:cNvPicPr/>
          <p:nvPr/>
        </p:nvPicPr>
        <p:blipFill>
          <a:blip r:embed="rId1"/>
          <a:stretch/>
        </p:blipFill>
        <p:spPr>
          <a:xfrm>
            <a:off x="457200" y="2666880"/>
            <a:ext cx="2819520" cy="22971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Documents and Settings\carolyn.kinne\Local Settings\Temporary Internet Files\Content.IE5\60TCN93U\MCj00901330000[1].wmf"/>
          <p:cNvPicPr/>
          <p:nvPr/>
        </p:nvPicPr>
        <p:blipFill>
          <a:blip r:embed="rId2"/>
          <a:stretch/>
        </p:blipFill>
        <p:spPr>
          <a:xfrm>
            <a:off x="6553080" y="3352680"/>
            <a:ext cx="2167200" cy="2805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C:\Documents and Settings\carolyn.kinne\Local Settings\Temporary Internet Files\Content.IE5\XKKQW3N2\MCj02291570000[1].wmf"/>
          <p:cNvPicPr/>
          <p:nvPr/>
        </p:nvPicPr>
        <p:blipFill>
          <a:blip r:embed="rId3"/>
          <a:stretch/>
        </p:blipFill>
        <p:spPr>
          <a:xfrm>
            <a:off x="3733920" y="3048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does a bridge need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have a firm found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be stur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last a long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sapeake Bay Bridg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Content Placeholder 3" descr="Chesapeake_Bay_Bridge.jpg"/>
          <p:cNvPicPr/>
          <p:nvPr/>
        </p:nvPicPr>
        <p:blipFill>
          <a:blip r:embed="rId1"/>
          <a:stretch/>
        </p:blipFill>
        <p:spPr>
          <a:xfrm>
            <a:off x="2133720" y="1828800"/>
            <a:ext cx="4952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dney Harbo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Content Placeholder 3" descr="SydneyHarbourBridge.jpg"/>
          <p:cNvPicPr/>
          <p:nvPr/>
        </p:nvPicPr>
        <p:blipFill>
          <a:blip r:embed="rId1"/>
          <a:stretch/>
        </p:blipFill>
        <p:spPr>
          <a:xfrm>
            <a:off x="1752480" y="2362320"/>
            <a:ext cx="545004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ames Point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Dames_point_bridge.jpg"/>
          <p:cNvPicPr/>
          <p:nvPr/>
        </p:nvPicPr>
        <p:blipFill>
          <a:blip r:embed="rId1"/>
          <a:stretch/>
        </p:blipFill>
        <p:spPr>
          <a:xfrm>
            <a:off x="1905120" y="2057400"/>
            <a:ext cx="5349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we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3" descr="Tower_bridge_London_.jpg"/>
          <p:cNvPicPr/>
          <p:nvPr/>
        </p:nvPicPr>
        <p:blipFill>
          <a:blip r:embed="rId1"/>
          <a:stretch/>
        </p:blipFill>
        <p:spPr>
          <a:xfrm>
            <a:off x="1143000" y="2133720"/>
            <a:ext cx="684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th of Forth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3" descr="firth of forth bridge.jpg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toria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Content Placeholder 3" descr="Astoria-Megler_Bridge.jpg"/>
          <p:cNvPicPr/>
          <p:nvPr/>
        </p:nvPicPr>
        <p:blipFill>
          <a:blip r:embed="rId1"/>
          <a:stretch/>
        </p:blipFill>
        <p:spPr>
          <a:xfrm>
            <a:off x="2209680" y="2133720"/>
            <a:ext cx="4834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1:12:20Z</dcterms:created>
  <dc:creator>Ector County ISD Employee</dc:creator>
  <dc:description/>
  <dc:language>en-US</dc:language>
  <cp:lastModifiedBy>RomaK</cp:lastModifiedBy>
  <dcterms:modified xsi:type="dcterms:W3CDTF">2015-09-04T09:40:54Z</dcterms:modified>
  <cp:revision>13</cp:revision>
  <dc:subject/>
  <dc:title>BRIDGES</dc:title>
</cp:coreProperties>
</file>