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7EA7-C854-4F98-9CA7-0F4FD5DA96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lden Gate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et’s get to buil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: to build one bridge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nd learn the history and important facts about eac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days will be to tear down the bridge in preparation for starting a new one the next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U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rid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idge is a way to get across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span a canyon, waterway, or 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a bridge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have a firm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be stu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bridge must last a lo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sapeake Bay Bri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dney Harbo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mes Point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wer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th of Forth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tori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7E2-3638-4AB5-A292-610B97A5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0C7-75A4-4B6D-AD21-B6C1A366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A8207-1047-48AE-974C-1B112A3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C2EA2-AF52-48D2-A1E7-3234786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7E65C-000F-41D0-87E7-5D2B039F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12C47-D9DD-4043-AD07-2AC82FB4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5449F7-59B9-4F08-9606-B6625FDD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8101F-DD68-4E19-90B1-4F73A010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42ED0-348B-4E35-93AD-8FBF929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150F1-5920-40D9-905F-C3EBB4D8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71156-D873-4CFB-BDB4-F6772E3B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F06B2-7993-43D3-A5A6-1054B021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924-C185-4427-A0C7-C79A9701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65FFD-135E-4313-B538-3BD8A43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2B4B8-CB51-4772-8686-B782D835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5BFE3-54B0-4CC0-A47D-F7D5BF28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6EF93-BEF8-4D95-879B-A301759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E3D09-064B-4314-BD93-9A41EFB9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93D28-6A3D-4573-95FA-87680C1A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E41C9-85F8-43FF-BEDB-EA6A088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10D6D-7FD0-4561-ADCD-4B4383E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B5763-58F6-4B65-A200-6359E698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63E94-7012-44AB-962F-FB787A70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47B-1FB7-43A1-AC4A-4E405522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A2254-FC2F-4A62-ABF5-B6EBBEFB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5EA21-9F92-4987-8775-2146829A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9E65D-754A-482C-BED7-4E70585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1B09A-43FD-4A46-8151-7958E781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4E82C-B75A-4C60-BAC1-3A9DEE1E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4F4C-EEDE-4EDA-8762-1BA086F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7AD63-36B4-414F-8B44-1F9E000C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573B5-31E6-4C53-9284-3FCBAEE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416AF-2AEE-4B6B-9B34-519E41C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38246-7FD6-4B01-89C9-E2B4897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43FF-48C1-4D84-B4C7-8ADE6B2B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A7A8F-8BBE-41AE-A331-926768FF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48EDA-9785-4F13-8D5C-63B962B3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AE804-3508-409F-95C4-B61736E4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807D2-D753-4416-97B4-21863AA1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3CFED-09FE-49A9-B346-8F43939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493B3-1870-4146-9B00-8088967B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4CB55-8658-4C47-825A-9F338F5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48CDA8-D3DE-4074-9248-CD6E4CF4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73792-48EF-4D03-91BC-EFDB2739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69AD6-3C3F-4572-A81B-54EC126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536F-A85C-4EDA-B274-B749159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E2CC6-A629-4D18-9E78-DB1505A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42403-2BC3-4D24-B834-8993410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24426-D06E-4464-A0EB-9F67CD0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3C245-62DF-45BA-94DC-F8253E76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00C37-C7F5-4856-A72C-49B5F79D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6CF3-CE33-412E-8FAE-760B329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486-E709-4A65-8AF5-34C3B5CD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0944-0080-4FE4-B248-02CBEB7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12A-26F9-48B6-B923-1951F10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F413-7A4E-438B-AB71-F8014633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DE1-4C7D-4C07-801A-3151E616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0705-BF3B-4058-BE42-8101718F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5BAF-0E6B-4590-9D95-4AE1BB6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8D36-EEEE-4420-923E-6AB8689E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64D9-CB57-4B52-994C-B53FDB57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C87E-F6BD-4B1C-A200-3CF08D6A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41AF-3FA5-4344-9E3D-A2C54B1E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6965-7ED4-4BC9-80C6-FEDED8D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7D0A-EED8-4501-A392-FA09626F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5EB4C-C1DF-4F68-9122-D73C071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96ACD-EC5B-453B-ABF8-B6CCD64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F61-84F9-4C28-900D-569BB989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D92E-0275-452B-BD77-C26C4490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FA3B-A8C7-42D9-AA0A-48F172C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1E67-952A-4F75-A422-76682400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3AB8-155C-4A1A-A9F4-6B2BFC5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296C-36BA-431F-BE03-B333BBEA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9DC6-46E0-441C-8C3D-B078EA10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49A35-B4BA-4061-80E0-7E206193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A397-8756-454F-A710-EF2D2B3B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09C2-DF74-467E-B852-5344BCC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C1C8-AD94-42EB-BCA0-95C566C5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EAB-A259-4EEA-B6A4-A1EC7523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C501-E676-427D-9950-1D8CF33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5571-F9F8-4323-961B-6381B532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8557-86E1-4C13-B989-16D3791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709F-9727-49F3-B245-0E79B779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EA98-7122-4E85-82C0-0F92315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E915-A948-46F4-8929-0F8A20A6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206A-4992-4A2B-BCE3-4BD64893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D544-D636-4442-B426-4FEC9BB0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3206-86BB-4FCF-9E94-1C148001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8211-DFF0-4BAF-A73E-3CCBEA36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9D8-7491-48EE-BE1D-99802FA0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E0E6-3521-4CEA-A507-854FCF49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8E51B-8AB2-4AED-A028-9DB568F9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97EF-1784-4453-8623-038852B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36DE5-0924-45D7-87AC-7FDF01BF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18B9B-2021-41C9-9616-92AA7B1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F695-F949-4D67-B521-1E959E20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C363-A299-4D5C-9034-CA746152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0086-773D-4418-B509-B7B71512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C7514-93F3-4583-8647-043EB8AB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7145-7E9E-403B-B14E-9BD6A82C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F09-FB1A-45AB-8917-163E2B8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36E4-AF0B-4717-A96E-AA278970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10FC-7E20-41EC-BEA9-6239A0E3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A209-D787-48F6-8B52-A2043442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6C68-8EA8-498D-8A9E-3ED0D48B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0727-CCB0-42F6-AA11-1EA9D525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EFDF-6298-46E3-9F38-DB2F2054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9B6E-5CCD-4F95-8370-D629AB1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A838-B6A1-4F40-9C49-AB9D24E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038F9-C94C-4887-B096-455AFF1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E409-B552-4FF5-BB72-B2FC3BF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052-9013-4DF4-B832-B9D2425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2026F-C1FC-4686-A722-A0EE7ED0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761C2-611C-4159-8D4B-724D3C66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91C73-5D72-4E67-8D00-D4C24142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2E83-9C20-48BE-B087-92009ADA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3EC2B-9BB2-469E-8F19-4ACD9C35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37FDD-FC7D-43E6-8CBC-2B5823A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0167E-CBEC-4680-B785-E6D3A0C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C4571-31DB-4BA0-B474-4C16030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DF52-DED1-4D1B-BA0B-A5524974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BCC2-E4EF-4767-9DD0-CA80C6C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B70-8B5D-4D1F-897D-008E4879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8A660-1590-4B2C-8463-D43BC48A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CD8D-B68C-43E5-B8EB-C75D646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C2835-FC6E-4F87-AA16-16387B92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A8D4-C5A1-464F-9045-18745FC3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0ADBC-1E51-4FF3-9A8E-2A11C503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8020-4B27-454E-8164-60D64D43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078AB-E21B-4E83-B168-88230CA7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2074-6A6B-48B5-A0B2-A8DDE2EE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1570-86C3-4E51-A004-55070779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99B8-2EA0-4408-AD84-4028391B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CCB-E730-4126-B9C5-CF05A785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DCE6-1782-4A46-8557-3FC8BCB0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2DED5-774B-4294-976F-662AADDC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F626F-190A-4A53-AB48-EE2210E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5D14-11A7-4A19-8093-F5B74BC6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464ED-FEB2-4442-B1EF-A84A8D24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D850-21B8-4CCC-8950-7B002746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7BF36-F65B-4748-ADC0-42C7BE4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A1687-8771-4084-A54B-82782408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143FA-EC55-4959-82E4-2AF2985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B4CED-8368-4978-8057-4E8FF2BF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E3FC-9CE4-4C3E-891A-31DA7C94F1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B078-5A18-48E3-8B60-83EA0A4FB9A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89E8-D21E-4143-9747-1CA44899ED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4F4-4EB3-48CC-8118-0EE77562D1D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A6FC-8BA2-4BA3-88BA-20914680273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6970-CF73-4712-9A2A-DCACFC85F2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290C-F891-4F28-900C-126E87B9737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0ED2-EB37-4CFD-8087-B5671FE2B8B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1CB-0484-44AA-A32B-AA9003AE80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3033-C538-4828-B94B-417FE228CFD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3924-B46C-4F61-AB63-928E43276165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3A8-0917-4C71-B9FE-415E84A6D67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RIDG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3" descr="C:\Documents and Settings\carolyn.kinne\Local Settings\Temporary Internet Files\Content.IE5\60TCN93U\MCj04063640000[1].wmf"/>
          <p:cNvPicPr/>
          <p:nvPr/>
        </p:nvPicPr>
        <p:blipFill>
          <a:blip r:embed="rId1"/>
          <a:stretch/>
        </p:blipFill>
        <p:spPr>
          <a:xfrm>
            <a:off x="1676520" y="2801880"/>
            <a:ext cx="5715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lden Gate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GoldenGateBridge.jpg"/>
          <p:cNvPicPr/>
          <p:nvPr/>
        </p:nvPicPr>
        <p:blipFill>
          <a:blip r:embed="rId1"/>
          <a:stretch/>
        </p:blipFill>
        <p:spPr>
          <a:xfrm>
            <a:off x="1828800" y="1905120"/>
            <a:ext cx="55627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 let’s get to building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: to build one bridge a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llow instru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and learn the history and important facts about each bri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days will be to tear down the bridge in preparation for starting a new one the next wee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FUN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a bridg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bridge is a way to get across someth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can span a canyon, waterway, or roa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Documents and Settings\carolyn.kinne\Local Settings\Temporary Internet Files\Content.IE5\E2LUDJLQ\MCj02336580000[1].wmf"/>
          <p:cNvPicPr/>
          <p:nvPr/>
        </p:nvPicPr>
        <p:blipFill>
          <a:blip r:embed="rId1"/>
          <a:stretch/>
        </p:blipFill>
        <p:spPr>
          <a:xfrm>
            <a:off x="457200" y="2666880"/>
            <a:ext cx="2819520" cy="22971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Documents and Settings\carolyn.kinne\Local Settings\Temporary Internet Files\Content.IE5\60TCN93U\MCj00901330000[1].wmf"/>
          <p:cNvPicPr/>
          <p:nvPr/>
        </p:nvPicPr>
        <p:blipFill>
          <a:blip r:embed="rId2"/>
          <a:stretch/>
        </p:blipFill>
        <p:spPr>
          <a:xfrm>
            <a:off x="6553080" y="3352680"/>
            <a:ext cx="2167200" cy="28051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6" descr="C:\Documents and Settings\carolyn.kinne\Local Settings\Temporary Internet Files\Content.IE5\XKKQW3N2\MCj02291570000[1].wmf"/>
          <p:cNvPicPr/>
          <p:nvPr/>
        </p:nvPicPr>
        <p:blipFill>
          <a:blip r:embed="rId3"/>
          <a:stretch/>
        </p:blipFill>
        <p:spPr>
          <a:xfrm>
            <a:off x="3733920" y="3048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does a bridge need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have a firm found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be sturd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ood bridge must last a long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esapeake Bay Bridg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Content Placeholder 3" descr="Chesapeake_Bay_Bridge.jpg"/>
          <p:cNvPicPr/>
          <p:nvPr/>
        </p:nvPicPr>
        <p:blipFill>
          <a:blip r:embed="rId1"/>
          <a:stretch/>
        </p:blipFill>
        <p:spPr>
          <a:xfrm>
            <a:off x="2133720" y="1828800"/>
            <a:ext cx="4952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ydney Harbo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SydneyHarbourBridge.jpg"/>
          <p:cNvPicPr/>
          <p:nvPr/>
        </p:nvPicPr>
        <p:blipFill>
          <a:blip r:embed="rId1"/>
          <a:stretch/>
        </p:blipFill>
        <p:spPr>
          <a:xfrm>
            <a:off x="1752480" y="2362320"/>
            <a:ext cx="545004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ames Point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Content Placeholder 3" descr="Dames_point_bridge.jpg"/>
          <p:cNvPicPr/>
          <p:nvPr/>
        </p:nvPicPr>
        <p:blipFill>
          <a:blip r:embed="rId1"/>
          <a:stretch/>
        </p:blipFill>
        <p:spPr>
          <a:xfrm>
            <a:off x="1905120" y="2057400"/>
            <a:ext cx="53496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ower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Tower_bridge_London_.jpg"/>
          <p:cNvPicPr/>
          <p:nvPr/>
        </p:nvPicPr>
        <p:blipFill>
          <a:blip r:embed="rId1"/>
          <a:stretch/>
        </p:blipFill>
        <p:spPr>
          <a:xfrm>
            <a:off x="1143000" y="2133720"/>
            <a:ext cx="68436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irth of Forth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3" descr="firth of forth bridge.jpg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toria Brid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4" name="Content Placeholder 3" descr="Astoria-Megler_Bridge.jpg"/>
          <p:cNvPicPr/>
          <p:nvPr/>
        </p:nvPicPr>
        <p:blipFill>
          <a:blip r:embed="rId1"/>
          <a:stretch/>
        </p:blipFill>
        <p:spPr>
          <a:xfrm>
            <a:off x="2209680" y="2133720"/>
            <a:ext cx="48340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21:12:20Z</dcterms:created>
  <dc:creator>Ector County ISD Employee</dc:creator>
  <dc:description/>
  <dc:language>en-US</dc:language>
  <cp:lastModifiedBy>RomaK</cp:lastModifiedBy>
  <dcterms:modified xsi:type="dcterms:W3CDTF">2015-09-04T09:40:54Z</dcterms:modified>
  <cp:revision>13</cp:revision>
  <dc:subject/>
  <dc:title>BRIDGES</dc:title>
</cp:coreProperties>
</file>