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4FAB-B578-4F3B-BA65-2C820ACDE5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D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lden Gate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lden Gate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et’s get to build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: to build one bridge a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i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nd learn the history and important facts about each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days will be to tear down the bridge in preparation for starting a new one th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FU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et’s get to buil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: to build one bridge a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nd learn the history and important facts about each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days will be to tear down the bridge in preparation for starting a new one the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FU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rid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idge is a way to get across 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span a canyon, waterway, or ro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rid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idge is a way to get across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span a canyon, waterway, or 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a bridge ne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have a firm foun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be stur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last a long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a bridge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have a firm 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be stu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last a lo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sapeake Bay Brid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sapeake Bay Bri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dney Harbor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dney Harbor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mes Point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mes Point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wer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wer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rth of Forth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rth of Forth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tori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tori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A03-66B9-4060-BDDA-C0DADDFB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85A4-29C3-495B-91BF-05D0449F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9AD2E4-FB9A-40DF-B909-1BB4B61B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4A492B-038A-4DA2-8F80-13593F40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10D73D-C114-4EB5-BB19-0AB918D5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2FBE56-B37B-45E9-8E7F-26BB2873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A89AE0-763C-4878-B1AB-AAB03006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45E585-1FAB-4168-B084-047320A5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B1E980-1309-4DA3-8A3A-88CBD3C8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A50DB8-3175-45F3-A445-0BC1E3023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69287A-35C3-4AC1-8F6F-59997DED4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B92C86-CCCB-49F9-9F49-10203DA0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A00-95E1-4671-959D-CB4BA558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23B5B4-5C69-4428-B1F4-C3AB34F3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F18032-75E6-4570-B9FF-A7A1E19E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222D06-4702-450F-AD3A-27DF20F3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E3547-CD65-47D5-BA11-249FF1DA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3BBAE9-B148-4656-8F62-AACF2485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8B08B3-2954-4F9B-93FB-CC1103E0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79DA4E-88E3-4C37-B703-C0FFF9DC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F8F21F-B8FC-4608-B8AB-C4CE2445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A22514-85CA-4F3A-985C-6F2E2A27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779795-6984-43C7-BE4F-85DCD321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08E1-C945-4620-878F-E6351BC0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84375F-1B1D-4885-A654-0FC6B686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B6233-ED02-41CA-A029-AA9F816A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A9A58-3FC8-43AA-8347-BD740F7E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26619-6893-4913-8269-6E51FFB2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77280-B5A8-42AB-936E-D32D58C0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6ED94-E280-4822-B862-2FA816E0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19169-5B8D-4A09-8592-4EB15FB3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51112-9A10-4AB2-B67A-78C8F8AB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CE19F-924F-49A5-A65E-BF7312DE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0000A-7B67-4BFE-86C7-7A10708F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8A6C-A494-494C-980C-920052E7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F0BED-0C0A-492B-B4E2-1707CCA8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CC44D-90E0-4A16-9ED9-39BC51D2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57BA1-9D99-477D-ADAF-BB681F86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7B890-36F9-40B9-9D6F-763B72DB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6D8199-3E96-494B-BA2E-2168022F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ECA027-374F-45B6-90D0-8684D654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1E3750-50EF-4921-ADEF-0CF39FDF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36A26C-7402-4457-BE9B-B1524285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385BE3-41FA-4418-A399-6E685C34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3FC26A-90CC-465E-8200-1C4F396C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5C06-DFB7-4FC6-98FB-723D5DB4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DD9BDF-9616-4DBC-ACD6-DAD21CE3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758E55-06AC-4172-B2CF-22792D82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90A976-0972-48BE-8498-18C81E10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0E9658-FFB5-4394-BA19-42C7854BD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7FA249-70FE-415E-8192-71D3F0CD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4C76-C677-477E-A259-DFACF62C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49FA-9161-4A9F-A659-836F06AF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C596-BB2A-45BA-B2EC-C1FF8683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D0C1-D003-4645-BECA-6F70740A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3D19-D770-4B00-9F65-EB685615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F053-361F-4F2E-AC2B-DF5A46B2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45AD-8B23-44D1-A390-453DEB1D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A02D-E5A4-4E4A-BD74-060539EC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2098-F0C2-461A-BFE2-E6AD9FBB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4587-7F71-4AEF-A5E6-8CB4A5FE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2A74-E08C-4AC0-AFCD-B7F2EEA6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349D2-4B2A-4EB7-89F3-27E19F73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63860-6D8C-4399-8B21-48080E48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4BCC0-756B-40DC-86D0-28EBE4C8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069C4-849A-447C-95ED-0B4C13AE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5E691-A846-4222-A0D3-494D11F4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08E0-E309-46C2-9F27-DFBFDC1A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E03CF-5C88-41E0-BF16-3554DF59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0651F-7621-4BEA-9DF6-3BB4BFBB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2A2CC-31A3-4CCE-BFF5-F2680EF6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B0DDA-44A2-4836-A8BB-26E636DE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DADB8-73E3-4183-9E01-295F0B3C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CF256-9297-42CF-9A45-A837B51F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FA4CF-1C39-4273-B984-9DEBD9F0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B1382-0B0A-45A1-B54B-C0160AAE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C35C2-FF06-4C44-BDCD-9EF33676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665A1-2107-4DBB-97DB-F2F6EB3A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2136-6661-4869-BDFB-2F8CF64C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AF5A3-26F2-443B-B2C6-86B65727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725FB-1BAA-40E9-886F-7A2E5364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CCB2A-9488-4E7B-A217-360807B5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53F06-B5BB-48A2-AF2F-9CDF8EA9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C2501-14BD-42E3-9474-9C90C081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3179B-8C4A-45C0-8785-4853C09C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E3FE5-BEB2-4DB7-9992-0D5BF2FC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5AA57-F981-41B1-B416-122DB47C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1C247-49E9-40DF-A758-BA97F383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44A95-456B-475E-98DC-1128EA95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5FD9-A8E5-4D8F-814C-3075FDB2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CAA18-F89E-49AA-996A-002E700E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C1AC4-8058-4EED-9776-987D9A37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D49DC-7025-401F-B124-F512F23C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B323E-76DC-40CB-9683-B808DABA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EB2A5-1105-4240-8A32-AC59C62C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3A396-A72B-4A04-91F5-B08D8193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70B73-1137-43DE-BE5E-4D22800C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62F20-C835-4096-92A3-EAF8FBA4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9638B-F3B1-46FA-A88A-4A6453B4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E57E9-92F8-49A0-AEFD-310FAD4A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6F50-1BD1-4B54-89DC-A486E3AC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729EB-A3D8-429E-9C11-A8F7B8418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81E2E-A6D3-4C06-BDDF-067C6A90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23BD5-89E3-44D4-92C7-136D8827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D8A54-5D56-4641-A433-5FD8B6A6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B3417-4D3B-4E38-9331-56A76E11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A63BA-D9BB-4BA4-94E7-FEC1F0A1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3383C-4A47-465C-907D-D1F64057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0B0EF-82CD-47C0-870B-0F0B8322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4FEE6-9D1F-4349-B78F-6A8CD82B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D99D5-192B-4D4F-8B61-010FC617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134E-7334-4802-8FE5-687F694F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8E341-12E5-4061-81CD-242952DE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3F36B-05CE-4280-B05C-BD1E872F5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823D0-47B8-43D2-BB9B-1AF371BF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13CB1-A4BF-4250-A574-F5ACDF3B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1E800-7DD6-46F8-AD35-9919AE11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60304-F99E-499E-B980-7852A4EE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9C36B-D2E7-498A-ACDD-70EF5979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C7587-9F84-4CA7-852C-2703006F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17EFD-09F2-4570-BBAA-259AEAE9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372B3-F210-4DEC-A6C7-FB81A04B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2174-46A4-4A50-9F88-3810431B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CC096-DDE0-4334-94A7-038143FB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F55FA-4F46-4E2D-A544-59DD45AA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8687D-9BA0-4569-8317-73B32F68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F9FB4-BFDC-489A-8D3A-EF936DD4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1B5B0-6C32-47E0-8BC9-8EFE3C8A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3DE9A-005F-4D28-B657-ACEEA739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8FA01-F297-44F8-9270-9846C6FF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521BC-E8EB-4068-97AF-F7CA3ED8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EDB70-44E8-4296-BD45-0F05DFDD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A6444-ABF0-48B2-BDCD-09DF9A2A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A946-7E40-415A-8E48-13EA0C6B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D77F6-185F-4088-8C3D-D6171F77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EFEC0-EF69-4969-8323-E2FB31FC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0A04A-1182-4C78-8E7C-9FE8CD08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51C34-1FB9-4810-B766-EB66B01E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9B45C-3A56-433C-B94C-B4B5DFFC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15AAE-A87C-452A-AF65-88CDBD1E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411FA-4CF4-4ECC-922B-3AC4CBD8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A3AFDC-976C-47E1-9604-78B81D47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C69904-BF62-4576-B49B-89D692BE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A3B918-6CDA-475C-9D11-49F74F22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329E-6CBC-408E-97EA-FE7B88A353E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CE24-35E9-4DA8-81A9-75CE8C34171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D741-853D-44B5-9F6C-E1FF5E41182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50D8-62F7-43A4-847D-D6DF4A2AE96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D2D2-69DF-45ED-ACD0-EA4DC8B8128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E6A4-034A-486D-8C58-9AEBF9D5F30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AE56-2AB5-491E-A5FF-CBC6E907942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F8E2-FD55-4447-B4BB-DCF64823213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EEA6-592D-40DB-ABA1-C8C4F06DC0B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2CB0-171E-44AB-836C-78995FB6DDA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5C5D-33F7-41EB-AECC-E468FB54A352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10E6-293E-4076-929B-7F209BD9944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BRIDGE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3" descr="C:\Documents and Settings\carolyn.kinne\Local Settings\Temporary Internet Files\Content.IE5\60TCN93U\MCj04063640000[1].wmf"/>
          <p:cNvPicPr/>
          <p:nvPr/>
        </p:nvPicPr>
        <p:blipFill>
          <a:blip r:embed="rId1"/>
          <a:stretch/>
        </p:blipFill>
        <p:spPr>
          <a:xfrm>
            <a:off x="1676520" y="2801880"/>
            <a:ext cx="57150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olden Gate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6" name="Content Placeholder 3" descr="GoldenGateBridge.jpg"/>
          <p:cNvPicPr/>
          <p:nvPr/>
        </p:nvPicPr>
        <p:blipFill>
          <a:blip r:embed="rId1"/>
          <a:stretch/>
        </p:blipFill>
        <p:spPr>
          <a:xfrm>
            <a:off x="1828800" y="1905120"/>
            <a:ext cx="556272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o let’s get to building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al: to build one bridge a we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llow instruc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d and learn the history and important facts about each bridg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idays will be to tear down the bridge in preparation for starting a new one the next we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ve FUN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is a bridg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bridge is a way to get across someth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 can span a canyon, waterway, or roa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Picture 2" descr="C:\Documents and Settings\carolyn.kinne\Local Settings\Temporary Internet Files\Content.IE5\E2LUDJLQ\MCj02336580000[1].wmf"/>
          <p:cNvPicPr/>
          <p:nvPr/>
        </p:nvPicPr>
        <p:blipFill>
          <a:blip r:embed="rId1"/>
          <a:stretch/>
        </p:blipFill>
        <p:spPr>
          <a:xfrm>
            <a:off x="457200" y="2666880"/>
            <a:ext cx="2819520" cy="22971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C:\Documents and Settings\carolyn.kinne\Local Settings\Temporary Internet Files\Content.IE5\60TCN93U\MCj00901330000[1].wmf"/>
          <p:cNvPicPr/>
          <p:nvPr/>
        </p:nvPicPr>
        <p:blipFill>
          <a:blip r:embed="rId2"/>
          <a:stretch/>
        </p:blipFill>
        <p:spPr>
          <a:xfrm>
            <a:off x="6553080" y="3352680"/>
            <a:ext cx="2167200" cy="28051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6" descr="C:\Documents and Settings\carolyn.kinne\Local Settings\Temporary Internet Files\Content.IE5\XKKQW3N2\MCj02291570000[1].wmf"/>
          <p:cNvPicPr/>
          <p:nvPr/>
        </p:nvPicPr>
        <p:blipFill>
          <a:blip r:embed="rId3"/>
          <a:stretch/>
        </p:blipFill>
        <p:spPr>
          <a:xfrm>
            <a:off x="3733920" y="3048120"/>
            <a:ext cx="2286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does a bridge need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have a firm found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be sturd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last a long ti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esapeake Bay Bridge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Content Placeholder 3" descr="Chesapeake_Bay_Bridge.jpg"/>
          <p:cNvPicPr/>
          <p:nvPr/>
        </p:nvPicPr>
        <p:blipFill>
          <a:blip r:embed="rId1"/>
          <a:stretch/>
        </p:blipFill>
        <p:spPr>
          <a:xfrm>
            <a:off x="2133720" y="1828800"/>
            <a:ext cx="495288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ydney Harbor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6" name="Content Placeholder 3" descr="SydneyHarbourBridge.jpg"/>
          <p:cNvPicPr/>
          <p:nvPr/>
        </p:nvPicPr>
        <p:blipFill>
          <a:blip r:embed="rId1"/>
          <a:stretch/>
        </p:blipFill>
        <p:spPr>
          <a:xfrm>
            <a:off x="1752480" y="2362320"/>
            <a:ext cx="545004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ames Point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Content Placeholder 3" descr="Dames_point_bridge.jpg"/>
          <p:cNvPicPr/>
          <p:nvPr/>
        </p:nvPicPr>
        <p:blipFill>
          <a:blip r:embed="rId1"/>
          <a:stretch/>
        </p:blipFill>
        <p:spPr>
          <a:xfrm>
            <a:off x="1905120" y="2057400"/>
            <a:ext cx="53496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ower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0" name="Content Placeholder 3" descr="Tower_bridge_London_.jpg"/>
          <p:cNvPicPr/>
          <p:nvPr/>
        </p:nvPicPr>
        <p:blipFill>
          <a:blip r:embed="rId1"/>
          <a:stretch/>
        </p:blipFill>
        <p:spPr>
          <a:xfrm>
            <a:off x="1143000" y="2133720"/>
            <a:ext cx="68436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irth of Forth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Content Placeholder 3" descr="firth of forth bridge.jpg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storia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4" name="Content Placeholder 3" descr="Astoria-Megler_Bridge.jpg"/>
          <p:cNvPicPr/>
          <p:nvPr/>
        </p:nvPicPr>
        <p:blipFill>
          <a:blip r:embed="rId1"/>
          <a:stretch/>
        </p:blipFill>
        <p:spPr>
          <a:xfrm>
            <a:off x="2209680" y="2133720"/>
            <a:ext cx="48340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21:12:20Z</dcterms:created>
  <dc:creator>Ector County ISD Employee</dc:creator>
  <dc:description/>
  <dc:language>en-US</dc:language>
  <cp:lastModifiedBy>RomaK</cp:lastModifiedBy>
  <dcterms:modified xsi:type="dcterms:W3CDTF">2015-09-04T09:40:54Z</dcterms:modified>
  <cp:revision>13</cp:revision>
  <dc:subject/>
  <dc:title>BRIDGES</dc:title>
</cp:coreProperties>
</file>