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9E56-07B0-4E50-99B7-D8C8DB6A71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FCA-01DB-4602-A70D-19DDBB43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D61-0117-4112-87F9-FCB9471A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0F9-DCEA-41BA-9F3A-3031AD3E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5E6-0328-4D28-9BB0-45957E03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12E-2F7C-4A36-8040-5122AA96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92B-9940-4C21-A366-471EE71E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B9C-2646-4D6D-9910-2148E3EC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AEE-6146-4AD1-9509-021E02BE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95C-57EC-49FE-973A-AA537F98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4E0-D1E6-495A-836A-E3C1312B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F5E-AECC-418F-9F6B-D28CD75C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4BB-8075-46F4-82B1-A19D8512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682E-AE21-44A5-B64D-DBCBBB4703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Town%20Centre%20Square%20-%20Low%20R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133720"/>
            <a:ext cx="5076720" cy="38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arket_1_large"/>
          <p:cNvPicPr/>
          <p:nvPr/>
        </p:nvPicPr>
        <p:blipFill>
          <a:blip r:embed="rId2"/>
          <a:stretch/>
        </p:blipFill>
        <p:spPr>
          <a:xfrm>
            <a:off x="5113440" y="1484280"/>
            <a:ext cx="4030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8569080" cy="1297080"/>
          </a:xfrm>
          <a:prstGeom prst="rect">
            <a:avLst/>
          </a:prstGeom>
          <a:solidFill>
            <a:srgbClr val="0080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RRY HILL Vs DUDLY HIGH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91628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617920" y="1773360"/>
            <a:ext cx="38145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709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) Comparison good shops benefit from being close to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) Town centres traditionally the most accessible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) Fairly small scale busines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2860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2217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hy out of town shopping centres grew and their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1292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tail park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gional Shopping cen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28:45Z</dcterms:created>
  <dc:creator>Ben Bates</dc:creator>
  <dc:description/>
  <dc:language>en-US</dc:language>
  <cp:lastModifiedBy>RomaK</cp:lastModifiedBy>
  <dcterms:modified xsi:type="dcterms:W3CDTF">2015-09-04T09:40:59Z</dcterms:modified>
  <cp:revision>6</cp:revision>
  <dc:subject/>
  <dc:title>Changes in the CBD</dc:title>
</cp:coreProperties>
</file>