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8CC4-7255-474F-A21C-34C0690292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ges in the C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in the C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RY HILL Vs DUDLY HIGH STR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RY HILL Vs DUDLY HIGH STR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out of t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ment (4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illion sho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er to shop – shops are clos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elchair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treet was in decline any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out of t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ment (4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illion sho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er to shop – shops are clos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elchair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treet was in decline any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ter from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entertai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ter from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entertai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 of out of 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all of Dudley High Street trade (loss of 70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ps close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businesses can’t move and so dec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have cars and therefore find it difficult to get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 of out of 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all of Dudley High Street trade (loss of 70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ps close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businesses can’t move and so dec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have cars and therefore find it difficult to get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hops left in the high street sell cheap and poor quality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hops left in the high street sell cheap and poor quality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ild in town shopping centres. Eg Queensgate Centre, Peterbo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destrianised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CTV for safe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relaxing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roducing new specialist shops and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rmers markets, caf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in town shopping centres. Eg Queensgate Centre, Peterbo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destrianised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TV for safe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relaxing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new specialist shops and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markets, caf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’s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BD’s used to be like and why shops located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’s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BD’s used to be like and why shops located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ve shops traditionally located in town cent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ve shops traditionally located in town cent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y had most people living and working there so more potential shoppers – threshold popul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omparison good shops benefit from being close to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Town centres traditionally the most accessibl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Fairly small scale busines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y had most people living and working there so more potential shoppers – threshold popul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omparison good shops benefit from being close to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Town centres traditionally the most accessibl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Fairly small scale busines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age 58 from Waugh and note some of the problems faced by traditional town CBD’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age 58 from Waugh and note some of the problems faced by traditional town CBD’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pace for building and car p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transport opportun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tion in the suburb, so it makes sense for shops to be ther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ed by planners and had financial b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pace for building and car p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transport opportun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tion in the suburb, so it makes sense for shops to be ther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ed by planners and had financial b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park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al Shopping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park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al Shopping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C2F4-7754-4F8D-A4EA-99FED000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3B9A-055A-4835-9873-0C675E04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CD5E-AC04-48F8-BF68-E011CEDD3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ECC8-402E-41C9-8F00-C75202F65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5E1C-BD41-4DD4-AB7D-0F4E45E4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B2BA-6364-40CE-9C49-74B38628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75FE-3E4C-413B-B724-BC1F0B0C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3A58-20C8-4608-BBCD-EEB0AB46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438A-C2B3-426D-A2CC-49442F5A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69F5-45D3-44EB-BC8A-951F4FCE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5339-D80E-4B47-B221-D8874A4A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47BB-2565-4F91-A091-C88F0414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0C99-8F17-4F8C-9821-C168316235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Town%20Centre%20Square%20-%20Low%20Re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solidFill>
            <a:srgbClr val="bbe0e3">
              <a:alpha val="7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hanges in the CB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20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0" y="2133720"/>
            <a:ext cx="5076720" cy="387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Market_1_large"/>
          <p:cNvPicPr/>
          <p:nvPr/>
        </p:nvPicPr>
        <p:blipFill>
          <a:blip r:embed="rId2"/>
          <a:stretch/>
        </p:blipFill>
        <p:spPr>
          <a:xfrm>
            <a:off x="5113440" y="1484280"/>
            <a:ext cx="40305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3640" y="2852280"/>
            <a:ext cx="8569080" cy="1297080"/>
          </a:xfrm>
          <a:prstGeom prst="rect">
            <a:avLst/>
          </a:prstGeom>
          <a:solidFill>
            <a:srgbClr val="008000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ERRY HILL Vs DUDLY HIGH STR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nefits of out of tow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ment (4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5 million shop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ier to shop – shops are close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elchair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street was in decline any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lter from w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entertai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advantages of out of t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n all of Dudley High Street trade (loss of 70%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ps close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maller businesses can’t move and so dec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 all have cars and therefore find it difficult to ge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 shops left in the high street sell cheap and poor quality go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8440" cy="191628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2617920" y="1773360"/>
            <a:ext cx="38145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 in town shopping centres. Eg Queensgate Centre, Peterbo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destrianised 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CTV for safer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relaxing atmosp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ing new specialist shops and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rmers markets, cafe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oday’s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at CBD’s used to be like and why shops located t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4256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hy have shops traditionally located in town cent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637092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1)They had most people living and working there so more potential shoppers – threshold populatio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) Comparison good shops benefit from being close to each 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3) Town centres traditionally the most accessible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4) Fairly small scale business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28608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ad page 58 from Waugh and note some of the problems faced by traditional town CBD’s.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002440" cy="22176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Why out of town shopping centres grew and their problem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908000" y="2924280"/>
            <a:ext cx="512928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ap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space for building and car pa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ter transport opportun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population in the suburb, so it makes sense for shops to be ther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ked by planners and had financial b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etail park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egional Shopping cent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9:28:45Z</dcterms:created>
  <dc:creator>Ben Bates</dc:creator>
  <dc:description/>
  <dc:language>en-US</dc:language>
  <cp:lastModifiedBy>RomaK</cp:lastModifiedBy>
  <dcterms:modified xsi:type="dcterms:W3CDTF">2015-09-04T09:40:59Z</dcterms:modified>
  <cp:revision>6</cp:revision>
  <dc:subject/>
  <dc:title>Changes in the CBD</dc:title>
</cp:coreProperties>
</file>