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25E6-F793-4CC6-9190-AC2AA7FAC5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 made up of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atoms dictate their properties. How atoms combine dictate what we see in the many minerals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echnologies allow us to peer ever closer at the minute structures of minerals, down to the scale of individual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is read from top to bottom, left to right, as atomic number increases: 1=H, 2=He, 3=Li, 4=Be, 5=B, 6=C, and so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in columns (groups) have simi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-electron configur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tend to behave simil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ea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will form the same kinds of ions all the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ll the alkalis form +1 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halogens form -1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 and Reduc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nsition metal cation with a higher charge is more  oxidized  t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lower charge. That comes from the fact that material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portions of Fe+3/Fe+2 form in environ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oxygen is abund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posite is also true, and we call Fe+2  reduced  i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 are more electronically compl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form ions of various char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ron (Fe) is found as +2 and +3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eriodic Table: the Bulk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mall number of elements make up &gt;99% of the solid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 =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 = 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 = 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 = alumin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 = 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 = sulf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 = 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 =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 = nick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: the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t is a little more elementally interesting (again, as a result of differentiation), but it is still mainly made of a small number of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phospho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tas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 = tit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 = mangan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: It’s all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electrons weigh virtually nothing, the mass of an atom is concentrated in its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om can be described by its atomic weight (or mas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um of the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hi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weight = 3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...  although each element has a defined number of prot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is not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atomic number but variable numbers of neutrons are called 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 (Sn, atomic # 50) has ten natural isotopes with atomic masses of 112, 114, 115, 116, 117, 118, 119, 120, 122 and 124. How many protons and neutrons do these isotopes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or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s a nuclear phenomenon: it comes as a result of a particular structure in a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dioactive atom is considered  unstable. All unstable atoms emit radioactivity (usually by ejecting nuclear particles) in order to reach a stable configur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process of radioactive dec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which we will talk on 6/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not all atoms will be radioactive, just a small proportion of isotopes with unstable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isotopes are  stable, or non-radio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le and Radioactive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(atomic # 6) has three natural isoto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tomic weights of 12, 13 and 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==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 is a radioactive isotope; C-12 and C-13 are 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time the proportion of C-12/C-14 and C-13/C-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increase until there is no C-1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unless some process makes new C-14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ff That Makes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one can subdivide atoms into numer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tomic particles, we will be concerned only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, neutr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are together in the nucleus of an atom, whereas electrons are in motion in or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the central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carry a positive electrical charge, electrons carry a negative charge, and neutrons carry no char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work to keep nuclei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ity Inside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rned about radioactivity in n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eep things in perspective, consider that 0.01% of all potassium is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s an essential element in the human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r body is about 1% K, this means a 70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50 pound) person contains a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x1021 atoms (that’s one billion trillio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adioactive K-4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ical consequence of  chemical reactions  is the formation of chemical bonds between atoms and complex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kind of bonds form is based on the electronic configuration of the atoms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near-full (halogens) and near-empty (alkalis/alkali earths) outer electron shells, as well as transition metals, may form  ionic 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 bonds are where atoms share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of minerals are dominantly ionically bonded. However, many minerals have bonds with some coval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me ionic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satisfy themselves by the give and take of outer 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inerals are held together by primarily ionic b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: Electron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rbon atoms are held together by sharing outer-shell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have metallic bo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re a form of covalent b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otable weak kind of bond is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der Waals force, essentially an ionic bo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talk about minerals we will see that these bonds are responsible for the k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properties of some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: Achieving 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take place in order to achieve a more stable state (lower total energy) under given conditions (pressure, temperatur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table reactants react to form stable produc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on’t get confused: we’re not talking about nuclear instability he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icate this, the transition from unstable mineral to stable mineral is not necessarily automati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hemical reactions requ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deal of 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to comple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ine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 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chemical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crystal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ent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ophisticated furnaces and presses, we have investigated what chemical compounds (minerals) are stable at given pressures and temper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w achieving pressures of the Earth’s co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y are we not adrift in a sea of mu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and Metast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that persist in an environment in which they are not chemically stable are said to be  metast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images in this presentation fro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 Rakovan, Miami Univ., Oh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shak, Earth: Portrait of a Planet (1st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mmer, McGeary and Carlson, Physical Geology (8th ed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B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element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ing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toms are electrically neutral, meaning that they have an equal number of 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hematic model of a lithium (Li) atom in the ground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3 protons in the nucleu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electrons in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 will get to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neutr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and Nuclea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atoms reflect some combination of features related to electrons or to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ic properties are those related to how atoms connect to one another:  bo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properties include features like 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neutrons tends to closely follow the number of protons. Atoms with more of each are bigger and heav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ranium atom, with 92 protons and ~146 neutrons is gigantic compared to dinky helium (2 + 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cosms of our solar system, atoms are dominantly empty spa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xygen atom had a total radius of 100 km, the nucleus would be a ~1 m diameter sphere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ious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implistic model, electrons float around the nucleus in orbits that are sometimes called sh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number of electrons increases, they start to fill orbits farther out from the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electrons are lost or gained only from the outermost orbi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in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d Atoms: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o their own devices, atoms are electrically neut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that they have an equal numb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course of most natural ev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re not gained or lost, but electrons may b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more or fewer electrons than proton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ly charged. They are called  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loses electrons takes on a positive charge (cation);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that gains electrons takes on a negative charge (an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cations and anions can also occur: (NH4)+1, (SO4)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istinguish one element from another on the basis of the atomic number, which is the number of prot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basis for Dmitri Mendeleev’s organiz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is a way of organizing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hysical ground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also serves to group elements with consistent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56C-0EF8-4221-A43A-43A9D5C2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E3E-A2A0-4BC5-88A0-8AD96EA5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F2E4-496F-4C5D-8BE2-B9040E76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361-E651-4474-BE66-ECA54229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DF5-C056-467E-BBB3-09746DE1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F26-36CD-449A-A138-6C6E15D7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9CE-9773-4190-9D72-796E648D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E2E-B931-44C7-8C6C-26E9C96E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B58-D287-4D58-A583-4D9626CA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53F-3423-447A-80F2-C57E5650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94E-025E-40D9-8A83-2CEB758C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B44-5ACD-4AB1-AE4C-A4515DDC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D4B0-10DE-4B24-A46A-A42633CFD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rakovan1"/>
          <p:cNvPicPr/>
          <p:nvPr/>
        </p:nvPicPr>
        <p:blipFill>
          <a:blip r:embed="rId1"/>
          <a:stretch/>
        </p:blipFill>
        <p:spPr>
          <a:xfrm>
            <a:off x="0" y="211284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3657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343400" y="76320"/>
            <a:ext cx="4724280" cy="22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is made up of at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of atoms dictate their properties. How atoms combine dictate what we see in the man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a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29200" y="55911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chnologies allow us to peer ever closer at the minute structures of minerals, down to the scale of individual ato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320" y="914400"/>
            <a:ext cx="8915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ic table is read from top to bottom, left to right, as atomic number increases: 1=H, 2=He, 3=Li, 4=Be, 5=B, 6=C, and so 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75"/>
          <p:cNvSpPr/>
          <p:nvPr/>
        </p:nvSpPr>
        <p:spPr>
          <a:xfrm>
            <a:off x="3962520" y="31680"/>
            <a:ext cx="472428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roups) have simi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-electron configur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tend to behave simila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076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40384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77"/>
          <p:cNvSpPr/>
          <p:nvPr/>
        </p:nvSpPr>
        <p:spPr>
          <a:xfrm rot="16297200">
            <a:off x="-181440" y="4982040"/>
            <a:ext cx="91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078"/>
          <p:cNvSpPr/>
          <p:nvPr/>
        </p:nvSpPr>
        <p:spPr>
          <a:xfrm>
            <a:off x="609480" y="990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079"/>
          <p:cNvSpPr/>
          <p:nvPr/>
        </p:nvSpPr>
        <p:spPr>
          <a:xfrm>
            <a:off x="0" y="563868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ear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080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081"/>
          <p:cNvSpPr/>
          <p:nvPr/>
        </p:nvSpPr>
        <p:spPr>
          <a:xfrm>
            <a:off x="7467480" y="601992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ble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82"/>
          <p:cNvSpPr/>
          <p:nvPr/>
        </p:nvSpPr>
        <p:spPr>
          <a:xfrm>
            <a:off x="2286000" y="22096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84"/>
          <p:cNvSpPr/>
          <p:nvPr/>
        </p:nvSpPr>
        <p:spPr>
          <a:xfrm flipV="1">
            <a:off x="990720" y="5867280"/>
            <a:ext cx="380880" cy="60984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085"/>
          <p:cNvSpPr/>
          <p:nvPr/>
        </p:nvSpPr>
        <p:spPr>
          <a:xfrm>
            <a:off x="990720" y="6477120"/>
            <a:ext cx="457200" cy="2286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86"/>
          <p:cNvSpPr/>
          <p:nvPr/>
        </p:nvSpPr>
        <p:spPr>
          <a:xfrm>
            <a:off x="1447920" y="6461280"/>
            <a:ext cx="1295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83"/>
          <p:cNvSpPr/>
          <p:nvPr/>
        </p:nvSpPr>
        <p:spPr>
          <a:xfrm flipV="1">
            <a:off x="762120" y="5105520"/>
            <a:ext cx="533160" cy="7617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87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88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089"/>
          <p:cNvSpPr/>
          <p:nvPr/>
        </p:nvSpPr>
        <p:spPr>
          <a:xfrm flipV="1">
            <a:off x="8991720" y="426708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66680" y="4800600"/>
            <a:ext cx="784872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will form the same kinds of ions all the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l the alkalis form +1 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alogens form -1 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152280"/>
            <a:ext cx="4038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ation S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 rot="16297200">
            <a:off x="-181440" y="5058000"/>
            <a:ext cx="9144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248520" y="4343400"/>
            <a:ext cx="1295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og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8077320" y="4191120"/>
            <a:ext cx="228600" cy="3808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7467480" y="4572000"/>
            <a:ext cx="60984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76320"/>
            <a:ext cx="624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xidized and Reduced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152280" y="4267080"/>
            <a:ext cx="891540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ransition metal cation with a higher charge is more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xidiz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lower charge. That comes from the fact that materials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oportions of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m in environme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oxygen is abunda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is also true, and we call F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34"/>
          <p:cNvSpPr/>
          <p:nvPr/>
        </p:nvSpPr>
        <p:spPr>
          <a:xfrm>
            <a:off x="2209680" y="1143000"/>
            <a:ext cx="2133720" cy="398880"/>
          </a:xfrm>
          <a:prstGeom prst="rect">
            <a:avLst/>
          </a:prstGeom>
          <a:solidFill>
            <a:srgbClr val="ff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me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033"/>
          <p:cNvSpPr/>
          <p:nvPr/>
        </p:nvSpPr>
        <p:spPr>
          <a:xfrm>
            <a:off x="1066680" y="3200400"/>
            <a:ext cx="7848720" cy="135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ition metals are more electronically compl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form ions of various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ron (Fe) is found as +2 and +3 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37"/>
          <p:cNvSpPr/>
          <p:nvPr/>
        </p:nvSpPr>
        <p:spPr>
          <a:xfrm>
            <a:off x="6868440" y="4602240"/>
            <a:ext cx="120780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oxid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38"/>
          <p:cNvSpPr/>
          <p:nvPr/>
        </p:nvSpPr>
        <p:spPr>
          <a:xfrm>
            <a:off x="5512320" y="6248520"/>
            <a:ext cx="1191240" cy="429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Bulk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6320" y="11430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number of elements make up &gt;99% of the solid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6"/>
          <p:cNvSpPr/>
          <p:nvPr/>
        </p:nvSpPr>
        <p:spPr>
          <a:xfrm>
            <a:off x="662940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02"/>
          <p:cNvSpPr/>
          <p:nvPr/>
        </p:nvSpPr>
        <p:spPr>
          <a:xfrm>
            <a:off x="76320" y="22096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04"/>
          <p:cNvSpPr/>
          <p:nvPr/>
        </p:nvSpPr>
        <p:spPr>
          <a:xfrm>
            <a:off x="31240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5"/>
          <p:cNvSpPr/>
          <p:nvPr/>
        </p:nvSpPr>
        <p:spPr>
          <a:xfrm>
            <a:off x="1523880" y="38098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6"/>
          <p:cNvSpPr/>
          <p:nvPr/>
        </p:nvSpPr>
        <p:spPr>
          <a:xfrm>
            <a:off x="763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7"/>
          <p:cNvSpPr/>
          <p:nvPr/>
        </p:nvSpPr>
        <p:spPr>
          <a:xfrm>
            <a:off x="7162920" y="32767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8"/>
          <p:cNvSpPr/>
          <p:nvPr/>
        </p:nvSpPr>
        <p:spPr>
          <a:xfrm>
            <a:off x="1295280" y="1676520"/>
            <a:ext cx="25909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= 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 = 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= alumi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=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9"/>
          <p:cNvSpPr/>
          <p:nvPr/>
        </p:nvSpPr>
        <p:spPr>
          <a:xfrm>
            <a:off x="3962520" y="187632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sulf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 = 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 =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= 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odic Table: the C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0880" y="946080"/>
            <a:ext cx="8077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ust is a little more elementally interesting (again, as a result of differentiation), but it is still mainly made of a small number of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1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1371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9051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1371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362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8954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8954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9051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362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352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886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3352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43434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48769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48769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886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0"/>
          <p:cNvSpPr/>
          <p:nvPr/>
        </p:nvSpPr>
        <p:spPr>
          <a:xfrm>
            <a:off x="43434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100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9436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54100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64008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69343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6"/>
          <p:cNvSpPr/>
          <p:nvPr/>
        </p:nvSpPr>
        <p:spPr>
          <a:xfrm>
            <a:off x="69343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7"/>
          <p:cNvSpPr/>
          <p:nvPr/>
        </p:nvSpPr>
        <p:spPr>
          <a:xfrm>
            <a:off x="59436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64008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8610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7924680" y="5943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86104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845820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739152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7391520" y="5943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7924680" y="6400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8458200" y="6400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8153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8"/>
          <p:cNvSpPr/>
          <p:nvPr/>
        </p:nvSpPr>
        <p:spPr>
          <a:xfrm>
            <a:off x="8153280" y="47242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9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40"/>
          <p:cNvSpPr/>
          <p:nvPr/>
        </p:nvSpPr>
        <p:spPr>
          <a:xfrm>
            <a:off x="76201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7162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7162920" y="47242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56386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6386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51055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6"/>
          <p:cNvSpPr/>
          <p:nvPr/>
        </p:nvSpPr>
        <p:spPr>
          <a:xfrm>
            <a:off x="51055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7"/>
          <p:cNvSpPr/>
          <p:nvPr/>
        </p:nvSpPr>
        <p:spPr>
          <a:xfrm>
            <a:off x="4648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4648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9"/>
          <p:cNvSpPr/>
          <p:nvPr/>
        </p:nvSpPr>
        <p:spPr>
          <a:xfrm>
            <a:off x="41148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0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1"/>
          <p:cNvSpPr/>
          <p:nvPr/>
        </p:nvSpPr>
        <p:spPr>
          <a:xfrm>
            <a:off x="3581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35812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3"/>
          <p:cNvSpPr/>
          <p:nvPr/>
        </p:nvSpPr>
        <p:spPr>
          <a:xfrm>
            <a:off x="31240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4"/>
          <p:cNvSpPr/>
          <p:nvPr/>
        </p:nvSpPr>
        <p:spPr>
          <a:xfrm>
            <a:off x="31240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"/>
          <p:cNvSpPr/>
          <p:nvPr/>
        </p:nvSpPr>
        <p:spPr>
          <a:xfrm>
            <a:off x="25909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6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7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8"/>
          <p:cNvSpPr/>
          <p:nvPr/>
        </p:nvSpPr>
        <p:spPr>
          <a:xfrm>
            <a:off x="21337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9"/>
          <p:cNvSpPr/>
          <p:nvPr/>
        </p:nvSpPr>
        <p:spPr>
          <a:xfrm>
            <a:off x="16002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0"/>
          <p:cNvSpPr/>
          <p:nvPr/>
        </p:nvSpPr>
        <p:spPr>
          <a:xfrm>
            <a:off x="160020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76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2"/>
          <p:cNvSpPr/>
          <p:nvPr/>
        </p:nvSpPr>
        <p:spPr>
          <a:xfrm>
            <a:off x="76320" y="52578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63"/>
          <p:cNvSpPr/>
          <p:nvPr/>
        </p:nvSpPr>
        <p:spPr>
          <a:xfrm>
            <a:off x="6094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64"/>
          <p:cNvSpPr/>
          <p:nvPr/>
        </p:nvSpPr>
        <p:spPr>
          <a:xfrm>
            <a:off x="609480" y="52578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65"/>
          <p:cNvSpPr/>
          <p:nvPr/>
        </p:nvSpPr>
        <p:spPr>
          <a:xfrm>
            <a:off x="205740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6"/>
          <p:cNvSpPr/>
          <p:nvPr/>
        </p:nvSpPr>
        <p:spPr>
          <a:xfrm>
            <a:off x="2057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7"/>
          <p:cNvSpPr/>
          <p:nvPr/>
        </p:nvSpPr>
        <p:spPr>
          <a:xfrm>
            <a:off x="2590920" y="38098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8"/>
          <p:cNvSpPr/>
          <p:nvPr/>
        </p:nvSpPr>
        <p:spPr>
          <a:xfrm>
            <a:off x="25909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9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35812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71"/>
          <p:cNvSpPr/>
          <p:nvPr/>
        </p:nvSpPr>
        <p:spPr>
          <a:xfrm>
            <a:off x="41148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2"/>
          <p:cNvSpPr/>
          <p:nvPr/>
        </p:nvSpPr>
        <p:spPr>
          <a:xfrm>
            <a:off x="4648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74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5"/>
          <p:cNvSpPr/>
          <p:nvPr/>
        </p:nvSpPr>
        <p:spPr>
          <a:xfrm>
            <a:off x="60958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6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7"/>
          <p:cNvSpPr/>
          <p:nvPr/>
        </p:nvSpPr>
        <p:spPr>
          <a:xfrm>
            <a:off x="51055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8"/>
          <p:cNvSpPr/>
          <p:nvPr/>
        </p:nvSpPr>
        <p:spPr>
          <a:xfrm>
            <a:off x="5638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9"/>
          <p:cNvSpPr/>
          <p:nvPr/>
        </p:nvSpPr>
        <p:spPr>
          <a:xfrm>
            <a:off x="51055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80"/>
          <p:cNvSpPr/>
          <p:nvPr/>
        </p:nvSpPr>
        <p:spPr>
          <a:xfrm>
            <a:off x="5638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1"/>
          <p:cNvSpPr/>
          <p:nvPr/>
        </p:nvSpPr>
        <p:spPr>
          <a:xfrm>
            <a:off x="60958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2"/>
          <p:cNvSpPr/>
          <p:nvPr/>
        </p:nvSpPr>
        <p:spPr>
          <a:xfrm>
            <a:off x="66294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3"/>
          <p:cNvSpPr/>
          <p:nvPr/>
        </p:nvSpPr>
        <p:spPr>
          <a:xfrm>
            <a:off x="70866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4"/>
          <p:cNvSpPr/>
          <p:nvPr/>
        </p:nvSpPr>
        <p:spPr>
          <a:xfrm>
            <a:off x="76201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85"/>
          <p:cNvSpPr/>
          <p:nvPr/>
        </p:nvSpPr>
        <p:spPr>
          <a:xfrm>
            <a:off x="8077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86"/>
          <p:cNvSpPr/>
          <p:nvPr/>
        </p:nvSpPr>
        <p:spPr>
          <a:xfrm>
            <a:off x="86104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7"/>
          <p:cNvSpPr/>
          <p:nvPr/>
        </p:nvSpPr>
        <p:spPr>
          <a:xfrm>
            <a:off x="81532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8"/>
          <p:cNvSpPr/>
          <p:nvPr/>
        </p:nvSpPr>
        <p:spPr>
          <a:xfrm>
            <a:off x="8610480" y="32767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9"/>
          <p:cNvSpPr/>
          <p:nvPr/>
        </p:nvSpPr>
        <p:spPr>
          <a:xfrm>
            <a:off x="10666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0"/>
          <p:cNvSpPr/>
          <p:nvPr/>
        </p:nvSpPr>
        <p:spPr>
          <a:xfrm>
            <a:off x="160020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1"/>
          <p:cNvSpPr/>
          <p:nvPr/>
        </p:nvSpPr>
        <p:spPr>
          <a:xfrm>
            <a:off x="76320" y="4267080"/>
            <a:ext cx="3808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2"/>
          <p:cNvSpPr/>
          <p:nvPr/>
        </p:nvSpPr>
        <p:spPr>
          <a:xfrm>
            <a:off x="609480" y="4267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93"/>
          <p:cNvSpPr/>
          <p:nvPr/>
        </p:nvSpPr>
        <p:spPr>
          <a:xfrm>
            <a:off x="763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94"/>
          <p:cNvSpPr/>
          <p:nvPr/>
        </p:nvSpPr>
        <p:spPr>
          <a:xfrm>
            <a:off x="609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95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7"/>
          <p:cNvSpPr/>
          <p:nvPr/>
        </p:nvSpPr>
        <p:spPr>
          <a:xfrm>
            <a:off x="86104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8"/>
          <p:cNvSpPr/>
          <p:nvPr/>
        </p:nvSpPr>
        <p:spPr>
          <a:xfrm>
            <a:off x="8610480" y="2286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9"/>
          <p:cNvSpPr/>
          <p:nvPr/>
        </p:nvSpPr>
        <p:spPr>
          <a:xfrm>
            <a:off x="8153280" y="2743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0"/>
          <p:cNvSpPr/>
          <p:nvPr/>
        </p:nvSpPr>
        <p:spPr>
          <a:xfrm>
            <a:off x="411480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01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03"/>
          <p:cNvSpPr/>
          <p:nvPr/>
        </p:nvSpPr>
        <p:spPr>
          <a:xfrm>
            <a:off x="7162920" y="2743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6"/>
          <p:cNvSpPr/>
          <p:nvPr/>
        </p:nvSpPr>
        <p:spPr>
          <a:xfrm>
            <a:off x="4648320" y="37339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8"/>
          <p:cNvSpPr/>
          <p:nvPr/>
        </p:nvSpPr>
        <p:spPr>
          <a:xfrm>
            <a:off x="6248520" y="4800600"/>
            <a:ext cx="26668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carb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= phospho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 = potass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 = titani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n = mangane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Weight: It’s all in the Nucle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0" y="762120"/>
            <a:ext cx="9144000" cy="203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lectrons weigh virtually nothing, the mass of an atom is concentrated in its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tom can be described by its atomic weight (or mas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the sum of the protons and neut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1"/>
          <p:cNvPicPr/>
          <p:nvPr/>
        </p:nvPicPr>
        <p:blipFill>
          <a:blip r:embed="rId1"/>
          <a:stretch/>
        </p:blipFill>
        <p:spPr>
          <a:xfrm>
            <a:off x="76320" y="4068720"/>
            <a:ext cx="2895480" cy="2865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7"/>
          <p:cNvSpPr/>
          <p:nvPr/>
        </p:nvSpPr>
        <p:spPr>
          <a:xfrm>
            <a:off x="0" y="2803680"/>
            <a:ext cx="34290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i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eu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weight = 3 + 4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7162920" y="62485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962520" y="3124080"/>
            <a:ext cx="51051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...  although each element has a defined number of prot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is not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the same atomic number but variable numbers of neutrons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2666880" y="1905120"/>
            <a:ext cx="3581640" cy="1981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838080" y="4191120"/>
            <a:ext cx="7391520" cy="21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tomic # 50) has ten natural isotopes with atomic masses of 112, 114, 115, 116, 117, 118, 119, 120, 122 and 124. How many protons and neutrons do these isotopes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0"/>
          <p:cNvSpPr/>
          <p:nvPr/>
        </p:nvSpPr>
        <p:spPr>
          <a:xfrm>
            <a:off x="4419720" y="5562720"/>
            <a:ext cx="99036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e or Stab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7924680" y="6004080"/>
            <a:ext cx="1219320" cy="853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1"/>
          <p:cNvPicPr/>
          <p:nvPr/>
        </p:nvPicPr>
        <p:blipFill>
          <a:blip r:embed="rId2"/>
          <a:stretch/>
        </p:blipFill>
        <p:spPr>
          <a:xfrm>
            <a:off x="0" y="6004080"/>
            <a:ext cx="1219320" cy="853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334120" y="2133720"/>
            <a:ext cx="1295280" cy="4572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57200" y="762120"/>
            <a:ext cx="815328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ity is a nuclear phenomenon: it comes as a result of a particular structure in a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active atom is consider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ll unstable atoms emit radioactivity (usually by ejecting nuclear particles) in order to reach a stable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proc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dioactive dec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which we will talk on 6/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all atoms will be radioactive, just a small proportion of isotopes with unstable nucle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isotopes ar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on-radio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666880" y="1905120"/>
            <a:ext cx="3581640" cy="2133360"/>
          </a:xfrm>
          <a:prstGeom prst="rect">
            <a:avLst/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le and Radioactiv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80880" y="822240"/>
            <a:ext cx="838224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(atomic # 6) has three natural isoto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tomic weights of 12, 13 and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895480" y="19684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=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609480" y="4191120"/>
            <a:ext cx="8001000" cy="24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 is a radioactive isotope; C-12 and C-13 are s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 the proportion of C-12/C-14 and C-13/C-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increase until there is no C-1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less some process makes new C-14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973600" y="3429000"/>
            <a:ext cx="309312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2209680" y="1752480"/>
            <a:ext cx="46483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uff That Makes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771480"/>
            <a:ext cx="86868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one can subdivide atoms into numer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will be concerned only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, neutrons and elect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re together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 atom, whereas electrons are in motion in or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ound the central nucle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carry a positive electrical charge, electrons carry a negative charge, and neutrons carry no char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ons work to keep nuclei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oactivity Insid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57200" y="974880"/>
            <a:ext cx="8153280" cy="47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ed about radioactivity in natu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keep things in perspective, consider that 0.01% of all potassium is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s an essential element in the human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r body is about 1% K, this means a 70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pound) person contains a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’s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ion tr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adioactive K-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5" descr="radwar1"/>
          <p:cNvPicPr/>
          <p:nvPr/>
        </p:nvPicPr>
        <p:blipFill>
          <a:blip r:embed="rId1"/>
          <a:stretch/>
        </p:blipFill>
        <p:spPr>
          <a:xfrm>
            <a:off x="0" y="53370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radwar1"/>
          <p:cNvPicPr/>
          <p:nvPr/>
        </p:nvPicPr>
        <p:blipFill>
          <a:blip r:embed="rId2"/>
          <a:stretch/>
        </p:blipFill>
        <p:spPr>
          <a:xfrm>
            <a:off x="7391520" y="5337000"/>
            <a:ext cx="1752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04920" y="4648320"/>
            <a:ext cx="137160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724280" y="762120"/>
            <a:ext cx="266724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962520" y="380988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52280" y="685800"/>
            <a:ext cx="87631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typical consequence of  chemical reactions  is the formation of chemical bonds between atoms and complex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bonds form is based on the electronic configuration of the atom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near-full (halogens) and near-empty (alkalis/alkali earths) outer electron shells, as well as transition metals, may form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ic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valen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 are where atoms share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lk of minerals are dominantly ionically bonded. However, many minerals have bonds with some co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ionic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676520" y="7632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ic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52280" y="1752480"/>
            <a:ext cx="312444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satisfy themselves by the give and take of outer 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inerals are held together by primarily ionic b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266760" y="-457200"/>
            <a:ext cx="8572320" cy="71629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-15264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valent Bonds: Electron Sh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762120" y="5737320"/>
            <a:ext cx="7543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bon atoms are held together by sharing outer-shell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3962520" y="4267080"/>
            <a:ext cx="30456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13716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13716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38862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0"/>
          <p:cNvSpPr/>
          <p:nvPr/>
        </p:nvSpPr>
        <p:spPr>
          <a:xfrm>
            <a:off x="6400800" y="182880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4008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"/>
          <p:cNvSpPr/>
          <p:nvPr/>
        </p:nvSpPr>
        <p:spPr>
          <a:xfrm>
            <a:off x="6400800" y="4267080"/>
            <a:ext cx="380880" cy="38124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3"/>
          <p:cNvSpPr/>
          <p:nvPr/>
        </p:nvSpPr>
        <p:spPr>
          <a:xfrm>
            <a:off x="3886200" y="3048120"/>
            <a:ext cx="380880" cy="380880"/>
          </a:xfrm>
          <a:prstGeom prst="rect">
            <a:avLst/>
          </a:prstGeom>
          <a:solidFill>
            <a:srgbClr val="ff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Bo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838080" y="1295280"/>
            <a:ext cx="7543800" cy="47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inerals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llic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re a form of covalent b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otable weak kind of bond is call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 der Waals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sentially an ionic b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minerals we will see that these bonds are responsible for the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properties of some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mical Reactions: Achieving 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17" descr="dump"/>
          <p:cNvPicPr/>
          <p:nvPr/>
        </p:nvPicPr>
        <p:blipFill>
          <a:blip r:embed="rId1"/>
          <a:stretch/>
        </p:blipFill>
        <p:spPr>
          <a:xfrm>
            <a:off x="0" y="528948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8"/>
          <p:cNvSpPr/>
          <p:nvPr/>
        </p:nvSpPr>
        <p:spPr>
          <a:xfrm>
            <a:off x="5181480" y="5638680"/>
            <a:ext cx="99072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228600" y="762120"/>
            <a:ext cx="876312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take place in order to achieve a more stable state (lower total energy) under given conditions (pressure, temperatu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 reactants react to form stable produ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on’t get confused: we’re not talking about nuclear instability here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icate this, the transition from unstable mineral to stable mineral is not necessarily automati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hemical reactions re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eat deal of  ener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un to comple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0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Miner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5" descr="xtl"/>
          <p:cNvPicPr/>
          <p:nvPr/>
        </p:nvPicPr>
        <p:blipFill>
          <a:blip r:embed="rId1"/>
          <a:stretch/>
        </p:blipFill>
        <p:spPr>
          <a:xfrm>
            <a:off x="0" y="4464000"/>
            <a:ext cx="3657600" cy="239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xtl"/>
          <p:cNvPicPr/>
          <p:nvPr/>
        </p:nvPicPr>
        <p:blipFill>
          <a:blip r:embed="rId2"/>
          <a:stretch/>
        </p:blipFill>
        <p:spPr>
          <a:xfrm>
            <a:off x="5486400" y="4427640"/>
            <a:ext cx="3657600" cy="243036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7"/>
          <p:cNvSpPr/>
          <p:nvPr/>
        </p:nvSpPr>
        <p:spPr>
          <a:xfrm>
            <a:off x="2666880" y="1905120"/>
            <a:ext cx="3353040" cy="53316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362320" y="1143000"/>
            <a:ext cx="525780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rganic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chemica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ryst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89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physic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457200" y="838080"/>
            <a:ext cx="82296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ophisticated furnaces and presses, we have investigated what chemical compounds (minerals) are stable at given pressures and temper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w achieving pressures of the Earth’s c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xperiments it is clear that most of the rocks exposed at the Earth’s surface today are not stable at these low temperatures/pressures. The minerals that are the most stable at the Earth’s surface are largely clay minera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y are we not adrift in a sea of m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dump"/>
          <p:cNvPicPr/>
          <p:nvPr/>
        </p:nvPicPr>
        <p:blipFill>
          <a:blip r:embed="rId1"/>
          <a:stretch/>
        </p:blipFill>
        <p:spPr>
          <a:xfrm>
            <a:off x="0" y="5425920"/>
            <a:ext cx="1600200" cy="1432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EA Fig"/>
          <p:cNvPicPr/>
          <p:nvPr/>
        </p:nvPicPr>
        <p:blipFill>
          <a:blip r:embed="rId2"/>
          <a:srcRect l="0" t="17916" r="0" b="5038"/>
          <a:stretch/>
        </p:blipFill>
        <p:spPr>
          <a:xfrm>
            <a:off x="7748640" y="5257800"/>
            <a:ext cx="1395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6248520" y="1295280"/>
            <a:ext cx="1752480" cy="457200"/>
          </a:xfrm>
          <a:prstGeom prst="rect">
            <a:avLst/>
          </a:prstGeom>
          <a:solidFill>
            <a:srgbClr val="ff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bility and Meta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533520" y="762120"/>
            <a:ext cx="8229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persist in an environment in which they are not chemically stable are said to be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a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minerals in the rocks at the Earth’s surface are metastable. Given enough energy (or enough time and the right conditions) they will react to form stable min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6"/>
          <p:cNvGraphicFramePr/>
          <p:nvPr/>
        </p:nvGraphicFramePr>
        <p:xfrm>
          <a:off x="2286000" y="3382920"/>
          <a:ext cx="433080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82920"/>
                    <a:ext cx="433080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Line 10"/>
          <p:cNvSpPr/>
          <p:nvPr/>
        </p:nvSpPr>
        <p:spPr>
          <a:xfrm flipV="1">
            <a:off x="2438280" y="5181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3581280" y="66294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3" descr="EA Fig"/>
          <p:cNvPicPr/>
          <p:nvPr/>
        </p:nvPicPr>
        <p:blipFill>
          <a:blip r:embed="rId3"/>
          <a:srcRect l="0" t="17916" r="0" b="5038"/>
          <a:stretch/>
        </p:blipFill>
        <p:spPr>
          <a:xfrm>
            <a:off x="6629400" y="434340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5" descr="dump"/>
          <p:cNvPicPr/>
          <p:nvPr/>
        </p:nvPicPr>
        <p:blipFill>
          <a:blip r:embed="rId4"/>
          <a:stretch/>
        </p:blipFill>
        <p:spPr>
          <a:xfrm>
            <a:off x="6629400" y="3124080"/>
            <a:ext cx="1752480" cy="1171800"/>
          </a:xfrm>
          <a:prstGeom prst="rect">
            <a:avLst/>
          </a:prstGeom>
          <a:ln w="0">
            <a:noFill/>
          </a:ln>
        </p:spPr>
      </p:pic>
      <p:sp>
        <p:nvSpPr>
          <p:cNvPr id="407" name="Oval 16"/>
          <p:cNvSpPr/>
          <p:nvPr/>
        </p:nvSpPr>
        <p:spPr>
          <a:xfrm>
            <a:off x="2698920" y="60930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1936800" y="6321240"/>
            <a:ext cx="685800" cy="2286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231120" y="62164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’s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320" y="78840"/>
            <a:ext cx="90676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3520" y="1298520"/>
            <a:ext cx="86104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mages in this presentation fro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Rakovan, Miami Univ., O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shak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rth: Portrait of a Pla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st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mmer, McGeary and Carlso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 Ge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8th 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B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element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06768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Neutr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8600" y="936720"/>
            <a:ext cx="86868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atoms are electrically neutral, meaning that they have an equal number of 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05520" y="2362320"/>
            <a:ext cx="3809880" cy="416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chematic model of a lithium (Li) atom in the ground st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3 protons in the nucleus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electrons in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e will get to the numb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eutr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1"/>
          <p:cNvPicPr/>
          <p:nvPr/>
        </p:nvPicPr>
        <p:blipFill>
          <a:blip r:embed="rId1"/>
          <a:stretch/>
        </p:blipFill>
        <p:spPr>
          <a:xfrm>
            <a:off x="1440" y="2184480"/>
            <a:ext cx="4722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35"/>
          <p:cNvSpPr/>
          <p:nvPr/>
        </p:nvSpPr>
        <p:spPr>
          <a:xfrm>
            <a:off x="6629400" y="4191120"/>
            <a:ext cx="18288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4"/>
          <p:cNvSpPr/>
          <p:nvPr/>
        </p:nvSpPr>
        <p:spPr>
          <a:xfrm>
            <a:off x="5562720" y="3276720"/>
            <a:ext cx="12952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and Nuclear Prope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27"/>
          <p:cNvSpPr/>
          <p:nvPr/>
        </p:nvSpPr>
        <p:spPr>
          <a:xfrm>
            <a:off x="609480" y="1295280"/>
            <a:ext cx="8001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atoms reflect some combination of features related to electrons or to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are those related to how atoms connect to one another:  bo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 include features like  radio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2" descr="1"/>
          <p:cNvPicPr/>
          <p:nvPr/>
        </p:nvPicPr>
        <p:blipFill>
          <a:blip r:embed="rId1"/>
          <a:stretch/>
        </p:blipFill>
        <p:spPr>
          <a:xfrm>
            <a:off x="7010280" y="4740120"/>
            <a:ext cx="2133720" cy="2117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1"/>
          <p:cNvPicPr/>
          <p:nvPr/>
        </p:nvPicPr>
        <p:blipFill>
          <a:blip r:embed="rId2"/>
          <a:stretch/>
        </p:blipFill>
        <p:spPr>
          <a:xfrm>
            <a:off x="0" y="4740120"/>
            <a:ext cx="21337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533520" y="-236520"/>
            <a:ext cx="8167680" cy="7018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ze of Nucl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52280" y="2666880"/>
            <a:ext cx="89154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neutrons tends to closely follow the number of protons. Atoms with more of each are bigger and heav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4120" y="5775480"/>
            <a:ext cx="38098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ranium atom, with 92 protons and ~146 neutrons is gigantic compared to dinky helium (2 +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3520" y="757080"/>
            <a:ext cx="8305560" cy="11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cosms of our solar system, atoms are dominantly empty sp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715000" y="3289320"/>
            <a:ext cx="304812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oxygen atom had a total radius of 100 km, the nucleus would be a ~1 m diameter sphere in the mid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pacious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26" descr=""/>
          <p:cNvPicPr/>
          <p:nvPr/>
        </p:nvPicPr>
        <p:blipFill>
          <a:blip r:embed="rId1"/>
          <a:stretch/>
        </p:blipFill>
        <p:spPr>
          <a:xfrm>
            <a:off x="0" y="1143000"/>
            <a:ext cx="8001000" cy="594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27"/>
          <p:cNvSpPr/>
          <p:nvPr/>
        </p:nvSpPr>
        <p:spPr>
          <a:xfrm>
            <a:off x="533520" y="717480"/>
            <a:ext cx="8305560" cy="11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simplistic model, electrons float around the nucleus in orbits that are sometimes called shel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8"/>
          <p:cNvSpPr/>
          <p:nvPr/>
        </p:nvSpPr>
        <p:spPr>
          <a:xfrm>
            <a:off x="5715000" y="2590920"/>
            <a:ext cx="3200400" cy="40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umber of electrons increases, they start to fill orbits farther out from the nucle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ases, electrons are lost or gained only from the outermost or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4038480" y="1828800"/>
            <a:ext cx="3505320" cy="4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n or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s in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2"/>
          <p:cNvSpPr/>
          <p:nvPr/>
        </p:nvSpPr>
        <p:spPr>
          <a:xfrm>
            <a:off x="1600200" y="4419720"/>
            <a:ext cx="2743200" cy="457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ged Atoms: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646128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6629400" y="4419720"/>
            <a:ext cx="838080" cy="45720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6320" y="898560"/>
            <a:ext cx="8915400" cy="58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to their own devices, atoms are electrically neu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eans that they have an equal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course of most natural even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re not gained or lost, but electrons may 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with more or fewer electrons than proton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charged. They are called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loses electrons takes on a positive charge (cation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tom that gains electrons takes on a negative charge (an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cations and anions can also occur: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69960"/>
            <a:ext cx="9144000" cy="27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stinguish one element from another on the basis of the atomic number, which is the numbe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an atom of any element can have a variable number of electrons and neutrons, but given the number of protons, the fundamental properties of the element are unchan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0" y="3429000"/>
            <a:ext cx="6705720" cy="34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basis for Dmitri Mendeleev’s organiz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Table of the Elem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ble is a way of organizing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hysical gro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serves to group elements with consistent chemical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1"/>
          <p:cNvPicPr/>
          <p:nvPr/>
        </p:nvPicPr>
        <p:blipFill>
          <a:blip r:embed="rId1"/>
          <a:stretch/>
        </p:blipFill>
        <p:spPr>
          <a:xfrm>
            <a:off x="6400800" y="4929120"/>
            <a:ext cx="2743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9T18:06:59Z</dcterms:created>
  <dc:creator>Isotope Geochemistry Lab</dc:creator>
  <dc:description/>
  <dc:language>en-US</dc:language>
  <cp:lastModifiedBy>RomaK</cp:lastModifiedBy>
  <dcterms:modified xsi:type="dcterms:W3CDTF">2015-09-01T16:17:48Z</dcterms:modified>
  <cp:revision>260</cp:revision>
  <dc:subject/>
  <dc:title>atomic structure</dc:title>
</cp:coreProperties>
</file>