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14.jpeg" ContentType="image/jpe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47CD-1FF6-47C3-AF64-79EDEB3E10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3B9-2E63-416C-B6C1-CCB2E476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F5F-2848-4227-8675-BA56C654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348-63AB-4E86-9485-C639AC39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081-C929-4E0A-A176-EC5B8E31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6D9-3682-4CE0-ABB4-F1709B45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8BA-AFE7-43AC-ADCE-C24D1698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47A-A86E-4BE4-8954-D1AF483B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5F6-CDA4-4F56-82F0-4049794C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812-0AC4-4DEE-A51C-003B7188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BDA-447A-42BE-9847-FB2E030D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79C-38D5-4B6B-B67E-2B2DF08D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A35-663F-4167-9ACC-A01E9B2B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BD61-3614-4E09-832B-73A79517A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rakovan1"/>
          <p:cNvPicPr/>
          <p:nvPr/>
        </p:nvPicPr>
        <p:blipFill>
          <a:blip r:embed="rId1"/>
          <a:stretch/>
        </p:blipFill>
        <p:spPr>
          <a:xfrm>
            <a:off x="0" y="2112840"/>
            <a:ext cx="6934320" cy="520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3657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343400" y="76320"/>
            <a:ext cx="4724280" cy="22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is made up of ato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of atoms dictate their properties. How atoms combine dictate what we see in the ma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n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02920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chnologies allow us to peer ever closer at the minute structures of minerals, down to the scale of individual ato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320" y="914400"/>
            <a:ext cx="8915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ic table is read from top to bottom, left to right, as atomic number increases: 1=H, 2=He, 3=Li, 4=Be, 5=B, 6=C, and so 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075"/>
          <p:cNvSpPr/>
          <p:nvPr/>
        </p:nvSpPr>
        <p:spPr>
          <a:xfrm>
            <a:off x="3962520" y="31680"/>
            <a:ext cx="4724280" cy="17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um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oups) have simi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-electron configur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tend to behave simil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076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4038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77"/>
          <p:cNvSpPr/>
          <p:nvPr/>
        </p:nvSpPr>
        <p:spPr>
          <a:xfrm rot="16297200">
            <a:off x="-181440" y="4982040"/>
            <a:ext cx="91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078"/>
          <p:cNvSpPr/>
          <p:nvPr/>
        </p:nvSpPr>
        <p:spPr>
          <a:xfrm>
            <a:off x="609480" y="990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079"/>
          <p:cNvSpPr/>
          <p:nvPr/>
        </p:nvSpPr>
        <p:spPr>
          <a:xfrm>
            <a:off x="0" y="5638680"/>
            <a:ext cx="914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080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081"/>
          <p:cNvSpPr/>
          <p:nvPr/>
        </p:nvSpPr>
        <p:spPr>
          <a:xfrm>
            <a:off x="7467480" y="601992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082"/>
          <p:cNvSpPr/>
          <p:nvPr/>
        </p:nvSpPr>
        <p:spPr>
          <a:xfrm>
            <a:off x="2286000" y="22096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84"/>
          <p:cNvSpPr/>
          <p:nvPr/>
        </p:nvSpPr>
        <p:spPr>
          <a:xfrm flipV="1">
            <a:off x="990720" y="5867280"/>
            <a:ext cx="380880" cy="6098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085"/>
          <p:cNvSpPr/>
          <p:nvPr/>
        </p:nvSpPr>
        <p:spPr>
          <a:xfrm>
            <a:off x="990720" y="6477120"/>
            <a:ext cx="457200" cy="228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86"/>
          <p:cNvSpPr/>
          <p:nvPr/>
        </p:nvSpPr>
        <p:spPr>
          <a:xfrm>
            <a:off x="1447920" y="646128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083"/>
          <p:cNvSpPr/>
          <p:nvPr/>
        </p:nvSpPr>
        <p:spPr>
          <a:xfrm flipV="1">
            <a:off x="762120" y="5105520"/>
            <a:ext cx="533160" cy="7617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87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088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89"/>
          <p:cNvSpPr/>
          <p:nvPr/>
        </p:nvSpPr>
        <p:spPr>
          <a:xfrm flipV="1">
            <a:off x="8991720" y="426708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1066680" y="4800600"/>
            <a:ext cx="7848720" cy="162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will form the same kinds of ions all the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ll the alkalis form +1 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halogens form -1 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4038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ation S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 rot="16297200">
            <a:off x="-181440" y="5058000"/>
            <a:ext cx="9144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5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6" descr="1"/>
          <p:cNvPicPr/>
          <p:nvPr/>
        </p:nvPicPr>
        <p:blipFill>
          <a:blip r:embed="rId1"/>
          <a:stretch/>
        </p:blipFill>
        <p:spPr>
          <a:xfrm>
            <a:off x="0" y="76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6248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ized and Reduc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152280" y="4267080"/>
            <a:ext cx="8915400" cy="254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ransition metal cation with a higher charge is more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xidiz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f lower charge. That comes from the fact that materials 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oportions of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m in enviro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oxygen is abunda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is also true, and we call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4"/>
          <p:cNvSpPr/>
          <p:nvPr/>
        </p:nvSpPr>
        <p:spPr>
          <a:xfrm>
            <a:off x="2209680" y="1143000"/>
            <a:ext cx="2133720" cy="398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33"/>
          <p:cNvSpPr/>
          <p:nvPr/>
        </p:nvSpPr>
        <p:spPr>
          <a:xfrm>
            <a:off x="1066680" y="3200400"/>
            <a:ext cx="7848720" cy="135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metals are more electronically compl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form ions of various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ron (Fe) is found as +2 and +3 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37"/>
          <p:cNvSpPr/>
          <p:nvPr/>
        </p:nvSpPr>
        <p:spPr>
          <a:xfrm>
            <a:off x="6868440" y="4602240"/>
            <a:ext cx="1207800" cy="42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oxid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38"/>
          <p:cNvSpPr/>
          <p:nvPr/>
        </p:nvSpPr>
        <p:spPr>
          <a:xfrm>
            <a:off x="5512320" y="6248520"/>
            <a:ext cx="1191240" cy="429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Bulk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320" y="1143000"/>
            <a:ext cx="891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number of elements make up &gt;99% of the solid Ea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6"/>
          <p:cNvSpPr/>
          <p:nvPr/>
        </p:nvSpPr>
        <p:spPr>
          <a:xfrm>
            <a:off x="662940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2"/>
          <p:cNvSpPr/>
          <p:nvPr/>
        </p:nvSpPr>
        <p:spPr>
          <a:xfrm>
            <a:off x="76320" y="22096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4"/>
          <p:cNvSpPr/>
          <p:nvPr/>
        </p:nvSpPr>
        <p:spPr>
          <a:xfrm>
            <a:off x="31240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5"/>
          <p:cNvSpPr/>
          <p:nvPr/>
        </p:nvSpPr>
        <p:spPr>
          <a:xfrm>
            <a:off x="15238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6"/>
          <p:cNvSpPr/>
          <p:nvPr/>
        </p:nvSpPr>
        <p:spPr>
          <a:xfrm>
            <a:off x="763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7"/>
          <p:cNvSpPr/>
          <p:nvPr/>
        </p:nvSpPr>
        <p:spPr>
          <a:xfrm>
            <a:off x="7162920" y="32767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8"/>
          <p:cNvSpPr/>
          <p:nvPr/>
        </p:nvSpPr>
        <p:spPr>
          <a:xfrm>
            <a:off x="1295280" y="1676520"/>
            <a:ext cx="25909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= 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 = 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= alumi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= sil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9"/>
          <p:cNvSpPr/>
          <p:nvPr/>
        </p:nvSpPr>
        <p:spPr>
          <a:xfrm>
            <a:off x="3962520" y="1876320"/>
            <a:ext cx="1981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sulf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=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 =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= nic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C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0880" y="946080"/>
            <a:ext cx="8077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ust is a little more elementally interesting (again, as a result of differentiation), but it is still mainly made of a small number of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6"/>
          <p:cNvSpPr/>
          <p:nvPr/>
        </p:nvSpPr>
        <p:spPr>
          <a:xfrm>
            <a:off x="4648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8"/>
          <p:cNvSpPr/>
          <p:nvPr/>
        </p:nvSpPr>
        <p:spPr>
          <a:xfrm>
            <a:off x="6248520" y="4800600"/>
            <a:ext cx="2666880" cy="17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carb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 = phosphor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 = potass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 = titan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 = mangane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Weight: It’s all in the 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0" y="762120"/>
            <a:ext cx="9144000" cy="20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lectrons weigh virtually nothing, the mass of an atom is concentrated in its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tom can be described by its atomic weight (or mas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 sum of the protons and neu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1"/>
          <p:cNvPicPr/>
          <p:nvPr/>
        </p:nvPicPr>
        <p:blipFill>
          <a:blip r:embed="rId1"/>
          <a:stretch/>
        </p:blipFill>
        <p:spPr>
          <a:xfrm>
            <a:off x="76320" y="4068720"/>
            <a:ext cx="2895480" cy="2865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7"/>
          <p:cNvSpPr/>
          <p:nvPr/>
        </p:nvSpPr>
        <p:spPr>
          <a:xfrm>
            <a:off x="0" y="2803680"/>
            <a:ext cx="34290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weight = 3 + 4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7162920" y="62485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962520" y="3124080"/>
            <a:ext cx="5105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...  although each element has a defined number of prot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is not fi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the same atomic number but variable numbers of neutrons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2666880" y="1905120"/>
            <a:ext cx="3581640" cy="198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838080" y="4191120"/>
            <a:ext cx="739152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tomic # 50) has ten natural isotopes with atomic masses of 112, 114, 115, 116, 117, 118, 119, 120, 122 and 124. How many protons and neutrons do these isotopes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"/>
          <p:cNvSpPr/>
          <p:nvPr/>
        </p:nvSpPr>
        <p:spPr>
          <a:xfrm>
            <a:off x="4419720" y="5562720"/>
            <a:ext cx="99036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e or St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6" descr="1"/>
          <p:cNvPicPr/>
          <p:nvPr/>
        </p:nvPicPr>
        <p:blipFill>
          <a:blip r:embed="rId1"/>
          <a:stretch/>
        </p:blipFill>
        <p:spPr>
          <a:xfrm>
            <a:off x="7924680" y="6004080"/>
            <a:ext cx="1219320" cy="85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1"/>
          <p:cNvPicPr/>
          <p:nvPr/>
        </p:nvPicPr>
        <p:blipFill>
          <a:blip r:embed="rId2"/>
          <a:stretch/>
        </p:blipFill>
        <p:spPr>
          <a:xfrm>
            <a:off x="0" y="6004080"/>
            <a:ext cx="1219320" cy="8539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5334120" y="2133720"/>
            <a:ext cx="1295280" cy="45720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57200" y="762120"/>
            <a:ext cx="815328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activity is a nuclear phenomenon: it comes as a result of a particular structure in a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dioactive atom is consider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ll unstable atoms emit radioactivity (usually by ejecting nuclear particles) in order to reach a stable configu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ces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oactive dec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which we will talk on 6/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not all atoms will be radioactive, just a small proportion of isotopes with unstable nucle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isotopes ar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non-radio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666880" y="1905120"/>
            <a:ext cx="3581640" cy="21333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le and Radioactive 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609480" y="4191120"/>
            <a:ext cx="8001000" cy="243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 is a radioactive isotope; C-12 and C-13 are s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 the proportion of C-12/C-14 and C-13/C-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rease until there is no C-1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less some process makes new C-14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973600" y="3429000"/>
            <a:ext cx="30931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209680" y="1752480"/>
            <a:ext cx="46483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uff That Makes A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771480"/>
            <a:ext cx="86868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one can subdivide atoms into numer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will be concerned only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, neutrons and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re together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 atom, whereas electrons are in motion in or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the central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carry a positive electrical charge, electrons carry a negative charge, and neutrons carry no char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s work to keep nuclei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ity Insid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57200" y="974880"/>
            <a:ext cx="8153280" cy="47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ed about radioactivity in natu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eep things in perspective, consider that 0.01% of all potassium is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is an essential element in the human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body is about 1% K, this means a 70 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0 pound) person contains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at’s 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ion tril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5" descr="radwar1"/>
          <p:cNvPicPr/>
          <p:nvPr/>
        </p:nvPicPr>
        <p:blipFill>
          <a:blip r:embed="rId1"/>
          <a:stretch/>
        </p:blipFill>
        <p:spPr>
          <a:xfrm>
            <a:off x="0" y="53370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radwar1"/>
          <p:cNvPicPr/>
          <p:nvPr/>
        </p:nvPicPr>
        <p:blipFill>
          <a:blip r:embed="rId2"/>
          <a:stretch/>
        </p:blipFill>
        <p:spPr>
          <a:xfrm>
            <a:off x="7391520" y="5337000"/>
            <a:ext cx="1752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04920" y="46483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724280" y="762120"/>
            <a:ext cx="266724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962520" y="380988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52280" y="685800"/>
            <a:ext cx="87631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ypical consequence of  chemical reactions  is the formation of chemical bonds between atoms and complex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bonds form is based on the electronic configuration of the atoms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near-full (halogens) and near-empty (alkalis/alkali earths) outer electron shells, as well as transition metals, may form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ic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valen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 are where atoms share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minerals are dominantly ionically bonded. However, many minerals have bonds with some co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ionic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676520" y="76320"/>
            <a:ext cx="8001000" cy="6172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onic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152280" y="1752480"/>
            <a:ext cx="31244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satisfy themselves by the give and take of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inerals are held together by primarily ionic 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266760" y="-457200"/>
            <a:ext cx="8572320" cy="71629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alent Bonds: Electron Sh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762120" y="5737320"/>
            <a:ext cx="7543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bon atoms are held together by sharing outer-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13716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13716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38862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0"/>
          <p:cNvSpPr/>
          <p:nvPr/>
        </p:nvSpPr>
        <p:spPr>
          <a:xfrm>
            <a:off x="64008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4008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"/>
          <p:cNvSpPr/>
          <p:nvPr/>
        </p:nvSpPr>
        <p:spPr>
          <a:xfrm>
            <a:off x="64008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3"/>
          <p:cNvSpPr/>
          <p:nvPr/>
        </p:nvSpPr>
        <p:spPr>
          <a:xfrm>
            <a:off x="38862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838080" y="1295280"/>
            <a:ext cx="7543800" cy="47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inerals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llic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re a form of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otable weak kind of bond is call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n der Waals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sentially an ionic b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talk about minerals we will see that these bonds are responsible for the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properties of some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Reactions: Achieving 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17" descr="dump"/>
          <p:cNvPicPr/>
          <p:nvPr/>
        </p:nvPicPr>
        <p:blipFill>
          <a:blip r:embed="rId1"/>
          <a:stretch/>
        </p:blipFill>
        <p:spPr>
          <a:xfrm>
            <a:off x="0" y="5289480"/>
            <a:ext cx="1752480" cy="15685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8"/>
          <p:cNvSpPr/>
          <p:nvPr/>
        </p:nvSpPr>
        <p:spPr>
          <a:xfrm>
            <a:off x="5181480" y="5638680"/>
            <a:ext cx="9907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228600" y="762120"/>
            <a:ext cx="876312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reactions take place in order to achieve a more stable state (lower total energy) under given conditions (pressure, temperatur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 reactants react to form stable produ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on’t get confused: we’re not talking about nuclear instability here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icate this, the transition from unstable mineral to stable mineral is not necessarily automat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emical reactions req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eat deal of 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un to comple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0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Miner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5" descr="xtl"/>
          <p:cNvPicPr/>
          <p:nvPr/>
        </p:nvPicPr>
        <p:blipFill>
          <a:blip r:embed="rId1"/>
          <a:stretch/>
        </p:blipFill>
        <p:spPr>
          <a:xfrm>
            <a:off x="0" y="4464000"/>
            <a:ext cx="3657600" cy="2394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xtl"/>
          <p:cNvPicPr/>
          <p:nvPr/>
        </p:nvPicPr>
        <p:blipFill>
          <a:blip r:embed="rId2"/>
          <a:stretch/>
        </p:blipFill>
        <p:spPr>
          <a:xfrm>
            <a:off x="5486400" y="4427640"/>
            <a:ext cx="3657600" cy="24303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7"/>
          <p:cNvSpPr/>
          <p:nvPr/>
        </p:nvSpPr>
        <p:spPr>
          <a:xfrm>
            <a:off x="2666880" y="1905120"/>
            <a:ext cx="3353040" cy="533160"/>
          </a:xfrm>
          <a:prstGeom prst="rect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362320" y="1143000"/>
            <a:ext cx="525780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ly occu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rganic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chemical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ryst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physic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457200" y="838080"/>
            <a:ext cx="822960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ophisticated furnaces and presses, we have investigated what chemical compounds (minerals) are stable at given pressures and temper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w achieving pressures of the Earth’s co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y are we not adrift in a sea of m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5" descr="dump"/>
          <p:cNvPicPr/>
          <p:nvPr/>
        </p:nvPicPr>
        <p:blipFill>
          <a:blip r:embed="rId1"/>
          <a:stretch/>
        </p:blipFill>
        <p:spPr>
          <a:xfrm>
            <a:off x="0" y="5425920"/>
            <a:ext cx="1600200" cy="1432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2"/>
          <p:cNvSpPr/>
          <p:nvPr/>
        </p:nvSpPr>
        <p:spPr>
          <a:xfrm>
            <a:off x="6248520" y="1295280"/>
            <a:ext cx="1752480" cy="457200"/>
          </a:xfrm>
          <a:prstGeom prst="rect">
            <a:avLst/>
          </a:pr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 and Meta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533520" y="762120"/>
            <a:ext cx="8229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that persist in an environment in which they are not chemically stable are said to b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6"/>
          <p:cNvGraphicFramePr/>
          <p:nvPr/>
        </p:nvGraphicFramePr>
        <p:xfrm>
          <a:off x="2286000" y="3382920"/>
          <a:ext cx="4330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82920"/>
                    <a:ext cx="4330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Line 10"/>
          <p:cNvSpPr/>
          <p:nvPr/>
        </p:nvSpPr>
        <p:spPr>
          <a:xfrm flipV="1">
            <a:off x="2438280" y="5181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3581280" y="66294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3" descr="EA Fig"/>
          <p:cNvPicPr/>
          <p:nvPr/>
        </p:nvPicPr>
        <p:blipFill>
          <a:blip r:embed="rId3"/>
          <a:srcRect l="0" t="17916" r="0" b="5038"/>
          <a:stretch/>
        </p:blipFill>
        <p:spPr>
          <a:xfrm>
            <a:off x="6629400" y="4343400"/>
            <a:ext cx="1595520" cy="1828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5" descr="dump"/>
          <p:cNvPicPr/>
          <p:nvPr/>
        </p:nvPicPr>
        <p:blipFill>
          <a:blip r:embed="rId4"/>
          <a:stretch/>
        </p:blipFill>
        <p:spPr>
          <a:xfrm>
            <a:off x="6629400" y="3124080"/>
            <a:ext cx="1752480" cy="1171800"/>
          </a:xfrm>
          <a:prstGeom prst="rect">
            <a:avLst/>
          </a:prstGeom>
          <a:ln w="0">
            <a:noFill/>
          </a:ln>
        </p:spPr>
      </p:pic>
      <p:sp>
        <p:nvSpPr>
          <p:cNvPr id="407" name="Oval 16"/>
          <p:cNvSpPr/>
          <p:nvPr/>
        </p:nvSpPr>
        <p:spPr>
          <a:xfrm>
            <a:off x="2698920" y="6093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1936800" y="6321240"/>
            <a:ext cx="685800" cy="2286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231120" y="62164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320" y="7884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3520" y="1298520"/>
            <a:ext cx="86104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mages in this presentation fro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Rakovan, Miami Univ., O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k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rth: Portrait of a Pla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st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mmer, McGeary and Carlso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Ge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th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B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element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Neutr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8600" y="936720"/>
            <a:ext cx="8686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05520" y="2362320"/>
            <a:ext cx="3809880" cy="416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ematic model of a lithium (Li) atom in the ground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3 protons in the nucleu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lectrons in or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 will get to the numb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neutr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1"/>
          <p:cNvPicPr/>
          <p:nvPr/>
        </p:nvPicPr>
        <p:blipFill>
          <a:blip r:embed="rId1"/>
          <a:stretch/>
        </p:blipFill>
        <p:spPr>
          <a:xfrm>
            <a:off x="1440" y="2184480"/>
            <a:ext cx="4722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35"/>
          <p:cNvSpPr/>
          <p:nvPr/>
        </p:nvSpPr>
        <p:spPr>
          <a:xfrm>
            <a:off x="6629400" y="4191120"/>
            <a:ext cx="18288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34"/>
          <p:cNvSpPr/>
          <p:nvPr/>
        </p:nvSpPr>
        <p:spPr>
          <a:xfrm>
            <a:off x="5562720" y="3276720"/>
            <a:ext cx="12952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and Nuclear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27"/>
          <p:cNvSpPr/>
          <p:nvPr/>
        </p:nvSpPr>
        <p:spPr>
          <a:xfrm>
            <a:off x="609480" y="1295280"/>
            <a:ext cx="8001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atoms reflect some combination of features related to electrons or to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are those related to how atoms connect to one another:  bo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include features like  radio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2" descr="1"/>
          <p:cNvPicPr/>
          <p:nvPr/>
        </p:nvPicPr>
        <p:blipFill>
          <a:blip r:embed="rId1"/>
          <a:stretch/>
        </p:blipFill>
        <p:spPr>
          <a:xfrm>
            <a:off x="7010280" y="4740120"/>
            <a:ext cx="2133720" cy="211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1"/>
          <p:cNvPicPr/>
          <p:nvPr/>
        </p:nvPicPr>
        <p:blipFill>
          <a:blip r:embed="rId2"/>
          <a:stretch/>
        </p:blipFill>
        <p:spPr>
          <a:xfrm>
            <a:off x="0" y="4740120"/>
            <a:ext cx="21337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"/>
          <p:cNvPicPr/>
          <p:nvPr/>
        </p:nvPicPr>
        <p:blipFill>
          <a:blip r:embed="rId1"/>
          <a:stretch/>
        </p:blipFill>
        <p:spPr>
          <a:xfrm>
            <a:off x="533520" y="-236520"/>
            <a:ext cx="8167680" cy="7018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ze of Nucl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52280" y="2666880"/>
            <a:ext cx="89154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tends to closely follow the number of protons. Atoms with more of each are bigger and heav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4120" y="5775480"/>
            <a:ext cx="38098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ranium atom, with 92 protons and ~146 neutrons is gigantic compared to dinky helium (2 +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3520" y="757080"/>
            <a:ext cx="8305560" cy="11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cosms of our solar system, atoms are dominantly empty sp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715000" y="3289320"/>
            <a:ext cx="304812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oxygen atom had a total radius of 100 km, the nucleus would be a ~1 m diameter sphere in the mid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acious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2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27"/>
          <p:cNvSpPr/>
          <p:nvPr/>
        </p:nvSpPr>
        <p:spPr>
          <a:xfrm>
            <a:off x="533520" y="717480"/>
            <a:ext cx="830556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implistic model, electrons float around the nucleus in orbits that are sometimes called sh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28"/>
          <p:cNvSpPr/>
          <p:nvPr/>
        </p:nvSpPr>
        <p:spPr>
          <a:xfrm>
            <a:off x="5715000" y="2590920"/>
            <a:ext cx="3200400" cy="404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number of electrons increases, they start to fill orbits farther out from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ases, electrons are lost or gained only from the outermost or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s in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2"/>
          <p:cNvSpPr/>
          <p:nvPr/>
        </p:nvSpPr>
        <p:spPr>
          <a:xfrm>
            <a:off x="1600200" y="4419720"/>
            <a:ext cx="27432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d Atoms: 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6629400" y="441972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6320" y="898560"/>
            <a:ext cx="891540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to their own devices, atoms are electrically neu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eans that they have an equal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course of most natural eve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re not gained or lost, but electrons may b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more or fewer electrons than proton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charged. They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loses electrons takes on a positive charge (cation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gains electrons takes on a negative charge (an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cations and anions can also occur: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669960"/>
            <a:ext cx="9144000" cy="27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stinguish one element from another on the basis of the atomic number, which is the numb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0" y="3429000"/>
            <a:ext cx="6705720" cy="342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basis for Dmitri Mendeleev’s organiz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Table of the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ble is a way of organizing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hysical groun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serves to group elements with consistent chemical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1"/>
          <p:cNvPicPr/>
          <p:nvPr/>
        </p:nvPicPr>
        <p:blipFill>
          <a:blip r:embed="rId1"/>
          <a:stretch/>
        </p:blipFill>
        <p:spPr>
          <a:xfrm>
            <a:off x="6400800" y="4929120"/>
            <a:ext cx="2743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18:06:59Z</dcterms:created>
  <dc:creator>Isotope Geochemistry Lab</dc:creator>
  <dc:description/>
  <dc:language>en-US</dc:language>
  <cp:lastModifiedBy>RomaK</cp:lastModifiedBy>
  <dcterms:modified xsi:type="dcterms:W3CDTF">2015-09-01T16:17:48Z</dcterms:modified>
  <cp:revision>260</cp:revision>
  <dc:subject/>
  <dc:title>atomic structure</dc:title>
</cp:coreProperties>
</file>