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C727-FB41-4D17-A6CB-66160789E2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loud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clouds for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How do clouds form?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ud in contact with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FOG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loud in contact with the ground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IMBO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and puffy clouds that usually mean good we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ite and puffy clouds that usually mean good weather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ONIMB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IRR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58B-E1B8-4E99-9C6E-AAD8C472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B16-54A5-46D6-9429-4BD92E83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7A3-80E7-4019-9D0F-189601CD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82B-09FB-448D-B9AC-9854718E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CF9B-B9C4-464B-BC7D-DEC89FD4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B60B-62F6-428F-A6F0-CA2F860A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7A19-7F04-4BAF-93AF-32AC9B7C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181D-CA65-469A-933E-2A0DBEDE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748F-A614-4DB8-95F5-AA9AD6EF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A87C-65E3-492B-968D-281CE476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439A-F860-413D-8691-4C8C1270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E8E-B28B-4E39-9BC4-87FC80C9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9FA0-E712-4C53-BDA5-C55F572E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6620-3F4C-4882-9531-B64B25C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EC33-96E3-406E-B120-2B5FC2F6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9F34-D806-48D2-9555-28A4300D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EFBB-57EA-4191-94C0-117A3713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860-FDCF-4ED0-AFB5-9E4C2080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981-962C-41D9-B94C-CACEAA80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2CE-3A7B-4412-A5F7-417417CB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CBD-506A-4CFD-8CC7-C32ACF32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C15-A7CE-4C0E-AF1F-AC7B9445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06D-ED57-4AAC-BD7B-43FB1D80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24B-6654-4BBB-A016-1BDFCF8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6030-4ED7-49B0-8BAE-2BC9AD872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BE1F-7B1B-439F-BE50-0B7BC978427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loud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0" y="2286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When water vapor in the air becomes liquid water or ice crystals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304920" y="990720"/>
            <a:ext cx="86104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45472"/>
                </a:solidFill>
                <a:latin typeface="Times New Roman"/>
              </a:rPr>
              <a:t>How do clouds form?</a:t>
            </a:r>
            <a:endParaRPr b="0" lang="en-US" sz="7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Picture 1028" descr="\\coam4100g112-01\software$\office2k\Disk2\PFiles\MSOffice\Clipart\WebArt\na01875_.gif"/>
          <p:cNvPicPr/>
          <p:nvPr/>
        </p:nvPicPr>
        <p:blipFill>
          <a:blip r:embed="rId1"/>
          <a:stretch/>
        </p:blipFill>
        <p:spPr>
          <a:xfrm>
            <a:off x="2590920" y="3733920"/>
            <a:ext cx="39621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9144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FOG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2590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A cloud in contact with the ground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Picture 5" descr="http://thomashawk.com/hello/305309/1024/Mendocino%20Morning%20Fog-2005.06.12-20.02.58.jpg"/>
          <p:cNvPicPr/>
          <p:nvPr/>
        </p:nvPicPr>
        <p:blipFill>
          <a:blip r:embed="rId1"/>
          <a:stretch/>
        </p:blipFill>
        <p:spPr>
          <a:xfrm>
            <a:off x="990720" y="3505320"/>
            <a:ext cx="70102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STRAT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Sheets of low, grey clouds that bring light snow, rain, or drizzle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2" name="Picture 9" descr="http://ww2010.atmos.uiuc.edu/guides/mtr/cld/cldtyp/lw/gifs/strcu.gif"/>
          <p:cNvPicPr/>
          <p:nvPr/>
        </p:nvPicPr>
        <p:blipFill>
          <a:blip r:embed="rId1"/>
          <a:stretch/>
        </p:blipFill>
        <p:spPr>
          <a:xfrm>
            <a:off x="838080" y="3429000"/>
            <a:ext cx="76201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838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545472"/>
                </a:solidFill>
                <a:latin typeface="Times New Roman"/>
              </a:rPr>
              <a:t>NIMBOSTRATUS</a:t>
            </a:r>
            <a:endParaRPr b="0" lang="en-US" sz="9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2209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Thicker layer than stratus clouds that completely block out the sun.  They cause </a:t>
            </a:r>
            <a:r>
              <a:rPr b="0" lang="en-US" sz="4000" spc="-1" strike="noStrike" u="sng">
                <a:solidFill>
                  <a:srgbClr val="545472"/>
                </a:solidFill>
                <a:uFillTx/>
                <a:latin typeface="Times New Roman"/>
              </a:rPr>
              <a:t>steady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rain or snow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Picture 7" descr="http://ww2010.atmos.uiuc.edu/guides/mtr/cld/cldtyp/lw/gifs/nbstr.gif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UMUL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21337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45472"/>
                </a:solidFill>
                <a:latin typeface="Times New Roman"/>
              </a:rPr>
              <a:t>White and puffy clouds that usually mean good weather.</a:t>
            </a:r>
            <a:endParaRPr b="0" lang="en-US" sz="4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Picture 7" descr="http://ww2010.atmos.uiuc.edu/guides/mtr/cld/cldtyp/vrt/gifs/frcu1.gif"/>
          <p:cNvPicPr/>
          <p:nvPr/>
        </p:nvPicPr>
        <p:blipFill>
          <a:blip r:embed="rId1"/>
          <a:stretch/>
        </p:blipFill>
        <p:spPr>
          <a:xfrm>
            <a:off x="914400" y="3505320"/>
            <a:ext cx="74674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914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CUMULONIMBUS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2133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Dark, towering clouds that are also called “thunderheads”.  These clouds produce heavy rain, thunder, and lighting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1" name="Picture 5" descr="http://tm.ask.com/r?t=c&amp;s=p&amp;sv=0a300511&amp;uid=074FD61C08F9F3434&amp;sid=19A0471C08F9F3434&amp;o=0&amp;id=30751&amp;p=%2Ffr&amp;u=http%3A%2F%2Fwww.capetownskies.com%2F8834%2F10_cumulonimbusc.jpg"/>
          <p:cNvPicPr/>
          <p:nvPr/>
        </p:nvPicPr>
        <p:blipFill>
          <a:blip r:embed="rId1"/>
          <a:stretch/>
        </p:blipFill>
        <p:spPr>
          <a:xfrm>
            <a:off x="838080" y="4038480"/>
            <a:ext cx="73915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IRR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236232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imes New Roman"/>
              </a:rPr>
              <a:t>Thin, featherlike clouds that are made of ice crystals high in the atmosphere.  Usually means a change in the weather is coming.</a:t>
            </a: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4" name="Picture 7" descr="http://ww2010.atmos.uiuc.edu/guides/mtr/cld/cldtyp/hgh/gifs/crs2.gif"/>
          <p:cNvPicPr/>
          <p:nvPr/>
        </p:nvPicPr>
        <p:blipFill>
          <a:blip r:embed="rId1"/>
          <a:stretch/>
        </p:blipFill>
        <p:spPr>
          <a:xfrm>
            <a:off x="685800" y="4038480"/>
            <a:ext cx="8001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5:22:35Z</dcterms:created>
  <dc:creator>abrown</dc:creator>
  <dc:description/>
  <dc:language>en-US</dc:language>
  <cp:lastModifiedBy>RomaK</cp:lastModifiedBy>
  <dcterms:modified xsi:type="dcterms:W3CDTF">2015-09-04T09:41:12Z</dcterms:modified>
  <cp:revision>15</cp:revision>
  <dc:subject/>
  <dc:title>PowerPoint Presentation</dc:title>
</cp:coreProperties>
</file>