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5526-7B17-4B85-9E0E-E398D2AE46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loud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clouds for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How do clouds form?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ud in contact with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FOG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loud in contact with the ground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IMBO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and puffy clouds that usually mean good we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ite and puffy clouds that usually mean good weather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ONIMB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IRR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057-81F1-4E6C-AED6-931FF49A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049-F4AD-4BA6-AADC-1A137EF7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B71-8897-4E4F-A8F7-E4BF6A63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910-CDBB-49AD-AF83-995B770D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5E4F-7A40-4978-AF62-27A42F62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B8FB-9B00-402F-B23C-F76D16C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DDB9-67F4-4820-9C4A-C14B23E5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9FB6-6A81-491B-BBAF-033E523A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AB3A-676F-447F-BEA1-CA6B3FAA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AAC7-13F8-43FA-A738-EE624ED9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F500-FB91-4E5D-A82D-C4200FA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2A7-3CDC-4D99-B332-F6E6A3AD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F2D0-53F0-4EE1-8342-F6BC0F80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C36E-36EF-4B06-B602-C524CC6D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E7C6-7B40-41BB-8D4E-5AB1F903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08D0-55C0-423E-91B9-A00F0C44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7422-4AB5-449F-BE7C-D17F9C59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DD9-18CB-4DE6-88FB-566E8C6C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A4A-E5CA-4E77-9ADA-5C0ACB04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811-9DBF-4EA9-8431-D32EF5F2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647-98A9-42B0-8682-6AF1B935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A58-5DA1-4C0A-B058-E2EC200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D29-32F3-47BE-8F4E-528C39D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513-3CB6-4C54-B0A3-6EE00824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4499-D201-4FC8-8146-79AC48069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63B6-4ECF-4026-9641-A33F92214CF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loud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When water vapor in the air becomes liquid water or ice crystals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304920" y="990720"/>
            <a:ext cx="86104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45472"/>
                </a:solidFill>
                <a:latin typeface="Times New Roman"/>
              </a:rPr>
              <a:t>How do clouds form?</a:t>
            </a:r>
            <a:endParaRPr b="0" lang="en-US" sz="7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Picture 1028" descr="\\coam4100g112-01\software$\office2k\Disk2\PFiles\MSOffice\Clipart\WebArt\na01875_.gif"/>
          <p:cNvPicPr/>
          <p:nvPr/>
        </p:nvPicPr>
        <p:blipFill>
          <a:blip r:embed="rId1"/>
          <a:stretch/>
        </p:blipFill>
        <p:spPr>
          <a:xfrm>
            <a:off x="2590920" y="3733920"/>
            <a:ext cx="39621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9144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FOG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2590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A cloud in contact with the ground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Picture 5" descr="http://thomashawk.com/hello/305309/1024/Mendocino%20Morning%20Fog-2005.06.12-20.02.58.jpg"/>
          <p:cNvPicPr/>
          <p:nvPr/>
        </p:nvPicPr>
        <p:blipFill>
          <a:blip r:embed="rId1"/>
          <a:stretch/>
        </p:blipFill>
        <p:spPr>
          <a:xfrm>
            <a:off x="990720" y="3505320"/>
            <a:ext cx="7010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STRAT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Sheets of low, grey clouds that bring light snow, rain, or drizzle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2" name="Picture 9" descr="http://ww2010.atmos.uiuc.edu/guides/mtr/cld/cldtyp/lw/gifs/strcu.gif"/>
          <p:cNvPicPr/>
          <p:nvPr/>
        </p:nvPicPr>
        <p:blipFill>
          <a:blip r:embed="rId1"/>
          <a:stretch/>
        </p:blipFill>
        <p:spPr>
          <a:xfrm>
            <a:off x="838080" y="3429000"/>
            <a:ext cx="76201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545472"/>
                </a:solidFill>
                <a:latin typeface="Times New Roman"/>
              </a:rPr>
              <a:t>NIMBOSTRATUS</a:t>
            </a:r>
            <a:endParaRPr b="0" lang="en-US" sz="9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2209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Thicker layer than stratus clouds that completely block out the sun.  They cause </a:t>
            </a:r>
            <a:r>
              <a:rPr b="0" lang="en-US" sz="4000" spc="-1" strike="noStrike" u="sng">
                <a:solidFill>
                  <a:srgbClr val="545472"/>
                </a:solidFill>
                <a:uFillTx/>
                <a:latin typeface="Times New Roman"/>
              </a:rPr>
              <a:t>steady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rain or snow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7" descr="http://ww2010.atmos.uiuc.edu/guides/mtr/cld/cldtyp/lw/gifs/nbstr.gif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UMUL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21337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45472"/>
                </a:solidFill>
                <a:latin typeface="Times New Roman"/>
              </a:rPr>
              <a:t>White and puffy clouds that usually mean good weather.</a:t>
            </a:r>
            <a:endParaRPr b="0" lang="en-US" sz="4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Picture 7" descr="http://ww2010.atmos.uiuc.edu/guides/mtr/cld/cldtyp/vrt/gifs/frcu1.gif"/>
          <p:cNvPicPr/>
          <p:nvPr/>
        </p:nvPicPr>
        <p:blipFill>
          <a:blip r:embed="rId1"/>
          <a:stretch/>
        </p:blipFill>
        <p:spPr>
          <a:xfrm>
            <a:off x="914400" y="3505320"/>
            <a:ext cx="74674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914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CUMULONIMBUS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2133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ark, towering clouds that are also called “thunderheads”.  These clouds produce heavy rain, thunder, and lighting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Picture 5" descr="http://tm.ask.com/r?t=c&amp;s=p&amp;sv=0a300511&amp;uid=074FD61C08F9F3434&amp;sid=19A0471C08F9F3434&amp;o=0&amp;id=30751&amp;p=%2Ffr&amp;u=http%3A%2F%2Fwww.capetownskies.com%2F8834%2F10_cumulonimbusc.jpg"/>
          <p:cNvPicPr/>
          <p:nvPr/>
        </p:nvPicPr>
        <p:blipFill>
          <a:blip r:embed="rId1"/>
          <a:stretch/>
        </p:blipFill>
        <p:spPr>
          <a:xfrm>
            <a:off x="838080" y="4038480"/>
            <a:ext cx="739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IRR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36232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imes New Roman"/>
              </a:rPr>
              <a:t>Thin, featherlike clouds that are made of ice crystals high in the atmosphere.  Usually means a change in the weather is coming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Picture 7" descr="http://ww2010.atmos.uiuc.edu/guides/mtr/cld/cldtyp/hgh/gifs/crs2.gif"/>
          <p:cNvPicPr/>
          <p:nvPr/>
        </p:nvPicPr>
        <p:blipFill>
          <a:blip r:embed="rId1"/>
          <a:stretch/>
        </p:blipFill>
        <p:spPr>
          <a:xfrm>
            <a:off x="685800" y="40384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5:22:35Z</dcterms:created>
  <dc:creator>abrown</dc:creator>
  <dc:description/>
  <dc:language>en-US</dc:language>
  <cp:lastModifiedBy>RomaK</cp:lastModifiedBy>
  <dcterms:modified xsi:type="dcterms:W3CDTF">2015-09-04T09:41:12Z</dcterms:modified>
  <cp:revision>15</cp:revision>
  <dc:subject/>
  <dc:title>PowerPoint Presentation</dc:title>
</cp:coreProperties>
</file>